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80B5-CB38-47C0-83BD-FEAAC81D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D64C-9AA8-4244-87D0-0E3338F3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A93-A072-4450-A649-9682DD28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193E-BD90-4079-8583-0129A672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44F5-4C27-44CE-B5D3-CE4E2B0B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6A64-915C-4C8B-8C0F-1CF4E71F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7312-7684-41CA-A990-D33B9FE6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3CA3-A564-465E-8ED1-17F5EFA4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EC0C-5A50-4F23-B514-53D1FC2B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5193-59ED-4AAA-9C03-46933F7B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A34E-0799-4938-8B50-C3380E6E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ADF2-53D4-4B73-98A2-CD6309E9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081A-C978-43B6-BBBB-9F2C089E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D161-2DDD-4134-9527-C6212111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7E3C-90DA-4A03-B570-5C02D48E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A88C-7239-479E-89B1-E49B993B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3088-C833-49B2-A3CC-6860CDD8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3C9B-2980-4C2C-B74C-62DB7921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3044-0120-422C-AD65-71117EF3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96E4-845D-4ED8-B736-77EDB94B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5738-D8B2-4100-93E4-650BD213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A6B3-1BC1-4DF3-9DDA-F1116850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3C23-F3D8-453B-8653-E5D09865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2AF3-04F4-40B6-8B64-E4026F76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4843-8FA5-4541-B4E0-87ABFFAC3301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6843-6443-4B03-ADF3-DB2B454E459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szholop@vati.hu" TargetMode="External"/><Relationship Id="rId2" Type="http://schemas.openxmlformats.org/officeDocument/2006/relationships/hyperlink" Target="http://www.hu-sk.cbc.eu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 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5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29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e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-sk.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0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1-25T18:45:50Z</dcterms:modified>
  <cp:revision>30</cp:revision>
  <dc:subject/>
  <dc:title>1. dia</dc:title>
</cp:coreProperties>
</file>