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A758-E038-4F64-B0C9-0CF3E10A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66E4-F4E9-417C-889F-AFFAF5AB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779C-E6AD-414D-9F95-BB6ED1DE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818-F211-422F-B5D9-3319EBC5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BDF3-5720-4C1B-B560-90C7F440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4431-8D4B-44B1-88EA-5D4C5C50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48C4-7102-4780-8505-33570B62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36DC-E3A4-4CB8-805E-3461F1EC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438D-6A0B-4E03-A2D2-CAC3DD08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3ED1-7B7F-4547-9D16-58A2588F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A308-C093-423F-AC9E-09947B49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5A8-1573-473B-AFFA-74213863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A2C8-B3AF-4854-B05F-AA458D23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BA37-0A14-42E3-9CF8-A2C87E38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8DA6-9B20-4668-ADE2-128430D1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15F0-6B41-47B6-938D-37FC0ABE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4B15-9879-47A1-8081-121CC777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7E2C-617F-4543-8785-88BCFF06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0C40-FD20-40E7-BE0E-52A5D7AA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279-A45B-4F45-AE78-EDEFF25B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D7B-696B-48A7-8FE6-1E3853F6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484-3BE0-43AD-8548-D232741D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7DB-C1DA-46A8-AE86-BF3B4023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7350-967F-44EA-BD07-632A29C4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C13D-3E41-4240-B9B9-A9E667772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6FA5-9EFC-496E-B7B9-A9FF9F0F4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6. Győ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DaxlinePro-Regular"/>
              </a:rPr>
              <a:t>Elvárásai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For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gy Vezető Partner és egy 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Szak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innovatív projek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sélyegyenlőségi feltételek teljesítése (min.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fenntartható fejlődés feltételeinek teljesítése (min.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Előfeltétel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reális, fenntartható partnerség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kölcsönös biz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megfelelő kommunikáci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jóváhagyott projekt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előkészítési költségei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</a:t>
            </a:r>
            <a:r>
              <a:rPr b="0" i="1" lang="hu-HU" sz="2000" spc="-1" strike="noStrike">
                <a:solidFill>
                  <a:srgbClr val="cc0000"/>
                </a:solidFill>
                <a:latin typeface="DaxlinePro-Regular"/>
              </a:rPr>
              <a:t>projekt partnerenként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a teljes elszámolható költség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 (megval.tan, tervdok., engedélyezés, közbesz., fordítás, KH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jogosult területen kívül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megvalósítandó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tevékeny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költsége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a meg a projekt elszámolható összköltségének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megvásárolt föld csak akkor szerepelhet az elszámolható költségek között, ha nem haladja meg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teljes elszámolható költségek 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rezsikölt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projektenként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személyi jellegű ráfordítások 25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DaxlinePro-Regular"/>
              </a:rPr>
              <a:t>Vezető Partner nyilatkoza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(a nyomtatvány elérhető magyar VP-nek magyarul, szlovák VP-nek szlovákul) - nyomtatva, törvényes képviselő által aláírva és lepecsételv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cc0000"/>
                </a:solidFill>
                <a:latin typeface="DaxlinePro-Regular"/>
              </a:rPr>
              <a:t>Partnerségi nyilatkozat</a:t>
            </a: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 (az összes támogatásban részesülő partner törvényes képviselője által aláírva)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nyomtatva, törvényes képviselő által aláírva és lepecsétel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1. melléklet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Amennyiben a partnerek az együttműködési kritériumok közül a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„Közös fejlesztés”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2. melléklet - A projekt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fenntarthatóságá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3. melléklet - Az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esélyegyenlősége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lyamatá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827440" y="1600200"/>
            <a:ext cx="1257120" cy="5716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ó, a KSZT és a RIP támogatásá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27440" y="32004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 R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7440" y="4343400"/>
            <a:ext cx="1257120" cy="4572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/vagy külső szakértő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7440" y="50292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6240" y="17146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 kidolgoz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924280"/>
            <a:ext cx="20574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 benyújtása/befogad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3573360"/>
            <a:ext cx="2057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ormai és jogosultsági ellenőrz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2637000"/>
            <a:ext cx="93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ánypótlás (az értékelési táblában rögzített, előre meghatározott esetekb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27760" y="3314880"/>
            <a:ext cx="800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28040" y="3085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28040" y="1942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399080" y="1943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27840" y="2171880"/>
            <a:ext cx="1208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ismétel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99160" y="2057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99160" y="25146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4840" y="2171880"/>
            <a:ext cx="10555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2040" y="25146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2040" y="20574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56240" y="44578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ok szakmai értékelé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41760" y="2629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41760" y="41148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7760" y="262908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41760" y="265284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27840" y="41148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6240" y="5029200"/>
            <a:ext cx="2743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ok kiválasztása, támogatási dön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27840" y="4800600"/>
            <a:ext cx="144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birikiarianna</cp:lastModifiedBy>
  <dcterms:modified xsi:type="dcterms:W3CDTF">2011-01-25T16:19:38Z</dcterms:modified>
  <cp:revision>52</cp:revision>
  <dc:subject/>
  <dc:title>Info nap 3. pályázati felhívás</dc:title>
</cp:coreProperties>
</file>