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3.wmf" ContentType="image/x-wmf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D867-FAB5-4793-BCA0-058BE2BCE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13A3-9263-40D1-A618-EECA448D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B5B0-62D2-4E8F-9A49-668BECE1A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6282-B496-4ACC-AB57-6E3E01E2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84D7-DF87-4195-A7A7-45546680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792E-B7E6-4FB8-A276-1BF21A85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CCD9-060A-4429-861A-A99CCCEB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DCDE-798A-4F1E-B70D-48ABA03C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EF4A-990E-4A8E-9230-F25A5AC8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1527-3A5A-4905-B573-C5AF346A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A9A3-6184-42AF-A553-F64FE442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D70D-2CE6-4826-B049-F6CC8275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9A74-FD1F-4605-BE46-B43AA23A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65E7-C0B7-4E65-9E78-30F36DDB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6367-3670-4B90-A8F0-4342C986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220A-6814-4E59-B238-BD91D8CF0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B0AF-0087-4C8C-8BA1-9BFA19683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078B-4BBE-4827-B2F6-1D050C99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1523-8F44-4BBC-AE41-638D0BC1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0F25-11D6-42EF-81AD-AC854C37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4496-F367-44AC-B6CE-BFADAB39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2C08-0DDF-408A-8966-E9088B47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3D08-B126-4811-9CE2-A99248EC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6D8D-7400-442C-99F1-41F81497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31A3-956F-4F05-9A5C-4F576057CA69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6831-DCF7-4B3C-90B5-4FBA2E32B266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szholop@vati.hu" TargetMode="External"/><Relationship Id="rId2" Type="http://schemas.openxmlformats.org/officeDocument/2006/relationships/hyperlink" Target="http://www.hu-sk.cbc.eu/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 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harmadik kiírás online felületéne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64304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– 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 – 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iválasztás után megjelenik a PARTNERSHIP képernyő, amely három fület tartalmaz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ás (Identifi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pviselők (Representativ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Üzleti adatok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 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zövegdoboz 7"/>
          <p:cNvSpPr/>
          <p:nvPr/>
        </p:nvSpPr>
        <p:spPr>
          <a:xfrm>
            <a:off x="6357960" y="1643040"/>
            <a:ext cx="264312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6500880" y="16034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ARTNERSHIP\Business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zövegdoboz 7"/>
          <p:cNvSpPr/>
          <p:nvPr/>
        </p:nvSpPr>
        <p:spPr>
          <a:xfrm>
            <a:off x="6000840" y="1285920"/>
            <a:ext cx="3000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/Project management experience of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(utolsó lezárt üzleti é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(helyszín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zövegdoboz 7"/>
          <p:cNvSpPr/>
          <p:nvPr/>
        </p:nvSpPr>
        <p:spPr>
          <a:xfrm>
            <a:off x="5929200" y="1643040"/>
            <a:ext cx="3000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MÓD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Value (érték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escription (leírás)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5715000" y="1643040"/>
            <a:ext cx="321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5372280" cy="2233440"/>
          </a:xfrm>
          <a:prstGeom prst="rect">
            <a:avLst/>
          </a:prstGeom>
          <a:ln w="0">
            <a:noFill/>
          </a:ln>
        </p:spPr>
      </p:pic>
      <p:pic>
        <p:nvPicPr>
          <p:cNvPr id="125" name="Szövegdoboz 6" descr=""/>
          <p:cNvPicPr/>
          <p:nvPr/>
        </p:nvPicPr>
        <p:blipFill>
          <a:blip r:embed="rId2"/>
          <a:stretch/>
        </p:blipFill>
        <p:spPr>
          <a:xfrm>
            <a:off x="133200" y="4206960"/>
            <a:ext cx="891396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142920" y="292896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29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eleváns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várható költsé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zövegdoboz 10"/>
          <p:cNvSpPr/>
          <p:nvPr/>
        </p:nvSpPr>
        <p:spPr>
          <a:xfrm>
            <a:off x="6286680" y="142920"/>
            <a:ext cx="2714400" cy="56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első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só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artner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3 költségvetési fü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Source of co-financing of selecte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észletes partneri költségvetési tábláza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Detailed partner budget 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teljes előrejelzése periódusonkén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otal spending forecast for selected partner per perio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5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zövegdoboz 10"/>
          <p:cNvSpPr/>
          <p:nvPr/>
        </p:nvSpPr>
        <p:spPr>
          <a:xfrm>
            <a:off x="6286680" y="164304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servic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4) 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pment cost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2"/>
          <a:stretch/>
        </p:blipFill>
        <p:spPr>
          <a:xfrm>
            <a:off x="857160" y="3214800"/>
            <a:ext cx="3071880" cy="2068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3"/>
          <a:stretch/>
        </p:blipFill>
        <p:spPr>
          <a:xfrm>
            <a:off x="1214280" y="4143240"/>
            <a:ext cx="4929480" cy="20574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magánjogi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1"/>
          <a:stretch/>
        </p:blipFill>
        <p:spPr>
          <a:xfrm>
            <a:off x="120600" y="1673280"/>
            <a:ext cx="61642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Application (pályázati)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harmadik kiírás pályázatait az IMIR Front Office Application moduljának segítségével kell összeállítani és benyújta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Papír alapon csak - az eredeti aláírásokkal ellátott – függelék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űrlapot nem szükséges kinyomtatni, továbbá az elektronikus formában elérhető függelékek és egyéb támogató dokumentumok példányai is feltölthetőek a Front Office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modul elérhető a honlapunkon a pályázati kiírás oldalán: </a:t>
            </a:r>
            <a:r>
              <a:rPr b="0" lang="sk-SK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zövegdoboz 10"/>
          <p:cNvSpPr/>
          <p:nvPr/>
        </p:nvSpPr>
        <p:spPr>
          <a:xfrm>
            <a:off x="6286680" y="135720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e feledje, hogy a programban a visszafizetés hosszú, kétszintű folyamat, vagyis 4-5 hónap is eltelhet a kifizetett számlák benyújtásától az ellenőrző testületeknek addig, míg az ERFA támogatás összege kifizetésre kerü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1070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zövegdoboz 10"/>
          <p:cNvSpPr/>
          <p:nvPr/>
        </p:nvSpPr>
        <p:spPr>
          <a:xfrm>
            <a:off x="6286680" y="1214280"/>
            <a:ext cx="27144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áblázat a program által meghatározott mutatókat jeleníti me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odify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datory 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ther tools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3197160" cy="3214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2"/>
          <a:stretch/>
        </p:blipFill>
        <p:spPr>
          <a:xfrm>
            <a:off x="3000240" y="3429000"/>
            <a:ext cx="5643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ERM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 (Typ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 (Description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 (Issue dat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 (Valid until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 (ID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65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HECKLI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ANNE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zövegdoboz 10"/>
          <p:cNvSpPr/>
          <p:nvPr/>
        </p:nvSpPr>
        <p:spPr>
          <a:xfrm>
            <a:off x="6215040" y="1643040"/>
            <a:ext cx="27860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áma (Code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íme (Name),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hogy kötelező-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Mandator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vagy sem, és hogy milyen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satornán (Channel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keresztül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gjelölheti, hogy egy adott mellékletet csatolt/elküldött-e, és ha igen, hány példány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TTACH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zövegdoboz 10"/>
          <p:cNvSpPr/>
          <p:nvPr/>
        </p:nvSpPr>
        <p:spPr>
          <a:xfrm>
            <a:off x="5429160" y="1214280"/>
            <a:ext cx="35719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ttachment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142920" y="1611360"/>
            <a:ext cx="5143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e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-sk.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608720" cy="1714320"/>
          </a:xfrm>
          <a:prstGeom prst="rect">
            <a:avLst/>
          </a:prstGeom>
          <a:ln w="0">
            <a:noFill/>
          </a:ln>
        </p:spPr>
      </p:pic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2"/>
          <a:srcRect l="31169" t="41029" r="31278" b="40959"/>
          <a:stretch/>
        </p:blipFill>
        <p:spPr>
          <a:xfrm>
            <a:off x="214200" y="428616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90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de megjegyezhető 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mentésre kerül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zövegdoboz 7"/>
          <p:cNvSpPr/>
          <p:nvPr/>
        </p:nvSpPr>
        <p:spPr>
          <a:xfrm>
            <a:off x="5429160" y="1643040"/>
            <a:ext cx="357192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UBMIT – az ellenőrzött és megfelelően kitöltött pályázato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zövegdoboz 7"/>
          <p:cNvSpPr/>
          <p:nvPr/>
        </p:nvSpPr>
        <p:spPr>
          <a:xfrm>
            <a:off x="5429160" y="1643040"/>
            <a:ext cx="357192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VERVIEW – 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HEETS TO FILL IN – leírhatja és részletezheti a tervezett projektet. A táblázat soraihoz úgynevezett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TTACHMETS – dokumentumok feltöltésére és létrehozására szolgá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zövegdoboz 7"/>
          <p:cNvSpPr/>
          <p:nvPr/>
        </p:nvSpPr>
        <p:spPr>
          <a:xfrm>
            <a:off x="5429160" y="1643040"/>
            <a:ext cx="35719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(Megnéz) - 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az adatok szerkesztését vagy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zövegdoboz 7"/>
          <p:cNvSpPr/>
          <p:nvPr/>
        </p:nvSpPr>
        <p:spPr>
          <a:xfrm>
            <a:off x="5429160" y="1643040"/>
            <a:ext cx="35719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- kifejező, de röv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- &gt;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 – 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 – 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1-25T18:45:50Z</dcterms:modified>
  <cp:revision>30</cp:revision>
  <dc:subject/>
  <dc:title>1. dia</dc:title>
</cp:coreProperties>
</file>