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ADBD-0E82-4188-911E-DC219EB16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6065-438C-4E25-9B2A-1486D0AB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FF32-6A42-4EBA-9BD6-28D7A9DF5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FDE2-A054-44B7-AB62-734DD5EE3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6B8F-8795-434F-A398-90440245C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8D806-5E85-40AC-B8D7-5949E8AD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B6FA-37A9-482E-A09A-9D3F04A6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6635-7B73-4494-9ABC-4DBE8D79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E9F70-A987-4A56-8DD5-F12D0BC0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ECDD-9450-433C-ADE2-2929DB2E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A047-7371-446C-AF13-7DF33AE0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1360-1135-4AB0-8283-8A958AC5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0C3A-7F13-42C0-B2D3-897CDB85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08FF-B8D7-4012-9F69-5E02C793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0FF4-8078-4C19-8D33-70885FF0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F6E2-50D1-4276-A3EA-A688B233B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628E-06A2-450F-9A7D-8636B3F2F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00DD-64D3-4EC1-AE90-44851AAF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A385-0EA0-4DED-8A54-9CA06B15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7186-BE89-4FE3-AC1E-0CB31AF0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8C11-4DFD-452F-A87B-9E577443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0F96-5BFD-46DC-8D92-77DE1216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3E9F-9BA8-48CC-B293-2B14CA82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1D09-B6E6-4F39-BB23-18A9CCFD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6AAD-0A61-4997-89F0-B704939481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575F-4447-454F-9E8C-0042F5DBA4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3rdcallforproposals" TargetMode="External"/><Relationship Id="rId3" Type="http://schemas.openxmlformats.org/officeDocument/2006/relationships/hyperlink" Target="http://www.husk-cbc.eu/3rdcallforproposals" TargetMode="External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DaxlinePro-Regular"/>
              </a:rPr>
              <a:t>Magyarország-Szlovákia Határon Átnyúló Együttműködési Program 2007-2013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INFO NAP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3. pályázati felhív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2011.01.26. Győ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5589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DaxlinePro-Regular"/>
              </a:rPr>
              <a:t>Biriki Aria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DaxlinePro-Regular"/>
              </a:rPr>
              <a:t>A pályázatok benyújtásának módja, hely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2781360"/>
            <a:ext cx="8229600" cy="295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U-SK CBC Program Közös Szakmai Titkársá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VÁTI Nonprofit K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Gellérthegy u. 30-32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-1016 Budapest, Magyarorszá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Pályázati felhívás hivatkozási száma: HUSK/10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341360"/>
            <a:ext cx="82296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DaxlinePro-Regular"/>
              </a:rPr>
              <a:t>IMIR 2007-2013 Front Office Application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2"/>
              </a:rPr>
              <a:t>http</a:t>
            </a: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3"/>
              </a:rPr>
              <a:t>://www.husk-cbc.eu/3rdcallfor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DaxlinePro-Regular"/>
              </a:rPr>
              <a:t>Elvárásain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Forma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egy Vezető Partner és egy 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Szakma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innovatív projekt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esélyegyenlőségi feltételek teljesítése (min.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fenntartható fejlődés feltételeinek teljesítése (min.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Előfeltétel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reális, fenntartható partnerség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kölcsönös bizal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megfelelő kommunikáci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Fon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jóváhagyott projekt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előkészítési költségei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nem haladhatják meg </a:t>
            </a:r>
            <a:r>
              <a:rPr b="0" i="1" lang="hu-HU" sz="2000" spc="-1" strike="noStrike">
                <a:solidFill>
                  <a:srgbClr val="cc0000"/>
                </a:solidFill>
                <a:latin typeface="DaxlinePro-Regular"/>
              </a:rPr>
              <a:t>projekt partnerenként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a teljes elszámolható költség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 (megval.tan, tervdok., engedélyezés, közbesz., fordítás, KH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jogosult területen kívül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megvalósítandó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tevékenységek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költsége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nem haladhatja meg a projekt elszámolható összköltségének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megvásárolt föld csak akkor szerepelhet az elszámolható költségek között, ha nem haladja meg a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teljes elszámolható költségek 10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rezsiköltségek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nem haladhatják meg projektenként a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személyi jellegű ráfordítások 25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Melléklet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DaxlinePro-Regular"/>
              </a:rPr>
              <a:t>nyomtatva, lepecsételve és aláírva</a:t>
            </a: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 beküldendő dokumentumok a következők: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c0000"/>
                </a:solidFill>
                <a:latin typeface="DaxlinePro-Regular"/>
              </a:rPr>
              <a:t>Vezető Partner nyilatkozat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(a nyomtatvány elérhető magyar VP-nek magyarul, szlovák VP-nek szlovákul) - nyomtatva, törvényes képviselő által aláírva és lepecsételv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cc0000"/>
                </a:solidFill>
                <a:latin typeface="DaxlinePro-Regular"/>
              </a:rPr>
              <a:t>Partnerségi nyilatkozat</a:t>
            </a:r>
            <a:r>
              <a:rPr b="0" lang="sk-SK" sz="1600" spc="-1" strike="noStrike">
                <a:solidFill>
                  <a:srgbClr val="000000"/>
                </a:solidFill>
                <a:latin typeface="DaxlinePro-Regular"/>
              </a:rPr>
              <a:t> (az összes támogatásban részesülő partner törvényes képviselője által aláírva) - 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nyomtatva, törvényes képviselő által aláírva és lepecsétel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DaxlinePro-Regular"/>
              </a:rPr>
              <a:t>nyomtatva</a:t>
            </a: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 beküldendő dokumentumok a következők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DaxlinePro-Regular"/>
              </a:rPr>
              <a:t>1. melléklet - 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Amennyiben a partnerek az együttműködési kritériumok közül a </a:t>
            </a:r>
            <a:r>
              <a:rPr b="0" lang="hu-HU" sz="1600" spc="-1" strike="noStrike">
                <a:solidFill>
                  <a:srgbClr val="cc0000"/>
                </a:solidFill>
                <a:latin typeface="DaxlinePro-Regular"/>
              </a:rPr>
              <a:t>„Közös fejlesztés”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feltételét választják, a megfelelőség igazolására szükséges az előkészítő tárgyalásokra szóló meghívók, jelenléti ívek, valamint a megbeszélések során készült jegyzőkönyvek pályázathoz való csatolás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2. melléklet - A projekt </a:t>
            </a:r>
            <a:r>
              <a:rPr b="0" lang="hu-HU" sz="1600" spc="-1" strike="noStrike">
                <a:solidFill>
                  <a:srgbClr val="cc0000"/>
                </a:solidFill>
                <a:latin typeface="DaxlinePro-Regular"/>
              </a:rPr>
              <a:t>fenntarthatóságát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biztosító intézkedések (a formátum adot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3. melléklet - Az </a:t>
            </a:r>
            <a:r>
              <a:rPr b="0" lang="hu-HU" sz="1600" spc="-1" strike="noStrike">
                <a:solidFill>
                  <a:srgbClr val="cc0000"/>
                </a:solidFill>
                <a:latin typeface="DaxlinePro-Regular"/>
              </a:rPr>
              <a:t>esélyegyenlőséget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biztosító intézkedések (a formátum adot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Melléklet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Beruházási projektek esetében (ahol a 6. költségvetési soron “Építés/Investície” költséget kívánnak elszámoln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Folyamatáb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2827440" y="1600200"/>
            <a:ext cx="1257120" cy="5716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ályázó, a KSZT és a RIP támogatásá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27440" y="3200400"/>
            <a:ext cx="1257120" cy="3430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SZT és RI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27440" y="4343400"/>
            <a:ext cx="1257120" cy="45720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SZT és/vagy külső szakértő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27440" y="5029200"/>
            <a:ext cx="1257120" cy="3430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M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56240" y="1714680"/>
            <a:ext cx="27432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 pályázat kidolgozá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3280" y="2924280"/>
            <a:ext cx="20574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ályázat benyújtása/befogadá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3280" y="3573360"/>
            <a:ext cx="20574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ormai és jogosultsági ellenőrz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36000" y="2637000"/>
            <a:ext cx="9363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ánypótlás (az értékelési táblában rögzített, előre meghatározott esetekbe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27760" y="3314880"/>
            <a:ext cx="8002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628040" y="30859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628040" y="1942920"/>
            <a:ext cx="144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399080" y="1943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27840" y="2171880"/>
            <a:ext cx="120816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ályázat ismételt benyújtása, Vezető Part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99160" y="20574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99160" y="25146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84840" y="2171880"/>
            <a:ext cx="105552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ályázat benyújtása, Vezető Part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42040" y="2514600"/>
            <a:ext cx="144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42040" y="205740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56240" y="4457880"/>
            <a:ext cx="27432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ályázatok szakmai értékelé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41760" y="2629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41760" y="411480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27760" y="2629080"/>
            <a:ext cx="0" cy="1485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41760" y="2652840"/>
            <a:ext cx="0" cy="1485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27840" y="411480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56240" y="5029200"/>
            <a:ext cx="27432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 pályázatok kiválasztása, támogatási dönt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27840" y="4800600"/>
            <a:ext cx="144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Ami segít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ályázati felhívással kapcsolatos minden információ és dokumentum megtalálható a honlapunko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www.husk-cbc.e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elhívá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útmutat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és melléklete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kitöltési útmutat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Útmutató a költségek elszámolhatóságáho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Értékelő táblázat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Megvalósíthatósági tanulmány szerkeze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riki Arian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-SK J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Általános információ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ályázati felhívás érvényessége </a:t>
            </a: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2010.12.01 - 2011.02.28.</a:t>
            </a:r>
            <a:br>
              <a:rPr sz="3200"/>
            </a:b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ERFA: 10 365 801 EUR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rojektek időtartama max. 24 hó leh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1.1.2 Üzleti együttműködések elősegítése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1 936 941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 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1 Vízgazdálkodás (árvíz- és belvízvédelem)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2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2 Tanulmányok, tervek és képzések (Vízgazdálkodás, árvíz- és belvízvédel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720 593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4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1 Szélessávú internet kiép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 208 267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2 Közösségi csatlakozási programok, média; az információáramlás előseg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1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Részletes információkat az intézkedésekrő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Pályázati útmutató 1.3 fejezeté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olvashatnak.</a:t>
            </a:r>
            <a:r>
              <a:rPr b="1" lang="en-US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DaxlinePro-Regular"/>
              </a:rPr>
              <a:t>Beadási határidő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pályázatot és a mellékleteket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angolul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kell benyújtani </a:t>
            </a:r>
            <a:r>
              <a:rPr b="0" lang="en-US" sz="1600" spc="-1" strike="noStrike">
                <a:solidFill>
                  <a:srgbClr val="000000"/>
                </a:solidFill>
                <a:latin typeface="DaxlinePro-Regular"/>
              </a:rPr>
              <a:t>(kivéve a VP nyilatkozat – nemzeti nyelv, az IMIR 2007-2013 generálj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z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IMIR 2007-2013 Front Office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rendszeren keresztül elektronikus formáb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február 28-ig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(a rendszer 2011.01.03. óta nyitva ál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mellékletek és nyomtatványok </a:t>
            </a:r>
            <a:r>
              <a:rPr b="0" lang="en-US" sz="2000" spc="-1" strike="noStrike">
                <a:solidFill>
                  <a:srgbClr val="cc0000"/>
                </a:solidFill>
                <a:latin typeface="DaxlinePro-Regular"/>
              </a:rPr>
              <a:t>postára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adási határidej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23.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Személyesen/meghatalmazott által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12.00-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09:21Z</dcterms:created>
  <dc:creator>birikiarianna</dc:creator>
  <dc:description/>
  <dc:language>en-US</dc:language>
  <cp:lastModifiedBy>birikiarianna</cp:lastModifiedBy>
  <dcterms:modified xsi:type="dcterms:W3CDTF">2011-01-25T16:19:38Z</dcterms:modified>
  <cp:revision>52</cp:revision>
  <dc:subject/>
  <dc:title>Info nap 3. pályázati felhívás</dc:title>
</cp:coreProperties>
</file>