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DC9E-4EEF-433E-951E-19CC3B45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9472-F1E0-4BB2-8EAB-600E977C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9CBE-55D7-43FE-88B7-CC00B307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BC6B-1ECB-436A-BA90-3AE8522B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847C-53D2-4E75-AE68-D28674CC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0E82-E7CC-4177-9F04-E6D398EF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F105-01FD-4087-B6EE-31DD28D2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7E3-2204-4B4D-8585-0E2973FD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29D-6BF6-4618-A40B-B7F4A78C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934F-BA59-4FDA-BFA1-762B83B8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9A8-05DF-4CB6-894A-497DAF97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4E46-FC43-453A-ACF6-6EC9B0E9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F652-2F1A-4AB4-826F-120ED626F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1268280"/>
            <a:ext cx="82818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Interreg IVA” = ETE 2007-2013 elvárás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legalább 1 határon túli partn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sélyegyenlőség (legalább 2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nntartható fejlődés (legalább 3 intézked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Bilingualism (HU-SK nyelvek használ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Közös fejlesztés, végrehajtás, menedzsment és finanszírozás (legalább 2 alkalmazá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Vezető partner e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50920" y="1052640"/>
            <a:ext cx="842472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További elvá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elképzelés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inanszírozás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artnerség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delegálása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Reális költségvetés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dikátorok partner és projekt szinten– kimenet (rövidtávú) és eredmény (rövidtávú) mutató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rchiválás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395280" y="2943360"/>
          <a:ext cx="8280360" cy="327312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7080"/>
                <a:gridCol w="1656000"/>
                <a:gridCol w="1655640"/>
              </a:tblGrid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elős szervezet/ szemé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őker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e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lenőrzés formá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vékenység ...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1840680" y="1270080"/>
            <a:ext cx="52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nőségi tervezés = Good „</a:t>
            </a:r>
            <a:r>
              <a:rPr b="1" lang="sk-SK" sz="1800" spc="-1" strike="noStrike" u="sng">
                <a:solidFill>
                  <a:srgbClr val="ff3300"/>
                </a:solidFill>
                <a:uFillTx/>
                <a:latin typeface="Arial"/>
              </a:rPr>
              <a:t>time</a:t>
            </a: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“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respo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468360" y="981000"/>
            <a:ext cx="828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Mire vigyázzunk a költségvetés tervezésénél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n jogos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3-7.5 sorok összege nem haladhatja meg az adott partner személyi költségeinek </a:t>
            </a: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ámogatási arány megfelelő meghatározása (állami támogatás?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20920"/>
            <a:ext cx="828180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Állami támogatás (state aid)</a:t>
            </a: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A Közös Szakmai Titkárság direkt módon nem nyújt információkat a pályázott tevékenységek állami támogatás megvizsgálásának szempontjából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érjük keressé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Zsanett Katalin  (HU, ENG, 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atalin.zsanett.magyar@nfu.gov.h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De előtte...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anulmányozzák át a PÁLYÁZATI ÚTMUTATÓ-ban feltüntetett jogo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tevékenységek listáját és hozzájuk rendelt jogcíme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Vezető Partner nyilatkoza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(a nyomtatvány elérhető magyar VP-nek magyarul, szlovák VP-nek szlovákul) - nyomtatva, törvényes képviselő által aláírva és lepecsétel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cc0000"/>
                </a:solidFill>
                <a:latin typeface="Arial"/>
              </a:rPr>
              <a:t>Partnerségi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az összes támogatásban részesülő partner törvényes képviselője által aláírva)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va, törvényes képviselő által aláírva és lepecsétel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1. melléklet -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ennyiben a partnerek az együttműködési kritériumok közül a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„Közös fejlesztés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melléklet - A projek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fenntarthatóságá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melléklet - Az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esélyegyenlőséget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biztosító intézkedések (a formátum adot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Arial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Arial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41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lléklet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3270600" y="1052640"/>
            <a:ext cx="20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Értékelés men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412760" y="309240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7108560" y="64911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www.husk-cbc.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8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2423160" y="2852640"/>
            <a:ext cx="386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öszönöm figyelmük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0" y="0"/>
            <a:ext cx="9144000" cy="895320"/>
            <a:chOff x="0" y="0"/>
            <a:chExt cx="9144000" cy="895320"/>
          </a:xfrm>
        </p:grpSpPr>
        <p:pic>
          <p:nvPicPr>
            <p:cNvPr id="110" name="" descr=""/>
            <p:cNvPicPr/>
            <p:nvPr/>
          </p:nvPicPr>
          <p:blipFill>
            <a:blip r:embed="rId2"/>
            <a:stretch/>
          </p:blipFill>
          <p:spPr>
            <a:xfrm>
              <a:off x="5586480" y="0"/>
              <a:ext cx="3557520" cy="5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70036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7:09:49Z</dcterms:created>
  <dc:creator>TorokZsolt</dc:creator>
  <dc:description/>
  <dc:language>en-US</dc:language>
  <cp:lastModifiedBy>TorokZsolt</cp:lastModifiedBy>
  <dcterms:modified xsi:type="dcterms:W3CDTF">2011-01-26T13:34:19Z</dcterms:modified>
  <cp:revision>117</cp:revision>
  <dc:subject/>
  <dc:title>1. dia</dc:title>
</cp:coreProperties>
</file>