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46D7-4ACC-409D-BA5E-168E7743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886-F914-4461-BAE6-8D40DD2F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470-B7C2-46C5-BBA1-3EDE26FE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D859-095B-4F18-BFB3-8115E26F8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EB41-3413-4603-8585-76FB25B2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1994-D60B-4408-84ED-191A69A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2B86-6ED8-4760-9245-2CE76F02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0C4D-16CB-4191-A0AE-DA797439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CE98-3EAC-41AD-8954-B54AF26D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EC5-E1CE-402D-A49E-694E9078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B149-844A-4F0D-A192-D520230B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8B8-70B5-44BE-BC0E-0A74C17B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54E2-F769-40E3-A5F0-3AD9018C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338F-99A6-45F1-857E-E6BF5F03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F6B1-4B93-4D64-806B-FB443A4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F28D-633C-413E-A025-928B1FFE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F3AA-7010-4DEF-9C33-5D9D0994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BDD-31CA-4C17-9D2A-65A45B0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750-7F2A-4E32-B84E-3C2A6FA7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8C92-91A7-4435-AC5D-9EBEFDC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3B3-6CF6-4E32-8829-BE558D0B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3F0-7441-482E-95CC-48C99466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994-9DF1-4AA1-94D6-4D3CEEA3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37BB-DAEC-4A05-97F7-03AC60D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4B68-BDDB-44DA-AB68-B6B5292F76FA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A499-A72A-4215-AA7E-63BB6FD1C78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hhubertova@vati.hu" TargetMode="External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Front Office Pályázati Mod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Alcím 2"/>
          <p:cNvSpPr/>
          <p:nvPr/>
        </p:nvSpPr>
        <p:spPr>
          <a:xfrm>
            <a:off x="1547640" y="5300640"/>
            <a:ext cx="6400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(k</a:t>
            </a:r>
            <a:r>
              <a:rPr b="0" lang="hu-HU" sz="2400" spc="-1" strike="noStrike">
                <a:solidFill>
                  <a:srgbClr val="898989"/>
                </a:solidFill>
                <a:latin typeface="Calibri"/>
              </a:rPr>
              <a:t>észítette: Holop Szilveszter, JTS</a:t>
            </a:r>
            <a:r>
              <a:rPr b="0" lang="en-GB" sz="24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6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ubertova Henri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Financial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hubertova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9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1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ubertovahenrieta</cp:lastModifiedBy>
  <dcterms:modified xsi:type="dcterms:W3CDTF">2011-01-26T15:42:19Z</dcterms:modified>
  <cp:revision>32</cp:revision>
  <dc:subject/>
  <dc:title>1. dia</dc:title>
</cp:coreProperties>
</file>