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E45C-BE4B-473A-B091-8D57C0433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3A13-F185-473A-86E3-3D1FF4007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1455-D44D-4A8A-A8EB-59A5940DC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A3FA-CFC8-4BC5-A74C-E8B6BF555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B2A5-874C-4C1B-BB70-C5BC96FA6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FD65-67D9-430C-9A1D-8C14EF57B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D5AC-5FA6-472C-8B96-D5754A075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9660-2F53-4559-A1FF-980BE8943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3EEC-01B6-4CAB-8AF7-BCD102A41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B82E-E6BF-4632-B12C-8FE8AA60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4FB6-B589-46DF-B70C-4A26B4B63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CD75-63B3-4D22-A8F1-4288C6E84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84C7B-2A2C-49F8-B535-8A558587A7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husk-cbc.eu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468360" y="1268280"/>
            <a:ext cx="8281800" cy="48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„</a:t>
            </a: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Interreg IVA” = ETE 2007-2013 elvárás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Forma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legalább 1 határon túli partn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Szakma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Innovatív, életképes/fenntartható projekt ötlet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Esélyegyenlőség (legalább 2 intézkedé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Fenntartható fejlődés (legalább 3 intézkedé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Bilingualism (HU-SK nyelvek használa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Közös fejlesztés, végrehajtás, menedzsment és finanszírozás (legalább 2 alkalmazás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Vezető partner el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husk-cbc.eu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3"/>
          <p:cNvSpPr/>
          <p:nvPr/>
        </p:nvSpPr>
        <p:spPr>
          <a:xfrm>
            <a:off x="250920" y="1052640"/>
            <a:ext cx="842472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További elvárás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ojekt elképzelés –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novatív, ötletes, hozzáadott értéket, CB hatást képviselő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Finanszírozás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– saját vs külső források, a kötelező önerő valójában többszöröse az előírt % összegnek, mivel utófinanszírozás kerül alkalmazás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artnerség – Életképes partnerség, kölcsönös bizalom (horizontális, vertikális szinten), kellő kapacitásokkal rendelkező (HR, tőke, szakmai, EUs ismerete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Feladatkörök, tevékenységek kellő szintű delegálása – partnerek között, de az adott partner szervezeti keretein belül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Reális költségvetés – megalapozott, összhangban a tevékenységekkel, indikátorokk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Indikátorok partner és projekt szinten– kimenet (rövidtávú) és eredmény (rövidtávú) mutató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5 éves fenntartási kötelezettsé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rchiválás – 2022-ig megőrizni a kapcsolódó dokumentumok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husk-cbc.eu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54" name=""/>
          <p:cNvGraphicFramePr/>
          <p:nvPr/>
        </p:nvGraphicFramePr>
        <p:xfrm>
          <a:off x="395280" y="2943360"/>
          <a:ext cx="8280360" cy="3273120"/>
        </p:xfrm>
        <a:graphic>
          <a:graphicData uri="http://schemas.openxmlformats.org/drawingml/2006/table">
            <a:tbl>
              <a:tblPr/>
              <a:tblGrid>
                <a:gridCol w="1655640"/>
                <a:gridCol w="1656000"/>
                <a:gridCol w="1657080"/>
                <a:gridCol w="1656000"/>
                <a:gridCol w="1655640"/>
              </a:tblGrid>
              <a:tr h="110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vékenysé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lelős szervezet/ szemé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őker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me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enőrzés formá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vékenység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vékenység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vékenység ...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"/>
          <p:cNvSpPr/>
          <p:nvPr/>
        </p:nvSpPr>
        <p:spPr>
          <a:xfrm>
            <a:off x="1840680" y="1270080"/>
            <a:ext cx="52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Minőségi tervezés = Good „</a:t>
            </a:r>
            <a:r>
              <a:rPr b="1" lang="sk-SK" sz="1800" spc="-1" strike="noStrike" u="sng">
                <a:solidFill>
                  <a:srgbClr val="ff3300"/>
                </a:solidFill>
                <a:uFillTx/>
                <a:latin typeface="Arial"/>
              </a:rPr>
              <a:t>time</a:t>
            </a: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“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respon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husk-cbc.eu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"/>
          <p:cNvSpPr/>
          <p:nvPr/>
        </p:nvSpPr>
        <p:spPr>
          <a:xfrm>
            <a:off x="468360" y="981000"/>
            <a:ext cx="8281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Mire vigyázzunk a költségvetés tervezésénél</a:t>
            </a:r>
            <a:r>
              <a:rPr b="0" i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jogosult területen kívül megvalósítandó tevékenységek elszámolható költsége nem haladhatja meg a projekt elszámolható összköltségének 10%-á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lőkészítő költségek (1. költségvetési sor) - Az adott partner költségvetésének max. </a:t>
            </a:r>
            <a:r>
              <a:rPr b="0" lang="hu-HU" sz="1800" spc="-1" strike="noStrike">
                <a:solidFill>
                  <a:srgbClr val="ff3300"/>
                </a:solidFill>
                <a:latin typeface="Arial"/>
              </a:rPr>
              <a:t>10%-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an jogosu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6.1 és 6.2 sorok projekt szintű összege nem haladhatja meg a projekt jogosult költségeinek </a:t>
            </a:r>
            <a:r>
              <a:rPr b="0" lang="hu-HU" sz="1800" spc="-1" strike="noStrike">
                <a:solidFill>
                  <a:srgbClr val="ff3300"/>
                </a:solidFill>
                <a:latin typeface="Arial"/>
              </a:rPr>
              <a:t>10%-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.3-7.5 sorok összege nem haladhatja meg az adott partner személyi költségeinek </a:t>
            </a:r>
            <a:r>
              <a:rPr b="0" lang="hu-HU" sz="1800" spc="-1" strike="noStrike">
                <a:solidFill>
                  <a:srgbClr val="ff3300"/>
                </a:solidFill>
                <a:latin typeface="Arial"/>
              </a:rPr>
              <a:t>25%-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Támogatási arány megfelelő meghatározása (állami támogatás?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ojekt megszabott min.-max. méretei = 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85%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(ERF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husk-cbc.eu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63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www.husk-cbc.e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1420920"/>
            <a:ext cx="8281800" cy="43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Állami támogatás (state aid)</a:t>
            </a:r>
            <a:r>
              <a:rPr b="0" i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3300"/>
                </a:solidFill>
                <a:latin typeface="Arial"/>
              </a:rPr>
              <a:t>A Közös Szakmai Titkárság direkt módon nem nyújt információkat a pályázott tevékenységek állami támogatás megvizsgálásának szempontjából!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érjük keressék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agyar Zsanett Katalin  (HU, ENG, 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atalin.zsanett.magyar@nfu.gov.h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De előtte...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Tanulmányozzák át a PÁLYÁZATI ÚTMUTATÓ-ban feltüntetett jogo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tevékenységek listáját és hozzájuk rendelt jogcímek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68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www.husk-cbc.e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800" spc="-1" strike="noStrike">
                <a:solidFill>
                  <a:srgbClr val="cc0000"/>
                </a:solidFill>
                <a:latin typeface="Arial"/>
              </a:rPr>
              <a:t>nyomtatva, lepecsételve és aláírva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beküldendő dokumentumok a következők: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cc0000"/>
                </a:solidFill>
                <a:latin typeface="Arial"/>
              </a:rPr>
              <a:t>Vezető Partner nyilatkoza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(a nyomtatvány elérhető magyar VP-nek magyarul, szlovák VP-nek szlovákul) - nyomtatva, törvényes képviselő által aláírva és lepecsétel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cc0000"/>
                </a:solidFill>
                <a:latin typeface="Arial"/>
              </a:rPr>
              <a:t>Partnerségi nyilatkoza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(az összes támogatásban részesülő partner törvényes képviselője által aláírva) -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nyomtatva, törvényes képviselő által aláírva és lepecséte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800" spc="-1" strike="noStrike">
                <a:solidFill>
                  <a:srgbClr val="cc0000"/>
                </a:solidFill>
                <a:latin typeface="Arial"/>
              </a:rPr>
              <a:t>nyomtatva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beküldendő dokumentumok a következők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1. melléklet -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mennyiben a partnerek az együttműködési kritériumok közül a </a:t>
            </a:r>
            <a:r>
              <a:rPr b="0" lang="hu-HU" sz="1800" spc="-1" strike="noStrike">
                <a:solidFill>
                  <a:srgbClr val="cc0000"/>
                </a:solidFill>
                <a:latin typeface="Arial"/>
              </a:rPr>
              <a:t>„Közös fejlesztés”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feltételét választják, a megfelelőség igazolására szükséges az előkészítő tárgyalásokra szóló meghívók, jelenléti ívek, valamint a megbeszélések során készült jegyzőkönyvek pályázathoz való csatolá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. melléklet - A projekt </a:t>
            </a:r>
            <a:r>
              <a:rPr b="0" lang="hu-HU" sz="1800" spc="-1" strike="noStrike">
                <a:solidFill>
                  <a:srgbClr val="cc0000"/>
                </a:solidFill>
                <a:latin typeface="Arial"/>
              </a:rPr>
              <a:t>fenntarthatóságá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biztosító intézkedések (a formátum adot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. melléklet - Az </a:t>
            </a:r>
            <a:r>
              <a:rPr b="0" lang="hu-HU" sz="1800" spc="-1" strike="noStrike">
                <a:solidFill>
                  <a:srgbClr val="cc0000"/>
                </a:solidFill>
                <a:latin typeface="Arial"/>
              </a:rPr>
              <a:t>esélyegyenlősége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biztosító intézkedések (a formátum adot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414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elléklet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74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www.husk-cbc.e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Beruházási projektek esetében (ahol a 6. költségvetési soron “Építés/Investície” költséget kívánnak elszámoln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. melléklet - </a:t>
            </a:r>
            <a:r>
              <a:rPr b="0" lang="hu-HU" sz="1800" spc="-1" strike="noStrike">
                <a:solidFill>
                  <a:srgbClr val="cc0000"/>
                </a:solidFill>
                <a:latin typeface="Arial"/>
              </a:rPr>
              <a:t>Megvalósíthatósági tanulmány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költség-haszon számítással (CB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5. melléklet - </a:t>
            </a:r>
            <a:r>
              <a:rPr b="0" lang="sk-SK" sz="1800" spc="-1" strike="noStrike">
                <a:solidFill>
                  <a:srgbClr val="cc0000"/>
                </a:solidFill>
                <a:latin typeface="Arial"/>
              </a:rPr>
              <a:t>Engedélyezési tervdokumentáció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(csak másol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. melléklet -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 beruházással érintett helyszín </a:t>
            </a:r>
            <a:r>
              <a:rPr b="0" lang="sk-SK" sz="1800" spc="-1" strike="noStrike">
                <a:solidFill>
                  <a:srgbClr val="cc0000"/>
                </a:solidFill>
                <a:latin typeface="Arial"/>
              </a:rPr>
              <a:t>fényképdokumentációj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papíron (60 napnál nem régebbi állapotot ábrázol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. melléklet – Eredeti vagy hitelesített </a:t>
            </a:r>
            <a:r>
              <a:rPr b="0" lang="hu-HU" sz="1800" spc="-1" strike="noStrike">
                <a:solidFill>
                  <a:srgbClr val="cc0000"/>
                </a:solidFill>
                <a:latin typeface="Arial"/>
              </a:rPr>
              <a:t>k</a:t>
            </a:r>
            <a:r>
              <a:rPr b="0" lang="sk-SK" sz="1800" spc="-1" strike="noStrike">
                <a:solidFill>
                  <a:srgbClr val="cc0000"/>
                </a:solidFill>
                <a:latin typeface="Arial"/>
              </a:rPr>
              <a:t>örnyezeti hatásvizsgála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(EIA), amennyiben a nemzeti jogszabályok előírják. Amennyiben nem írják elő, úgy egy eredeti (aláírt, lepecsételt) nyilatkozat csatolása szükséges errő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. melléklet -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 területileg illetékes Nemzeti Park eredeti vagy hitelesített elvi hozzájárulása a projekthez (azaz a </a:t>
            </a:r>
            <a:r>
              <a:rPr b="0" lang="sk-SK" sz="1800" spc="-1" strike="noStrike">
                <a:solidFill>
                  <a:srgbClr val="cc0000"/>
                </a:solidFill>
                <a:latin typeface="Arial"/>
              </a:rPr>
              <a:t>Nemzeti Park Igazgatósága által írt hivatalos levél vagy nyilatkoza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becsatolása szükséges). Amennyiben a projekt partnerek tevékenységei nem érintenek védett és/vagy NATURA 2000 területet, akkor elegendő a támogatásban részesülő Partnerek eredeti (aláírt, lepecsételt) nyilatkozata, amely szerint a partnerek projekt tevékenységei nem érintenek védett és/vagy NATURA 2000 területet, és nem lesznek negatív hatással az adott terület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414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elléklet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80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" name=""/>
          <p:cNvSpPr/>
          <p:nvPr/>
        </p:nvSpPr>
        <p:spPr>
          <a:xfrm>
            <a:off x="3270600" y="1052640"/>
            <a:ext cx="205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Értékelés men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412760" y="30924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3300"/>
                </a:solidFill>
                <a:latin typeface="Arial"/>
              </a:rPr>
              <a:t>14</a:t>
            </a:r>
            <a:r>
              <a:rPr b="0" lang="sk-SK" sz="1600" spc="-1" strike="noStrike">
                <a:solidFill>
                  <a:srgbClr val="ff3300"/>
                </a:solidFill>
                <a:latin typeface="Arial"/>
              </a:rPr>
              <a:t> naptári n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www.husk-cbc.e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900000" y="1773360"/>
            <a:ext cx="6551280" cy="4347720"/>
            <a:chOff x="900000" y="1773360"/>
            <a:chExt cx="6551280" cy="4347720"/>
          </a:xfrm>
        </p:grpSpPr>
        <p:sp>
          <p:nvSpPr>
            <p:cNvPr id="86" name=""/>
            <p:cNvSpPr/>
            <p:nvPr/>
          </p:nvSpPr>
          <p:spPr>
            <a:xfrm>
              <a:off x="900000" y="1773360"/>
              <a:ext cx="1540800" cy="6588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Pályázó, a KSZT és a RIP támogatásá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900000" y="3617640"/>
              <a:ext cx="1540800" cy="3952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KSZT és RI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900000" y="4935240"/>
              <a:ext cx="1540800" cy="5266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KSZT és/vagy külső szakértő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5725800"/>
              <a:ext cx="1540800" cy="3952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KM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141360" y="1905120"/>
              <a:ext cx="33624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A pályázat kidolgozá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125520" y="3299400"/>
              <a:ext cx="25218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Pályázat benyújtása/befogadá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125520" y="4047480"/>
              <a:ext cx="2521800" cy="3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Formai és jogosultsági ellenőrzé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03600" y="2968200"/>
              <a:ext cx="1147680" cy="9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iánypótlás (az értékelési táblában rögzített, előre meghatározott esetekben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03200" y="3749760"/>
              <a:ext cx="98064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6784200" y="2168280"/>
              <a:ext cx="1440" cy="658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6504120" y="2168640"/>
              <a:ext cx="280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22560" y="2432160"/>
              <a:ext cx="1480680" cy="53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ályázat ismételt benyújtása, Vezető Partn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523120" y="2300040"/>
              <a:ext cx="2160" cy="131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421800" y="2432160"/>
              <a:ext cx="1293480" cy="53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ályázat benyújtása, Vezető Partn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141360" y="5067360"/>
              <a:ext cx="33624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Pályázatok szakmai értékelé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001320" y="2959200"/>
              <a:ext cx="2801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001320" y="4671720"/>
              <a:ext cx="280188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803200" y="2959200"/>
              <a:ext cx="0" cy="171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001320" y="2986560"/>
              <a:ext cx="0" cy="171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822560" y="4671720"/>
              <a:ext cx="144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141360" y="5725800"/>
              <a:ext cx="3362400" cy="3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A pályázatok kiválasztása, támogatási dönté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822560" y="5462280"/>
              <a:ext cx="1440" cy="29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3"/>
          <p:cNvSpPr/>
          <p:nvPr/>
        </p:nvSpPr>
        <p:spPr>
          <a:xfrm>
            <a:off x="2423160" y="2852640"/>
            <a:ext cx="3861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öszönöm figyelmüke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husk-cbc.eu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110" name="" descr=""/>
            <p:cNvPicPr/>
            <p:nvPr/>
          </p:nvPicPr>
          <p:blipFill>
            <a:blip r:embed="rId2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7:09:49Z</dcterms:created>
  <dc:creator>TorokZsolt</dc:creator>
  <dc:description/>
  <dc:language>en-US</dc:language>
  <cp:lastModifiedBy>TorokZsolt</cp:lastModifiedBy>
  <dcterms:modified xsi:type="dcterms:W3CDTF">2011-01-26T13:34:19Z</dcterms:modified>
  <cp:revision>117</cp:revision>
  <dc:subject/>
  <dc:title>1. dia</dc:title>
</cp:coreProperties>
</file>