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52FA-EC46-412A-B40B-DB3045B18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FDDC-5FA5-4CB5-98DC-C0AECF184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49B3-AAE6-425E-8203-15892320E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E669-E54A-4BF1-9CDD-C83EA2983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3648C-54E9-4CC1-9D2A-001183BC8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F8F1A-7C72-4AA5-B5D2-556C8ADB1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A60BC-9DCE-4F2C-B21B-789B2E421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5D2B1-B49E-4E02-BC68-9B1531251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DE556-FFC5-42C6-A032-C175794CE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C162C-7E31-4219-A175-6848274EC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44378-A530-4C40-A1E3-FA057B615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2058-5899-4F23-AB7B-D2A4558D5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693AE-6CD1-401F-B50C-0BD9F9974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B3B1F-E970-4183-BCD7-665D03C94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CAC99-349D-4271-A6E1-C6FB0D470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50F6D-A8F0-4433-8F8D-8FD3EDF5C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B92CE-1CEE-4E41-A8BF-47A20A1ED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AD22-0D3C-49B0-9D6C-7868619A3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5885-3C58-4163-B268-0B972A8AF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2591-B5CC-4C6F-935F-1C33B7074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3139-8F6D-4964-9BCC-26533986D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8D53-E05C-447D-ACA3-05F52EE04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169F-8AC4-46AF-B3EB-6ECDF1ECC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7F1F-2779-4D73-94F1-1BE59D7A6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84ADD-F2E2-4129-89A8-0AA2D46004A8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6C79B-0C99-463A-8992-22CF06EA18AA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husk-cbc.eu/3rdcallforproposals" TargetMode="External"/><Relationship Id="rId3" Type="http://schemas.openxmlformats.org/officeDocument/2006/relationships/hyperlink" Target="http://www.husk-cbc.eu/3rdcallforproposals" TargetMode="External"/><Relationship Id="rId4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DaxlinePro-Regular"/>
              </a:rPr>
              <a:t>Magyarország-Szlovákia Határon Átnyúló Együttműködési Program 2007-2013</a:t>
            </a:r>
            <a:br>
              <a:rPr sz="2800"/>
            </a:br>
            <a:br>
              <a:rPr sz="2800"/>
            </a:br>
            <a:r>
              <a:rPr b="1" lang="en-US" sz="3200" spc="-1" strike="noStrike">
                <a:solidFill>
                  <a:srgbClr val="336600"/>
                </a:solidFill>
                <a:latin typeface="DaxlinePro-Regular"/>
              </a:rPr>
              <a:t>INFO NAP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336600"/>
                </a:solidFill>
                <a:latin typeface="DaxlinePro-Regular"/>
              </a:rPr>
              <a:t>3. pályázati felhív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DaxlinePro-Regular"/>
              </a:rPr>
              <a:t>2011.01.27. Eg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/>
          <p:nvPr/>
        </p:nvSpPr>
        <p:spPr>
          <a:xfrm>
            <a:off x="6588000" y="558972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DaxlinePro-Regular"/>
              </a:rPr>
              <a:t>Biriki Arian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843280" y="-360"/>
            <a:ext cx="63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DaxlinePro-Regular"/>
              </a:rPr>
              <a:t>A pályázatok benyújtásának módja, hely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11280" y="2781360"/>
            <a:ext cx="8229600" cy="295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7000"/>
          </a:bodyPr>
          <a:p>
            <a:pPr marL="591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HU-SK CBC Program Közös Szakmai Titkárság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VÁTI Nonprofit Kf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Gellérthegy u. 30-32.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H-1016 Budapest, Magyarorszá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Pályázati felhívás hivatkozási száma: HUSK/100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/>
          <p:nvPr/>
        </p:nvSpPr>
        <p:spPr>
          <a:xfrm>
            <a:off x="611280" y="1341360"/>
            <a:ext cx="8229600" cy="122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566640" indent="-566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DaxlinePro-Regular"/>
              </a:rPr>
              <a:t>IMIR 2007-2013 Front Office Application Mod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 u="sng">
                <a:solidFill>
                  <a:srgbClr val="0000ff"/>
                </a:solidFill>
                <a:uFillTx/>
                <a:latin typeface="DaxlinePro-Regular"/>
                <a:hlinkClick r:id="rId2"/>
              </a:rPr>
              <a:t>http</a:t>
            </a:r>
            <a:r>
              <a:rPr b="0" lang="hu-HU" sz="2800" spc="-1" strike="noStrike" u="sng">
                <a:solidFill>
                  <a:srgbClr val="0000ff"/>
                </a:solidFill>
                <a:uFillTx/>
                <a:latin typeface="DaxlinePro-Regular"/>
                <a:hlinkClick r:id="rId3"/>
              </a:rPr>
              <a:t>://www.husk-cbc.eu/3rdcallforpropos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Ami segít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A pályázati felhívással kapcsolatos minden információ és dokumentum megtalálható a honlapunkon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cc0000"/>
                </a:solidFill>
                <a:latin typeface="DaxlinePro-Regular"/>
              </a:rPr>
              <a:t>www.husk-cbc.eu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Pályázati felhívá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Pályázati útmutat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Pályázati formanyomtatvány és melléklete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Pályázati formanyomtatvány kitöltési útmutató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Útmutató a költségek elszámolhatóságáho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Értékelő táblázato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Megvalósíthatósági tanulmány szerkezet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öszönöm a figyelmet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iriki Arian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U-SK J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Általános információ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A pályázati felhívás érvényessége </a:t>
            </a:r>
            <a:r>
              <a:rPr b="1" lang="hu-HU" sz="3200" spc="-1" strike="noStrike">
                <a:solidFill>
                  <a:srgbClr val="cc0000"/>
                </a:solidFill>
                <a:latin typeface="DaxlinePro-Regular"/>
              </a:rPr>
              <a:t>2010.12.01 - 2011.02.28.</a:t>
            </a:r>
            <a:br>
              <a:rPr sz="3200"/>
            </a:br>
            <a:r>
              <a:rPr b="1" lang="hu-HU" sz="3200" spc="-1" strike="noStrike">
                <a:solidFill>
                  <a:srgbClr val="cc0000"/>
                </a:solidFill>
                <a:latin typeface="DaxlinePro-Regular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ERFA: 10 365 801 EUR</a:t>
            </a:r>
            <a:br>
              <a:rPr sz="3200"/>
            </a:b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A projektek időtartama max. 24 hó leh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Priorit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1.1.2 Üzleti együttműködések elősegítése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Keret: 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1 936 941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A projektben igényelhető támogatás összege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in.     25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ax. 1 0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2. Priorit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2.1.1 Vízgazdálkodás (árvíz- és belvízvédelem)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Keret: 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5 0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A projektben igényelhető támogatás összege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in.    5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ax. 2 5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2. Priorit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2.1.2 Tanulmányok, tervek és képzések (Vízgazdálkodás, árvíz- és belvízvédelem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Keret: 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720 593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A projektben igényelhető támogatás összege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in.    2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ax. 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4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2. Priorit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2.5.1 Szélessávú internet kiépíté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Keret: 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2 208 267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A projektben igényelhető támogatás összege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in.    2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ax. 1 0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2. Priorit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2.5.2 Közösségi csatlakozási programok, média; az információáramlás elősegíté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Keret: 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5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A projektben igényelhető támogatás összege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in.    1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ax.  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25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axlinePro-Regular"/>
              </a:rPr>
              <a:t>Részletes információkat az intézkedésekrő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DaxlinePro-Regular"/>
              </a:rPr>
              <a:t>Pályázati útmutató 1.3 fejezetéb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axlinePro-Regular"/>
              </a:rPr>
              <a:t>olvashatnak.</a:t>
            </a:r>
            <a:r>
              <a:rPr b="1" lang="en-US" sz="3200" spc="-1" strike="noStrike">
                <a:solidFill>
                  <a:srgbClr val="000000"/>
                </a:solidFill>
                <a:latin typeface="DaxlinePro-Regular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DaxlinePro-Regular"/>
              </a:rPr>
              <a:t>Beadási határidő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A pályázatot és a mellékleteket </a:t>
            </a:r>
            <a:r>
              <a:rPr b="1" lang="en-US" sz="2000" spc="-1" strike="noStrike">
                <a:solidFill>
                  <a:srgbClr val="cc0000"/>
                </a:solidFill>
                <a:latin typeface="DaxlinePro-Regular"/>
              </a:rPr>
              <a:t>angolul</a:t>
            </a: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 kell benyújtani </a:t>
            </a:r>
            <a:r>
              <a:rPr b="0" lang="en-US" sz="1600" spc="-1" strike="noStrike">
                <a:solidFill>
                  <a:srgbClr val="000000"/>
                </a:solidFill>
                <a:latin typeface="DaxlinePro-Regular"/>
              </a:rPr>
              <a:t>(kivéve a VP nyilatkozat – nemzeti nyelv, az IMIR 2007-2013 generálja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az </a:t>
            </a:r>
            <a:r>
              <a:rPr b="1" lang="en-US" sz="2000" spc="-1" strike="noStrike">
                <a:solidFill>
                  <a:srgbClr val="cc0000"/>
                </a:solidFill>
                <a:latin typeface="DaxlinePro-Regular"/>
              </a:rPr>
              <a:t>IMIR 2007-2013 Front Office</a:t>
            </a: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 rendszeren keresztül elektronikus formába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DaxlinePro-Regular"/>
              </a:rPr>
              <a:t>2011. február 28-ig</a:t>
            </a: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 (a rendszer 2011.01.03. óta nyitva áll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A mellékletek és nyomtatványok </a:t>
            </a:r>
            <a:r>
              <a:rPr b="0" lang="en-US" sz="2000" spc="-1" strike="noStrike">
                <a:solidFill>
                  <a:srgbClr val="cc0000"/>
                </a:solidFill>
                <a:latin typeface="DaxlinePro-Regular"/>
              </a:rPr>
              <a:t>postára</a:t>
            </a: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 adási határidej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DaxlinePro-Regular"/>
              </a:rPr>
              <a:t>2011. március 4. 23.59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Személyesen/meghatalmazott által </a:t>
            </a:r>
            <a:r>
              <a:rPr b="1" lang="en-US" sz="2000" spc="-1" strike="noStrike">
                <a:solidFill>
                  <a:srgbClr val="cc0000"/>
                </a:solidFill>
                <a:latin typeface="DaxlinePro-Regular"/>
              </a:rPr>
              <a:t>2011. március 4. 12.00-i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5T13:09:21Z</dcterms:created>
  <dc:creator>birikiarianna</dc:creator>
  <dc:description/>
  <dc:language>en-US</dc:language>
  <cp:lastModifiedBy>TorokZsolt</cp:lastModifiedBy>
  <dcterms:modified xsi:type="dcterms:W3CDTF">2011-01-26T13:19:58Z</dcterms:modified>
  <cp:revision>53</cp:revision>
  <dc:subject/>
  <dc:title>Info nap 3. pályázati felhívás</dc:title>
</cp:coreProperties>
</file>