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07D6-EAD8-4B46-9057-EFA71717C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F9EF-92A3-4FB0-885F-A6538AC3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C6AF-82C6-4567-8E6C-D78CEAD86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79E6-002F-45E4-A197-788832BD1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B36D-9B06-4F7C-A1DE-109893C4B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75FB-B031-4890-A555-8E24E0E9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FCCD-5E47-41DD-9D00-8EADFE46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B3A3-360C-434C-9414-E8B45B02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EC1F-89FE-4DDB-AB5A-D5A48E32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ED81-5DC0-4471-8011-E8C9CED4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2FA72-1936-431D-9BBE-1DAE3D29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97E2-66FA-49CD-8E0F-232C69AD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094C-3ED6-4969-A2D9-2B7B916D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C6B5-A8A0-467C-954E-CA62A2B9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3593A-2A5C-4D13-9F60-ADB25F6A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571B-0627-408C-BCBC-ADE644E17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566C-E5A9-4B23-B359-D63DF6960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0436-B2D2-431C-AA2D-E59718C0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6191-1477-42AC-874F-DC0623B5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2B07-C79C-4410-87B9-3865B5D5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2F67-B867-467B-A16C-FEE48F7F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C3FF-0FC8-416C-81C3-7DA1AD50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A597-2E3E-4647-95EF-E4AD9B7E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95D5-A219-4EE8-AFB3-87DD05F8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E549-8987-46A1-8F07-0D91E7CFD88D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EE43-2339-48E6-B780-89A068A79A07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3rdcallforproposals" TargetMode="External"/><Relationship Id="rId3" Type="http://schemas.openxmlformats.org/officeDocument/2006/relationships/hyperlink" Target="http://www.husk-cbc.eu/3rdcallforproposals" TargetMode="External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DaxlinePro-Regular"/>
              </a:rPr>
              <a:t>Magyarország-Szlovákia Határon Átnyúló Együttműködési Program 2007-2013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INFO NAP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3. pályázati felhív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2011.01.27. E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55897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DaxlinePro-Regular"/>
              </a:rPr>
              <a:t>Biriki Aria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DaxlinePro-Regular"/>
              </a:rPr>
              <a:t>A pályázatok benyújtásának módja, hely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2781360"/>
            <a:ext cx="8229600" cy="295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U-SK CBC Program Közös Szakmai Titkársá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VÁTI Nonprofit Kf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Gellérthegy u. 30-32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-1016 Budapest, Magyarorszá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Pályázati felhívás hivatkozási száma: HUSK/10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341360"/>
            <a:ext cx="82296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DaxlinePro-Regular"/>
              </a:rPr>
              <a:t>IMIR 2007-2013 Front Office Application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2"/>
              </a:rPr>
              <a:t>http</a:t>
            </a: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3"/>
              </a:rPr>
              <a:t>://www.husk-cbc.eu/3rdcallfor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Ami segít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ályázati felhívással kapcsolatos minden információ és dokumentum megtalálható a honlapunko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www.husk-cbc.e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elhívá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útmutat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és melléklete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kitöltési útmutató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Útmutató a költségek elszámolhatóságáho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Értékelő táblázat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Megvalósíthatósági tanulmány szerkeze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riki Arian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-SK J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Általános információ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ályázati felhívás érvényessége </a:t>
            </a: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2010.12.01 - 2011.02.28.</a:t>
            </a:r>
            <a:br>
              <a:rPr sz="3200"/>
            </a:b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ERFA: 10 365 801 EUR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rojektek időtartama max. 24 hó leh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1.1.2 Üzleti együttműködések elősegítése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1 936 941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 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1 Vízgazdálkodás (árvíz- és belvízvédelem)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2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2 Tanulmányok, tervek és képzések (Vízgazdálkodás, árvíz- és belvízvédel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720 593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4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1 Szélessávú internet kiép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 208 267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2 Közösségi csatlakozási programok, média; az információáramlás előseg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1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Részletes információkat az intézkedésekrő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Pályázati útmutató 1.3 fejezeté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olvashatnak.</a:t>
            </a:r>
            <a:r>
              <a:rPr b="1" lang="en-US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DaxlinePro-Regular"/>
              </a:rPr>
              <a:t>Beadási határidő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pályázatot és a mellékleteket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angolul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kell benyújtani </a:t>
            </a:r>
            <a:r>
              <a:rPr b="0" lang="en-US" sz="1600" spc="-1" strike="noStrike">
                <a:solidFill>
                  <a:srgbClr val="000000"/>
                </a:solidFill>
                <a:latin typeface="DaxlinePro-Regular"/>
              </a:rPr>
              <a:t>(kivéve a VP nyilatkozat – nemzeti nyelv, az IMIR 2007-2013 generálj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z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IMIR 2007-2013 Front Office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rendszeren keresztül elektronikus formáb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február 28-ig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(a rendszer 2011.01.03. óta nyitva ál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mellékletek és nyomtatványok </a:t>
            </a:r>
            <a:r>
              <a:rPr b="0" lang="en-US" sz="2000" spc="-1" strike="noStrike">
                <a:solidFill>
                  <a:srgbClr val="cc0000"/>
                </a:solidFill>
                <a:latin typeface="DaxlinePro-Regular"/>
              </a:rPr>
              <a:t>postára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adási határidej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23.5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Személyesen/meghatalmazott által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12.00-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09:21Z</dcterms:created>
  <dc:creator>birikiarianna</dc:creator>
  <dc:description/>
  <dc:language>en-US</dc:language>
  <cp:lastModifiedBy>TorokZsolt</cp:lastModifiedBy>
  <dcterms:modified xsi:type="dcterms:W3CDTF">2011-01-26T13:19:58Z</dcterms:modified>
  <cp:revision>53</cp:revision>
  <dc:subject/>
  <dc:title>Info nap 3. pályázati felhívás</dc:title>
</cp:coreProperties>
</file>