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27.png" ContentType="image/png"/>
  <Override PartName="/ppt/media/image4.png" ContentType="image/png"/>
  <Override PartName="/ppt/media/image3.wmf" ContentType="image/x-wmf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57FD-D8E4-44A5-BDFB-9ACF3DA3B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E20C-0DE4-47F4-9401-6CCB7FD6D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C849-9EFF-41ED-8E38-6CC1322C2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BCAC-7F30-44B7-8A88-2FAC0F7BB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800FC-8CC7-45D3-B49B-0DB646C02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409D9-40DA-4805-945E-D7A2F6CF2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ACAC6-2DE2-440C-9A50-C122674AB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21FD4-F016-4287-BB5F-7237AFFD8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F390B-54D9-4EAF-8544-08B72218E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74BE6-6813-41DE-8F03-6458D076A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E180E-0144-4351-96FC-ECBE53317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F46A-A00C-4DBA-AD9A-069085979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89880-C664-4756-9210-A8B0388B7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4C43C-C462-44B0-894F-A3862F8F1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0966D-D2E1-4795-8628-C791E5EB4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10015-4B07-4301-A860-79508547D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C6DFE-8C9A-4301-B2AD-6C10CDADD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4F10-3AD7-4B2D-924C-B71FBBEA5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3022-FBF0-4560-A58B-4BF96D33F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2A5A-8C4D-4659-AD10-FC3D68EB7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8EDF-E997-4108-B875-89C8E2DE1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7685-16A7-493C-9BD3-9D0281198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3913-9E4D-49D4-82A1-F7880C9A7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6913-DD80-4A42-B3D3-870970460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D033A-6F46-43F9-9B1D-F2CA3A9100ED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2F7FA-53FE-48D7-B1BF-CCD4197F5305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husk-cbc.eu/" TargetMode="External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mailto:hhubertova@vati.hu" TargetMode="External"/><Relationship Id="rId3" Type="http://schemas.openxmlformats.org/officeDocument/2006/relationships/hyperlink" Target="http://www.husk-cbc.eu/" TargetMode="External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00"/>
                </a:solidFill>
                <a:latin typeface="Calibri"/>
              </a:rPr>
              <a:t>IMIR 2007-2013</a:t>
            </a:r>
            <a:br>
              <a:rPr sz="3600"/>
            </a:br>
            <a:r>
              <a:rPr b="1" lang="hu-HU" sz="3600" spc="-1" strike="noStrike">
                <a:solidFill>
                  <a:srgbClr val="000000"/>
                </a:solidFill>
                <a:latin typeface="Calibri"/>
              </a:rPr>
              <a:t>Front Office Pályázati Modu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91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898989"/>
                </a:solidFill>
                <a:latin typeface="Calibri"/>
              </a:rPr>
              <a:t>A harmadik kiírás online felületének bemutatá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Alcím 2"/>
          <p:cNvSpPr/>
          <p:nvPr/>
        </p:nvSpPr>
        <p:spPr>
          <a:xfrm>
            <a:off x="1547640" y="5300640"/>
            <a:ext cx="640080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98989"/>
                </a:solidFill>
                <a:latin typeface="Calibri"/>
              </a:rPr>
              <a:t>(k</a:t>
            </a:r>
            <a:r>
              <a:rPr b="0" lang="hu-HU" sz="2400" spc="-1" strike="noStrike">
                <a:solidFill>
                  <a:srgbClr val="898989"/>
                </a:solidFill>
                <a:latin typeface="Calibri"/>
              </a:rPr>
              <a:t>észítette: Holop Szilveszter, JTS</a:t>
            </a:r>
            <a:r>
              <a:rPr b="0" lang="en-GB" sz="2400" spc="-1" strike="noStrike">
                <a:solidFill>
                  <a:srgbClr val="898989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zövegdoboz 7"/>
          <p:cNvSpPr/>
          <p:nvPr/>
        </p:nvSpPr>
        <p:spPr>
          <a:xfrm>
            <a:off x="5429160" y="1643040"/>
            <a:ext cx="357192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IEW – partner adatainak megtekint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W – új partner hozzáadása a partner típusának megválasztásáv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kiválasztás után megjelenik a PARTNERSHIP képernyő, amely három fület tartalmaz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onosítás (Identifica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épviselők (Representativ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Üzleti adatok (Business d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 – partner adatainak módosí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 – a partner törl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162400" cy="2143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"/>
          <p:cNvPicPr/>
          <p:nvPr/>
        </p:nvPicPr>
        <p:blipFill>
          <a:blip r:embed="rId2"/>
          <a:stretch/>
        </p:blipFill>
        <p:spPr>
          <a:xfrm>
            <a:off x="642960" y="2500200"/>
            <a:ext cx="2430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zövegdoboz 5"/>
          <p:cNvSpPr/>
          <p:nvPr/>
        </p:nvSpPr>
        <p:spPr>
          <a:xfrm>
            <a:off x="71280" y="1181160"/>
            <a:ext cx="69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PARTNERSHIP\Iden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zövegdoboz 7"/>
          <p:cNvSpPr/>
          <p:nvPr/>
        </p:nvSpPr>
        <p:spPr>
          <a:xfrm>
            <a:off x="6357960" y="1643040"/>
            <a:ext cx="2643120" cy="35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ARTNER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, név, cím, adószám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IN PRO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Jogi státusz (közjogi, központi, magánjogi), alkalmazottak száma, levelezési cí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mennyiben nem biztos valamely adatok tartalmában, kérjük használja a pályázati útmutatót illetve az IMIR kézikönyv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2120" cy="43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zövegdoboz 5"/>
          <p:cNvSpPr/>
          <p:nvPr/>
        </p:nvSpPr>
        <p:spPr>
          <a:xfrm>
            <a:off x="71280" y="1181160"/>
            <a:ext cx="69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PARTNERSHIP\Represent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zövegdoboz 7"/>
          <p:cNvSpPr/>
          <p:nvPr/>
        </p:nvSpPr>
        <p:spPr>
          <a:xfrm>
            <a:off x="6500880" y="1603440"/>
            <a:ext cx="25002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NTACT PER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EGAL REPRESENT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törvényes képviselő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LAPÍTÓ SZER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bban az esetben kell kitölteni, ha a Partner egy másik szervezet közvetlen irányítása alatt működik. (pl. a megye által működtetett középiskola stb. esetében a megyei önkormányza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3151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PARTNERSHIP\Business Da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zövegdoboz 7"/>
          <p:cNvSpPr/>
          <p:nvPr/>
        </p:nvSpPr>
        <p:spPr>
          <a:xfrm>
            <a:off x="6000840" y="1285920"/>
            <a:ext cx="30002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acity/Project management experience of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információk a partner korábbi projektirányítási tapasztalatairól (Projektcím, költségvetés, részvétel típusa st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ast closed budgetary year (utolsó lezárt üzleti é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artner utolsó üzleti évére vonatkozó információk (bevétel, kiadás, eredmény stb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ocations (helyszíne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alamennyi helyszín, ahol a projektet vagy annak bizonyos részeit végrehajtjá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Bank accou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ojekt végrehajtása szempontjából releváns bankszámlá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7704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COOPERATION CRITER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zövegdoboz 7"/>
          <p:cNvSpPr/>
          <p:nvPr/>
        </p:nvSpPr>
        <p:spPr>
          <a:xfrm>
            <a:off x="5929200" y="1643040"/>
            <a:ext cx="30006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Z EGYÜTTMŰKÖDÉS MÓD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gyüttműködés szintje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fejlesz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végrehajt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végrehajtás közös finanszíroz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személy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álassza ki az egyik kritériumot úgy, hogy rákattint, majd válassza ki a baloldalon található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Value (érték)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ző legördülő listájának egyik elemét, és magyarázza vagy indokolja a választást a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Description (leírás)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mezőben. Ismételje meg a folyamatot valamennyi kritérium eseté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64336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PROJECT DESCRIP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zövegdoboz 7"/>
          <p:cNvSpPr/>
          <p:nvPr/>
        </p:nvSpPr>
        <p:spPr>
          <a:xfrm>
            <a:off x="5715000" y="1643040"/>
            <a:ext cx="3214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CT DESCRI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rojektleírá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alamennyi témáról részletes, összefüggő leírásokat kell 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214200" y="1714680"/>
            <a:ext cx="5372280" cy="2233440"/>
          </a:xfrm>
          <a:prstGeom prst="rect">
            <a:avLst/>
          </a:prstGeom>
          <a:ln w="0">
            <a:noFill/>
          </a:ln>
        </p:spPr>
      </p:pic>
      <p:pic>
        <p:nvPicPr>
          <p:cNvPr id="126" name="Szövegdoboz 6" descr=""/>
          <p:cNvPicPr/>
          <p:nvPr/>
        </p:nvPicPr>
        <p:blipFill>
          <a:blip r:embed="rId2"/>
          <a:stretch/>
        </p:blipFill>
        <p:spPr>
          <a:xfrm>
            <a:off x="133200" y="4206960"/>
            <a:ext cx="8913960" cy="16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OBJECTIVES AND ACTIVIT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214960" cy="11714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"/>
          <p:cNvPicPr/>
          <p:nvPr/>
        </p:nvPicPr>
        <p:blipFill>
          <a:blip r:embed="rId2"/>
          <a:stretch/>
        </p:blipFill>
        <p:spPr>
          <a:xfrm>
            <a:off x="142920" y="2928960"/>
            <a:ext cx="5241960" cy="3071880"/>
          </a:xfrm>
          <a:prstGeom prst="rect">
            <a:avLst/>
          </a:prstGeom>
          <a:ln w="0">
            <a:noFill/>
          </a:ln>
        </p:spPr>
      </p:pic>
      <p:sp>
        <p:nvSpPr>
          <p:cNvPr id="130" name="Szövegdoboz 10"/>
          <p:cNvSpPr/>
          <p:nvPr/>
        </p:nvSpPr>
        <p:spPr>
          <a:xfrm>
            <a:off x="5500800" y="1643040"/>
            <a:ext cx="32144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KT TEVÉKENYSÉGEINEK LISTÁ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tevékenységek kapcsán az alábbi adatokat kell megadn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Felelős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gyéb a megvalósításba bevont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tevékenység leír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ockáz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eleváns periódus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tevékenység várható költsé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(segít annak azonosításában, hogy az adott tevékenység megfelelő arányt képvisel a projekten bel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zövegdoboz 5"/>
          <p:cNvSpPr/>
          <p:nvPr/>
        </p:nvSpPr>
        <p:spPr>
          <a:xfrm>
            <a:off x="71280" y="1181160"/>
            <a:ext cx="52866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zövegdoboz 10"/>
          <p:cNvSpPr/>
          <p:nvPr/>
        </p:nvSpPr>
        <p:spPr>
          <a:xfrm>
            <a:off x="6286680" y="142920"/>
            <a:ext cx="2714400" cy="56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Költségvet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Felső rész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- projektszintű költségveté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lsó rész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- partnerszintű költségveté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artnerszintű költségve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artnertábláz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3 költségvetési fü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Költségvetési fül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társfinanszírozási forrása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Source of co-financing of selected partn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észletes partneri költségvetési táblázat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Detailed partner budget t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költségeinek teljes előrejelzése periódusonként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Total spending forecast for selected partner per period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53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zövegdoboz 5"/>
          <p:cNvSpPr/>
          <p:nvPr/>
        </p:nvSpPr>
        <p:spPr>
          <a:xfrm>
            <a:off x="71280" y="1181160"/>
            <a:ext cx="52866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\Travel and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zövegdoboz 10"/>
          <p:cNvSpPr/>
          <p:nvPr/>
        </p:nvSpPr>
        <p:spPr>
          <a:xfrm>
            <a:off x="6286680" y="1643040"/>
            <a:ext cx="27144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ternal service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(4) 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ipment cost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(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költségvetési sorok alatt harmadik szintű költségvetési alsorokat talál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ható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amelyeknek nincs pontos nev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bben az esetben Önnek kell eldöntenie, hogy a költségvetési alsorok közül mennyire van szüksége, és hogyan szeretné kiadásait csoportosítani a fenti számok alatt, hogy ezek a legérthetőbb logikát tükrözzé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9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00840" cy="29685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"/>
          <p:cNvPicPr/>
          <p:nvPr/>
        </p:nvPicPr>
        <p:blipFill>
          <a:blip r:embed="rId2"/>
          <a:stretch/>
        </p:blipFill>
        <p:spPr>
          <a:xfrm>
            <a:off x="857160" y="3214800"/>
            <a:ext cx="3071880" cy="20685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3"/>
          <a:stretch/>
        </p:blipFill>
        <p:spPr>
          <a:xfrm>
            <a:off x="1214280" y="4143240"/>
            <a:ext cx="4929480" cy="205740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zövegdoboz 5"/>
          <p:cNvSpPr/>
          <p:nvPr/>
        </p:nvSpPr>
        <p:spPr>
          <a:xfrm>
            <a:off x="71280" y="118116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\Source of co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zövegdoboz 10"/>
          <p:cNvSpPr/>
          <p:nvPr/>
        </p:nvSpPr>
        <p:spPr>
          <a:xfrm>
            <a:off x="6286680" y="1643040"/>
            <a:ext cx="2714400" cy="27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Választott partner társfinanszírozási forr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gyes mezők automatikusan számolódnak ki a partnerek jogi státuszának tükréb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mennyiben magánjogi szervezet bevételekre tesz szert a projektmegvalósítás során, úgy annak tervezett  mértékét itt kell meg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0" descr=""/>
          <p:cNvPicPr/>
          <p:nvPr/>
        </p:nvPicPr>
        <p:blipFill>
          <a:blip r:embed="rId1"/>
          <a:stretch/>
        </p:blipFill>
        <p:spPr>
          <a:xfrm>
            <a:off x="120600" y="1673280"/>
            <a:ext cx="616428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zövegdoboz 5"/>
          <p:cNvSpPr/>
          <p:nvPr/>
        </p:nvSpPr>
        <p:spPr>
          <a:xfrm>
            <a:off x="428760" y="1344600"/>
            <a:ext cx="771516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IMIR Application (pályázati) mod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A harmadik kiírás pályázatait az IMIR Front Office Application moduljának segítségével kell összeállítani és benyújtan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Papír alapon csak - az eredeti aláírásokkal ellátott – függelékeket kell benyújtani (pl. Vezető Partner nyilatkozata, Partnerségi nyilatkozat, fenntartható fejlődést biztosító intézkedések, stb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A pályázati űrlapot nem szükséges kinyomtatni, továbbá az elektronikus formában elérhető függelékek és egyéb támogató dokumentumok példányai is feltölthetőek a Front Office felületen keresztü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A pályázati modul elérhető a honlapunkon a pályázati kiírás oldalán: </a:t>
            </a:r>
            <a:r>
              <a:rPr b="0" lang="sk-SK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husk-cbc.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zövegdoboz 5"/>
          <p:cNvSpPr/>
          <p:nvPr/>
        </p:nvSpPr>
        <p:spPr>
          <a:xfrm>
            <a:off x="71280" y="118116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\Source of co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zövegdoboz 10"/>
          <p:cNvSpPr/>
          <p:nvPr/>
        </p:nvSpPr>
        <p:spPr>
          <a:xfrm>
            <a:off x="6286680" y="1357200"/>
            <a:ext cx="271440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lőrejelzésre a program költségvetésének kifizetési ütemezésének megtervezéséhez van szük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megadott összegek tájékoztató jellegűek, azonban a tervezett ütemezéstől való jelentős eltérés esetén a program a pénzügyi kötelezettségvállalás visszavonásának tárgya leh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e feledje, hogy a programban a visszafizetés hosszú, kétszintű folyamat, vagyis 4-5 hónap is eltelhet a kifizetett számlák benyújtásától az ellenőrző testületeknek addig, míg az ERFA támogatás összege kifizetésre kerü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10704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zövegdoboz 5"/>
          <p:cNvSpPr/>
          <p:nvPr/>
        </p:nvSpPr>
        <p:spPr>
          <a:xfrm>
            <a:off x="71280" y="118116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INDICATO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zövegdoboz 10"/>
          <p:cNvSpPr/>
          <p:nvPr/>
        </p:nvSpPr>
        <p:spPr>
          <a:xfrm>
            <a:off x="6286680" y="1214280"/>
            <a:ext cx="2714400" cy="45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NDIC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gram által meghatározott mutatók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Ön saját projekt-specifikus mutatói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ndic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áblázat a program által meghatározott mutatókat jeleníti me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A Modify gombra kattint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beállíthatja alapértéküke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célértéküket és kiválaszthatja megvalósításuk időszaká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ndatory oszlop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JTS által kötelezővé tet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t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a nincs bejelölés, Öntől függ, hogy szeretné-e a használni a projekt során (releváns-e a projekt szempontjából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212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MEANS OF COMMUNIC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zövegdoboz 10"/>
          <p:cNvSpPr/>
          <p:nvPr/>
        </p:nvSpPr>
        <p:spPr>
          <a:xfrm>
            <a:off x="6286680" y="142920"/>
            <a:ext cx="2714400" cy="31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lada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n kommunikációs eszközök kiválasztása az előre meghatározott listából, amelyek használatát tervezi a projekt végrehajtása sorá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Egyéb olyan kommunikációs eszköz leírása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Other tools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ezőben, amelyek használatát tervezi, de amelyek nem jelennek meg az előre meghatározott listá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6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3197160" cy="32144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"/>
          <p:cNvPicPr/>
          <p:nvPr/>
        </p:nvPicPr>
        <p:blipFill>
          <a:blip r:embed="rId2"/>
          <a:stretch/>
        </p:blipFill>
        <p:spPr>
          <a:xfrm>
            <a:off x="3000240" y="3429000"/>
            <a:ext cx="564372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PERMI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zövegdoboz 10"/>
          <p:cNvSpPr/>
          <p:nvPr/>
        </p:nvSpPr>
        <p:spPr>
          <a:xfrm>
            <a:off x="6215040" y="1643040"/>
            <a:ext cx="27147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jekt megvalósításához szükséges engedélyek listáj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ngedély adata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 (Type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eírás (Description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kiadásának időpontja (Issue date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érvényességének vége (Valid until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onosító (ID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6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9659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CHECKLIS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zövegdoboz 10"/>
          <p:cNvSpPr/>
          <p:nvPr/>
        </p:nvSpPr>
        <p:spPr>
          <a:xfrm>
            <a:off x="4286160" y="1643040"/>
            <a:ext cx="42148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Táblázatos formában elkészített ellenőrzőli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kérdések automatikusan kitöltésre kerülnek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ónak Igen/Nem választ kell adnia a jelölőnégyzetre kattint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érjük, menjen végig a lista valamennyi elemén, különben a rendszer hibát jelez az Ellenőrzési riport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407196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ANNEX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zövegdoboz 10"/>
          <p:cNvSpPr/>
          <p:nvPr/>
        </p:nvSpPr>
        <p:spPr>
          <a:xfrm>
            <a:off x="6215040" y="1643040"/>
            <a:ext cx="278604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knak a mellékleteknek a listája, amelyeket a pályázattal együtt kell benyújta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tt látható a melléklet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száma (Code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és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íme (Name),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hogy kötelező-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(Mandatory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vagy sem, és hogy milyen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satornán (Channel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keresztül kell beküldeni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gjelölheti, hogy egy adott mellékletet csatolt/elküldött-e, és ha igen, hány példány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0876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ATTACHM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zövegdoboz 10"/>
          <p:cNvSpPr/>
          <p:nvPr/>
        </p:nvSpPr>
        <p:spPr>
          <a:xfrm>
            <a:off x="5429160" y="1214280"/>
            <a:ext cx="35719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dokumentumok feltöltésére és létrehozására szolgá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Upload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segítségével csatolhatja a pályázathoz a szükséges támogató dokumentumoka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használatával a rendszer 4 dokumentumot állít elő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ályázati la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artnerségi nyilatkoza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P nyilatkozat HU/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alamennyi dokumentum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.pdf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ormátumban érhető e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generált dokumentumokat a rendszer automatikusan lementi és megjeleníti a táblázatban. Ezeket ki is nyomtathatja.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létrehozott dokumentumok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ttachments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ülben bármikor lekérhető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6" descr=""/>
          <p:cNvPicPr/>
          <p:nvPr/>
        </p:nvPicPr>
        <p:blipFill>
          <a:blip r:embed="rId1"/>
          <a:stretch/>
        </p:blipFill>
        <p:spPr>
          <a:xfrm>
            <a:off x="142920" y="1611360"/>
            <a:ext cx="514332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zövegdoboz 5"/>
          <p:cNvSpPr/>
          <p:nvPr/>
        </p:nvSpPr>
        <p:spPr>
          <a:xfrm>
            <a:off x="1500120" y="121428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A pályázat benyújtásának folyama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églalap 6"/>
          <p:cNvSpPr/>
          <p:nvPr/>
        </p:nvSpPr>
        <p:spPr>
          <a:xfrm>
            <a:off x="214200" y="1619280"/>
            <a:ext cx="87156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Regisztráció és bejelnetke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szükséges adatok felv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lenőrzése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+ A hiányzó adatok feltöltése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ső ellenőrzése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 – eredmény: Sikeres ellenőr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Dokumentumok feltöltése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- A pályázathoz szükséges dokumentumok elektornikus  változatának feltölté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leges dokumentumainak létrehozása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ektronikus benyújtása a JTS felé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Submi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Időszakos ellenőrzése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a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gomb segítségével bármikor ellenőrizheti a pályázat hiányzó adata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Dokumentumok megtekintése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– A pályázat adatainak feltöltése során bármikor a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gombra kattintva létrehozhatja és megtekintheti a pályázati formanyomtatványt .pdf formátumb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zövegdoboz 5"/>
          <p:cNvSpPr/>
          <p:nvPr/>
        </p:nvSpPr>
        <p:spPr>
          <a:xfrm>
            <a:off x="1571760" y="2071800"/>
            <a:ext cx="61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alibri"/>
              </a:rPr>
              <a:t>Köszönöm a figyelme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églalap 6"/>
          <p:cNvSpPr/>
          <p:nvPr/>
        </p:nvSpPr>
        <p:spPr>
          <a:xfrm>
            <a:off x="285840" y="3286080"/>
            <a:ext cx="87152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HU-SK JOINT TECHNICAL SECRETARI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Hubertova Henrie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Financial 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hubertova@vati.h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ww.husk-cbc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zövegdoboz 5"/>
          <p:cNvSpPr/>
          <p:nvPr/>
        </p:nvSpPr>
        <p:spPr>
          <a:xfrm>
            <a:off x="428760" y="1281240"/>
            <a:ext cx="7715160" cy="46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ndszerkövetelmény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kapcsol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perációs rendszer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Windows XP/Vista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Egyéb szoftvere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Microsoft Office/Open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Adobe Reader/Pdf 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Java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legújabb verzi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(Innen letölthető: </a:t>
            </a:r>
            <a:r>
              <a:rPr b="0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http://www.java.com/en/download/index.jsp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böngésző: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 Internet Explorer 6.0 vagy újabb verzió/ Mozilla Firefox 3.0 vagy újabb verz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zövegdoboz 5"/>
          <p:cNvSpPr/>
          <p:nvPr/>
        </p:nvSpPr>
        <p:spPr>
          <a:xfrm>
            <a:off x="214200" y="121428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Bejelentkez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8" descr=""/>
          <p:cNvPicPr/>
          <p:nvPr/>
        </p:nvPicPr>
        <p:blipFill>
          <a:blip r:embed="rId1"/>
          <a:stretch/>
        </p:blipFill>
        <p:spPr>
          <a:xfrm>
            <a:off x="214200" y="1785960"/>
            <a:ext cx="4608720" cy="1714320"/>
          </a:xfrm>
          <a:prstGeom prst="rect">
            <a:avLst/>
          </a:prstGeom>
          <a:ln w="0">
            <a:noFill/>
          </a:ln>
        </p:spPr>
      </p:pic>
      <p:sp>
        <p:nvSpPr>
          <p:cNvPr id="89" name="Szövegdoboz 3"/>
          <p:cNvSpPr/>
          <p:nvPr/>
        </p:nvSpPr>
        <p:spPr>
          <a:xfrm>
            <a:off x="214200" y="36813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gisztrá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"/>
          <p:cNvPicPr/>
          <p:nvPr/>
        </p:nvPicPr>
        <p:blipFill>
          <a:blip r:embed="rId2"/>
          <a:srcRect l="31169" t="41029" r="31278" b="40959"/>
          <a:stretch/>
        </p:blipFill>
        <p:spPr>
          <a:xfrm>
            <a:off x="214200" y="4286160"/>
            <a:ext cx="4572000" cy="1755720"/>
          </a:xfrm>
          <a:prstGeom prst="rect">
            <a:avLst/>
          </a:prstGeom>
          <a:ln w="0">
            <a:noFill/>
          </a:ln>
        </p:spPr>
      </p:pic>
      <p:sp>
        <p:nvSpPr>
          <p:cNvPr id="91" name="Szövegdoboz 7"/>
          <p:cNvSpPr/>
          <p:nvPr/>
        </p:nvSpPr>
        <p:spPr>
          <a:xfrm>
            <a:off x="4929120" y="1793880"/>
            <a:ext cx="3929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User name: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ármi, de megjegyezhető (pl. a szervezet nev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rendszer 5-10 perc múlva elküldi a jelszót, amely 1 óráig érvény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ejelentkezés után meg kell változtatnia jelszavá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Olyan új jelszót kell választania, amely legalább 8 karakter hosszú,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kis- és nagybetűket, valamint számokat is tartalma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Elfelejtett jelszó esetén a rendszer által generált új jelszó max. 1 órán át érvénye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zövegdoboz 5"/>
          <p:cNvSpPr/>
          <p:nvPr/>
        </p:nvSpPr>
        <p:spPr>
          <a:xfrm>
            <a:off x="71280" y="11811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Üdvözlő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zövegdoboz 7"/>
          <p:cNvSpPr/>
          <p:nvPr/>
        </p:nvSpPr>
        <p:spPr>
          <a:xfrm>
            <a:off x="5572080" y="1071720"/>
            <a:ext cx="321480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reate New Applic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új pályázat összeállít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indig ellenőrizze a View Applications menüpont alatt, hogy van-e már megkezdett pályáz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ontinue Applic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folytathatja a pályázatához szükséges adatok bevitelé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at kitöltése bármikor megszakítható – a rögzített adatok mentésre kerüln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ennyiben már benyújtotta pályázatát, a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 má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öbbé nem módosíth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mend Applicatio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ódosíthatja azokat a pályázatokat, amelyeket a JTS kiegészítés vagy módosítás céljából visszaküldött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8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35788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zövegdoboz 7"/>
          <p:cNvSpPr/>
          <p:nvPr/>
        </p:nvSpPr>
        <p:spPr>
          <a:xfrm>
            <a:off x="5429160" y="1643040"/>
            <a:ext cx="357192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jlé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lapbeállítás szerint üres, inaktí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ésőbb, automatikusan töltődik 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Gombo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 - az egész pályázatot törli, és teljes adatvesztéshez 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CHECK - a rendszer előre meghatározott, beépített algoritmusok és szabályok alapján ellenőrzi a pályázat tartalmá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XT – sikeres ellenőrzés után a benyújtás folyta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SUBMIT – az ellenőrzött és megfelelően kitöltött pályázatot benyúj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XIT – a képernyő elhagyása (valamennyi adat automatikusan mentésre ker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21496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zövegdoboz 7"/>
          <p:cNvSpPr/>
          <p:nvPr/>
        </p:nvSpPr>
        <p:spPr>
          <a:xfrm>
            <a:off x="5429160" y="1643040"/>
            <a:ext cx="3571920" cy="33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OVERVIEW – megjeleníti a pályázat legfontosabb általános és pénzügyi adatait. Valamennyi mező inaktív, adatbevitelre itt nincs lehető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SHEETS TO FILL IN – leírhatja és részletezheti a tervezett projektet. A táblázat soraihoz úgynevezett alképernyők tartoznak, amelyek a projekt különböző részeire vonatkozna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TTACHMETS – dokumentumok feltöltésére és létrehozására szolgá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21496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zövegdoboz 7"/>
          <p:cNvSpPr/>
          <p:nvPr/>
        </p:nvSpPr>
        <p:spPr>
          <a:xfrm>
            <a:off x="5429160" y="1643040"/>
            <a:ext cx="357192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IEW (Megnéz) - az adatok áttekintésé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 – az adatok szerkesztését vagy módosításá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478620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MAI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zövegdoboz 7"/>
          <p:cNvSpPr/>
          <p:nvPr/>
        </p:nvSpPr>
        <p:spPr>
          <a:xfrm>
            <a:off x="5429160" y="1643040"/>
            <a:ext cx="3571920" cy="24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TITLE - kifejező, de röv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CRONYM - &gt;25 karak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ORITY – kitöltéséhez szükséges a pályázati útmutató ismer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DURATION – a projekt időtartama &gt;/=24 hón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2084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3:22:11Z</dcterms:created>
  <dc:creator>holopszilveszter</dc:creator>
  <dc:description/>
  <dc:language>en-US</dc:language>
  <cp:lastModifiedBy>hubertovahenrieta</cp:lastModifiedBy>
  <dcterms:modified xsi:type="dcterms:W3CDTF">2011-01-26T15:42:19Z</dcterms:modified>
  <cp:revision>32</cp:revision>
  <dc:subject/>
  <dc:title>1. dia</dc:title>
</cp:coreProperties>
</file>