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1883-F590-45B1-88F8-57C6DC58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3FA8-DCF0-4B06-BDEC-3EC5CC47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5C1E-42C1-422C-AE49-54EF3729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A09-3FA3-45EB-8F10-F7F6F795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FCD-0044-49FC-8E13-23C2DA1A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71E-F2EC-4AB3-B9DD-B2F3BE7E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0126-C1BC-4199-8C4A-44E54986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EA06-A623-4E34-976F-86584B01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6E2-8089-484E-A80F-91E4802F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8C5-475C-4EDE-B958-BB6F7FFB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A61-CE86-4013-8B58-083EBCD8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FF26-A38B-4FB8-8BED-2C86E1AC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D83F-3DC7-4C27-9492-0B58C5183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1268280"/>
            <a:ext cx="8281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Interreg IVA” = ETE 2007-2013 elvárá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galább 1 határon túli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sélyegyenlőség (legalább 2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nntartható fejlődés (legalább 3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ilingualism (HU-SK nyelvek haszná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özös fejlesztés, végrehajtás, menedzsment és finanszírozás (legalább 2 alkalmazá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Vezető partner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50920" y="1052640"/>
            <a:ext cx="84247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További elvá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elképzelés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inanszírozá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rtnerség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delegálása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ális költségvetés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dikátorok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rchiválás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395280" y="2943360"/>
          <a:ext cx="8280360" cy="32731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elős szervezet/ szemé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e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e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nőrzés formá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...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840680" y="1270080"/>
            <a:ext cx="52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nőségi tervezés = Good „</a:t>
            </a:r>
            <a:r>
              <a:rPr b="1" lang="sk-SK" sz="1800" spc="-1" strike="noStrike" u="sng">
                <a:solidFill>
                  <a:srgbClr val="ff3300"/>
                </a:solidFill>
                <a:uFillTx/>
                <a:latin typeface="Arial"/>
              </a:rPr>
              <a:t>time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“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68360" y="981000"/>
            <a:ext cx="828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re vigyázzunk a költségvetés tervezésénél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n jogo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3-7.5 sorok összege nem haladhatja meg az adott partner személyi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ámogatási arány megfelelő meghatározása (állami támogatás?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20920"/>
            <a:ext cx="82818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Állami támogatás (state aid)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A Közös Szakmai Titkárság direkt módon nem nyújt információkat a pályázott tevékenységek állami támogatás megvizsgálásának szempontjából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érjük keressé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Zsanett Katalin  (HU, ENG, 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talin.zsanett.magyar@nfu.gov.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De előtte...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anulmányozzák át a PÁLYÁZATI ÚTMUTATÓ-ban feltüntetett jogo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evékenységek listáját és hozzájuk rendelt jogcíme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Vezető Partner nyilatkoz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a nyomtatvány elérhető magyar VP-nek magyarul, szlovák VP-nek szlovákul) - nyomtatva, törvényes képviselő által aláírva és lepecsétel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cc0000"/>
                </a:solidFill>
                <a:latin typeface="Arial"/>
              </a:rPr>
              <a:t>Partnerségi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az összes támogatásban részesülő partner törvényes képviselője által aláírva)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va, törvényes képviselő által aláírva és lepecsét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. melléklet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ennyiben a partnerek az együttműködési kritériumok közül a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„Közös fejleszté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melléklet - A projek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fenntarthatósá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melléklet - Az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esélyegyenlőség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70600" y="1052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Értékelés me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12760" y="30924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8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2423160" y="2852640"/>
            <a:ext cx="386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7:09:49Z</dcterms:created>
  <dc:creator>TorokZsolt</dc:creator>
  <dc:description/>
  <dc:language>en-US</dc:language>
  <cp:lastModifiedBy>TorokZsolt</cp:lastModifiedBy>
  <dcterms:modified xsi:type="dcterms:W3CDTF">2011-01-26T13:34:19Z</dcterms:modified>
  <cp:revision>117</cp:revision>
  <dc:subject/>
  <dc:title>1. dia</dc:title>
</cp:coreProperties>
</file>