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A91F-D3FD-4212-A158-5FCE3102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6741-B7CE-4E8B-A507-3F3F4EEB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6A55-54F6-4DC8-A9DA-DA306162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EFA5-C1AB-47BC-88F4-610030846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DE87-7FAC-4271-AF2C-AC22DC4F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F949-EB33-49AF-8A46-94F9F9DF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5F56-53D0-4127-9842-14B66BB2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E40E-980E-4AFD-BB39-5E1C00E2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7BCC-2140-49BB-95D3-E8D418FA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9587-CCFA-40BC-B8C2-8A999BF9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A20D-A099-46CA-94D4-1ABDD589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865F-BB77-4821-9227-A86D9D3F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6667-C1ED-4BE8-A2C4-BB105CE60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68360" y="1268280"/>
            <a:ext cx="82818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„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Interreg IVA” = ETE 2007-2013 elvárás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egalább 1 határon túli part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novatív, életképes/fenntartható projekt öt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sélyegyenlőség (legalább 2 intézked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nntartható fejlődés (legalább 3 intézked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Bilingualism (HU-SK nyelvek használ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özös fejlesztés, végrehajtás, menedzsment és finanszírozás (legalább 2 alkalmazá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Vezető partner e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250920" y="1052640"/>
            <a:ext cx="842472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További elvár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jekt elképzelés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inanszírozás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artnerség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delegálása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eális költségvetés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dikátorok partner és projekt szinten– kimenet (rövidtávú) és eredmény (rövidtávú) mutató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rchiválás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4" name=""/>
          <p:cNvGraphicFramePr/>
          <p:nvPr/>
        </p:nvGraphicFramePr>
        <p:xfrm>
          <a:off x="395280" y="2943360"/>
          <a:ext cx="8280360" cy="327312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657080"/>
                <a:gridCol w="1656000"/>
                <a:gridCol w="1655640"/>
              </a:tblGrid>
              <a:tr h="110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elős szervezet/ szemé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őke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me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enőrzés formá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...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1840680" y="1270080"/>
            <a:ext cx="52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Minőségi tervezés = Good „</a:t>
            </a:r>
            <a:r>
              <a:rPr b="1" lang="sk-SK" sz="1800" spc="-1" strike="noStrike" u="sng">
                <a:solidFill>
                  <a:srgbClr val="ff3300"/>
                </a:solidFill>
                <a:uFillTx/>
                <a:latin typeface="Arial"/>
              </a:rPr>
              <a:t>time</a:t>
            </a: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“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468360" y="981000"/>
            <a:ext cx="8281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Mire vigyázzunk a költségvetés tervezésénél</a:t>
            </a: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an jogos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.3-7.5 sorok összege nem haladhatja meg az adott partner személyi költségeinek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ámogatási arány megfelelő meghatározása (állami támogatás?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420920"/>
            <a:ext cx="828180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Állami támogatás (state aid)</a:t>
            </a: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A Közös Szakmai Titkárság direkt módon nem nyújt információkat a pályázott tevékenységek állami támogatás megvizsgálásának szempontjából!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érjük keressé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Zsanett Katalin  (HU, ENG, 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atalin.zsanett.magyar@nfu.gov.h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De előtte...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anulmányozzák át a PÁLYÁZATI ÚTMUTATÓ-ban feltüntetett jogo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evékenységek listáját és hozzájuk rendelt jogcíme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beküldendő dokumentumok a következők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Vezető Partner nyilatkoza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a nyomtatvány elérhető magyar VP-nek magyarul, szlovák VP-nek szlovákul) - nyomtatva, törvényes képviselő által aláírva és lepecsétel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cc0000"/>
                </a:solidFill>
                <a:latin typeface="Arial"/>
              </a:rPr>
              <a:t>Partnerségi nyilatkoz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az összes támogatásban részesülő partner törvényes képviselője által aláírva) 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yomtatva, törvényes képviselő által aláírva és lepecséte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. melléklet 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mennyiben a partnerek az együttműködési kritériumok közül a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„Közös fejlesztés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. melléklet - A projekt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fenntarthatóságá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iztosító intézkedések (a formátum ado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 melléklet - Az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esélyegyenlősége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iztosító intézkedések (a formátum ado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llék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llék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3270600" y="105264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Értékelés men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12760" y="30924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8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2423160" y="2852640"/>
            <a:ext cx="386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öszönöm figyelmük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usk-cbc.eu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7:09:49Z</dcterms:created>
  <dc:creator>TorokZsolt</dc:creator>
  <dc:description/>
  <dc:language>en-US</dc:language>
  <cp:lastModifiedBy>TorokZsolt</cp:lastModifiedBy>
  <dcterms:modified xsi:type="dcterms:W3CDTF">2011-01-26T13:34:19Z</dcterms:modified>
  <cp:revision>117</cp:revision>
  <dc:subject/>
  <dc:title>1. dia</dc:title>
</cp:coreProperties>
</file>