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9C4-F597-4C3B-BE54-5F4F748B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21F-868A-409B-95DC-237C9C18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E567-7473-469D-BD2C-7DC6F673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2CF6-BAAB-45AC-A88B-CE70DC22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A2C2-A4A1-49AD-9EF2-C43690DD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788E-8AE0-4173-8BEC-53D4793D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EF72-39F7-45D3-91D5-1B749B39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32F4-CEEB-4B61-B02D-7F3C734F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5E0E-F439-4DBE-990B-3B17C24C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CFB6-4468-4F1F-B82D-A1DC1ED7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8D97-3E89-4B60-9E38-E8C42FEA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C0F-F9B4-4C3C-B1AB-8093ABEF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D3D4-7C5D-4966-8853-FEEF55BF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23DE-E361-4EFB-8281-E7A9CC21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15B7-CABE-41E4-A99B-B25AAFAA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1D6D-10C2-4DC9-8BD4-4A330B9D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635D-292B-4D6E-9756-A73B17F7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07C3-D404-43DA-BC60-60C1369D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9687-276E-4ED0-9BFE-CC097F89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D80-73DA-44AF-B5ED-ACE5D5DB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4EB-172C-4308-AE6C-E870F69E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678B-8B3B-4FB5-9E8A-52984636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F627-E587-4997-9F1C-3E3DB82D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915D-2FD7-4F1B-A157-65B5B2EC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443F-81B1-425D-8591-9AD5F658F4C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BEAB-9BDC-40DF-ACBE-A6439D096DD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7. E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TorokZsolt</cp:lastModifiedBy>
  <dcterms:modified xsi:type="dcterms:W3CDTF">2011-01-26T13:19:58Z</dcterms:modified>
  <cp:revision>53</cp:revision>
  <dc:subject/>
  <dc:title>Info nap 3. pályázati felhívás</dc:title>
</cp:coreProperties>
</file>