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3.wmf" ContentType="image/x-wmf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DC88-42B3-4953-9DB3-222E0255B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1499-6829-4ACD-B706-4E034BF1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C36E-BB31-4391-8460-B46281E4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C403-4744-4254-B80E-EAA46DAAB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FC20-F687-4A3B-88C6-5FEF9CAC8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28AE-2D7C-41BD-8EDE-AE03A412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A986-9A9F-4111-BA1F-A923F853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CACB-0FD9-40F9-B6EE-68F759A3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788F-1911-4948-8C65-7383B295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95BC-99DC-46C6-9955-A465157A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81CA-4D78-4D14-A259-FB6B3D39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5949-A93A-4BCF-BF19-7D2CB009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34C3-7BC7-45C9-A134-4294EC23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7076-D78F-4E0E-A43F-149431BA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FF7C-6349-49C1-9667-D1B86105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F22C-3C35-456D-8A82-A6D8E7BE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CFE4-2CA8-401C-B369-6579A47D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6FE0-9F98-4B06-BDF2-FAF9B08A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321D-8CD5-4B1B-BACB-789B3566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5880-4A3F-4363-A312-E53475C2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B698-6DFC-4C25-B237-268498A1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B032-9E87-4E5D-9DB0-72301C35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FAA2-5CF4-4829-A8A8-ED494614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41F2-C13B-4F4F-B1B2-845DAC16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4FF9-8CDF-4126-BED8-A1B539B75052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A7A3-5484-447E-97FE-F68718C3F5FF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hhubertova@vati.hu" TargetMode="External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Front Office Pályázati Modu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898989"/>
                </a:solidFill>
                <a:latin typeface="Calibri"/>
              </a:rPr>
              <a:t>A harmadik kiírás online felületének bemutatá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lcím 2"/>
          <p:cNvSpPr/>
          <p:nvPr/>
        </p:nvSpPr>
        <p:spPr>
          <a:xfrm>
            <a:off x="1547640" y="5300640"/>
            <a:ext cx="64008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(k</a:t>
            </a:r>
            <a:r>
              <a:rPr b="0" lang="hu-HU" sz="2400" spc="-1" strike="noStrike">
                <a:solidFill>
                  <a:srgbClr val="898989"/>
                </a:solidFill>
                <a:latin typeface="Calibri"/>
              </a:rPr>
              <a:t>észítette: Holop Szilveszter, JTS</a:t>
            </a: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– 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 – 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iválasztás után megjelenik a PARTNERSHIP képernyő, amely három fület tartalmaz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ás (Identifi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pviselők (Representativ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Üzleti adatok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 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357960" y="1643040"/>
            <a:ext cx="264312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zövegdoboz 7"/>
          <p:cNvSpPr/>
          <p:nvPr/>
        </p:nvSpPr>
        <p:spPr>
          <a:xfrm>
            <a:off x="6500880" y="16034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ARTNERSHIP\Business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zövegdoboz 7"/>
          <p:cNvSpPr/>
          <p:nvPr/>
        </p:nvSpPr>
        <p:spPr>
          <a:xfrm>
            <a:off x="6000840" y="1285920"/>
            <a:ext cx="3000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/Project management experience of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(utolsó lezárt üzleti é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(helyszín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5929200" y="1643040"/>
            <a:ext cx="3000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MÓD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Value (érték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escription (leírás)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5715000" y="1643040"/>
            <a:ext cx="32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5372280" cy="2233440"/>
          </a:xfrm>
          <a:prstGeom prst="rect">
            <a:avLst/>
          </a:prstGeom>
          <a:ln w="0">
            <a:noFill/>
          </a:ln>
        </p:spPr>
      </p:pic>
      <p:pic>
        <p:nvPicPr>
          <p:cNvPr id="126" name="Szövegdoboz 6" descr=""/>
          <p:cNvPicPr/>
          <p:nvPr/>
        </p:nvPicPr>
        <p:blipFill>
          <a:blip r:embed="rId2"/>
          <a:stretch/>
        </p:blipFill>
        <p:spPr>
          <a:xfrm>
            <a:off x="133200" y="4206960"/>
            <a:ext cx="89139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142920" y="292896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30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eleváns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várható költsé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10"/>
          <p:cNvSpPr/>
          <p:nvPr/>
        </p:nvSpPr>
        <p:spPr>
          <a:xfrm>
            <a:off x="6286680" y="142920"/>
            <a:ext cx="2714400" cy="56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első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só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artner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3 költségvetési fü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Source of co-financing of selecte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észletes partneri költségvetési tábláza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Detailed partner budget 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teljes előrejelzése periódusonkén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otal spending forecast for selected partner per peri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5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zövegdoboz 10"/>
          <p:cNvSpPr/>
          <p:nvPr/>
        </p:nvSpPr>
        <p:spPr>
          <a:xfrm>
            <a:off x="6286680" y="164304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servic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4) 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pment cost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/>
          <p:cNvPicPr/>
          <p:nvPr/>
        </p:nvPicPr>
        <p:blipFill>
          <a:blip r:embed="rId2"/>
          <a:stretch/>
        </p:blipFill>
        <p:spPr>
          <a:xfrm>
            <a:off x="857160" y="3214800"/>
            <a:ext cx="3071880" cy="2068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3"/>
          <a:stretch/>
        </p:blipFill>
        <p:spPr>
          <a:xfrm>
            <a:off x="1214280" y="4143240"/>
            <a:ext cx="4929480" cy="2057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magánjogi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1"/>
          <a:stretch/>
        </p:blipFill>
        <p:spPr>
          <a:xfrm>
            <a:off x="120600" y="1673280"/>
            <a:ext cx="61642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Application (pályázati)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harmadik kiírás pályázatait az IMIR Front Office Application moduljának segítségével kell összeállítani és benyújt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Papír alapon csak - az eredeti aláírásokkal ellátott – függelék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űrlapot nem szükséges kinyomtatni, továbbá az elektronikus formában elérhető függelékek és egyéb támogató dokumentumok példányai is feltölthetőek a Front Office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modul elérhető a honlapunkon a pályázati kiírás oldalán: </a:t>
            </a:r>
            <a:r>
              <a:rPr b="0" lang="sk-SK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zövegdoboz 10"/>
          <p:cNvSpPr/>
          <p:nvPr/>
        </p:nvSpPr>
        <p:spPr>
          <a:xfrm>
            <a:off x="6286680" y="135720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 feledje, hogy a programban a visszafizetés hosszú, kétszintű folyamat, vagyis 4-5 hónap is eltelhet a kifizetett számlák benyújtásától az ellenőrző testületeknek addig, míg az ERFA támogatás összege kifizetésre kerü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1070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zövegdoboz 10"/>
          <p:cNvSpPr/>
          <p:nvPr/>
        </p:nvSpPr>
        <p:spPr>
          <a:xfrm>
            <a:off x="6286680" y="1214280"/>
            <a:ext cx="27144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áblázat a program által meghatározott mutatókat jeleníti me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odify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datory 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ther tools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3197160" cy="3214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3000240" y="3429000"/>
            <a:ext cx="5643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ERM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 (Typ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 (Description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 (Issue dat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 (Valid until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 (ID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6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HECKL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ANNE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zövegdoboz 10"/>
          <p:cNvSpPr/>
          <p:nvPr/>
        </p:nvSpPr>
        <p:spPr>
          <a:xfrm>
            <a:off x="6215040" y="1643040"/>
            <a:ext cx="27860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áma (Code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íme (Name),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hogy kötelező-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Mandator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vagy sem, és hogy milyen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satornán (Channel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keresztül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gjelölheti, hogy egy adott mellékletet csatolt/elküldött-e, és ha igen, hány példány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TTACH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zövegdoboz 10"/>
          <p:cNvSpPr/>
          <p:nvPr/>
        </p:nvSpPr>
        <p:spPr>
          <a:xfrm>
            <a:off x="5429160" y="1214280"/>
            <a:ext cx="35719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ttachment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5143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ubertova Henri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Financial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hubertova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608720" cy="1714320"/>
          </a:xfrm>
          <a:prstGeom prst="rect">
            <a:avLst/>
          </a:prstGeom>
          <a:ln w="0">
            <a:noFill/>
          </a:ln>
        </p:spPr>
      </p:pic>
      <p:sp>
        <p:nvSpPr>
          <p:cNvPr id="89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2"/>
          <a:srcRect l="31169" t="41029" r="31278" b="40959"/>
          <a:stretch/>
        </p:blipFill>
        <p:spPr>
          <a:xfrm>
            <a:off x="214200" y="428616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91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de megjegyezhető 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mentésre kerül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643040"/>
            <a:ext cx="357192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UBMIT – az ellenőrzött és megfelelően kitöltött pályázato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643040"/>
            <a:ext cx="357192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VERVIEW – 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HEETS TO FILL IN – leírhatja és részletezheti a tervezett projektet. A táblázat soraihoz úgynevezett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TTACHMETS – dokumentumok feltöltésére és létrehozására szolgá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643040"/>
            <a:ext cx="35719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(Megnéz) - 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az adatok szerkesztését vagy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643040"/>
            <a:ext cx="35719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- kifejező, de röv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- &gt;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 – 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 – 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ubertovahenrieta</cp:lastModifiedBy>
  <dcterms:modified xsi:type="dcterms:W3CDTF">2011-01-26T15:42:19Z</dcterms:modified>
  <cp:revision>32</cp:revision>
  <dc:subject/>
  <dc:title>1. dia</dc:title>
</cp:coreProperties>
</file>