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494B04-E249-4012-8EC1-D479B219830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C957CBF-701F-4BF1-AF56-B6ED9268F77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295B-B55A-495B-A2D5-5D30E053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B524-D741-41A0-9713-06CB08AE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1D4C-36C1-4C9C-9E21-4B02209B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8CEB-B873-4DAC-8049-A52CCE9A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52E-0C43-48A7-8151-DCB152C3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38C9-E1A7-4BA4-A1CA-5A5B5D13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11B2-6F27-4450-B583-07938F47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B403-9348-426D-90D1-6A8E6920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235D-103D-4E93-BCD8-D047B63D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E836-0D47-4EA3-8DD1-758B3B60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3EC4-682A-4CF6-B371-7BF1B308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0A38-C9F2-45D9-9435-EC84DEBE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F20A-159F-442F-9ADE-B069C7274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rtner Search Forum, Lučenec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2. augus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L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23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-10584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45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a 1.7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 EUR) – pomoc a rady poskytuje komunikačná manažérka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4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ýzva na predkladanie žiad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truktúra Štúdie uskutočniteľ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zor projektovej žiadosti – informatív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užívateľský manuál pre I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oprávnených výdav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+ Príručka pre prijímateľ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v HU/SK jazyko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nie je možné doplnenie/oprav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í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9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4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23. júna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 mes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9 855 581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1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8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5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504800"/>
            <a:ext cx="849636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investičné / mäkk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2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prava plánov a štúdií, tvorba sietí, kultúrne a spoločenské podujatia, výmena skúseností, propagačné materiály a aktivity a pod.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5.1, 1.6.1, 1.6.2 a 1.7.1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vestičn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4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stavebné a rekonštrukčné práce, podpora podnikania, výskum a vývoj, turizmus, zdravotníctvo, ŽP, odpady, obnoviteľné zdroje, dopravná infraštruktúr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1.1, 1.2.1, 1.3.1, 1.4.1, 2.1.1, 2.2.1, 2.3.1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3.2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nné delenie úloh a zodpoved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57120" y="1500120"/>
          <a:ext cx="8229600" cy="441000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1044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1.6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é využívanie a rozvoj ľudských zdroj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1.6.2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ciatívy spolupráce na trhu prá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br>
                        <a:rPr sz="2400"/>
                      </a:b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upráca v oblasti vzdelávania dospelých a celoživotného vzdeláv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1-08-01T14:47:50Z</dcterms:modified>
  <cp:revision>127</cp:revision>
  <dc:subject/>
  <dc:title>1. dia</dc:title>
</cp:coreProperties>
</file>