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7FD7A-08CB-4DC1-8EDD-F6510BCBD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74DE0-917B-4615-ACB2-91135169C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1F2C2-714C-406F-AB7A-8EC9B9730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8192F-2F01-45F1-9CCE-C989F2E2C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05297-1DBB-403A-A839-D9EDF6794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72818-902B-4301-9B70-3AA7D73BE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C3C51-29B0-4D7A-B356-64B93F904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F717D-F119-4ACF-BBB0-6B1F127BF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6CCD2-C878-42BC-A547-22F3BBE00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957480" y="274320"/>
            <a:ext cx="5400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4C240-75CC-4714-8947-C464A46A3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D1B3A-932C-4468-9114-55B435F8B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C5F81-9BA1-4409-B072-665B3D5BC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F592A-DB4A-4227-89B2-B4B440A7E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6A6DD-28C3-4D4E-9238-1D6959383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73C4B-35CD-4733-A319-4A1B0D743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559D8-12F3-4CC3-8F0E-E98E1F803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A854E-F41C-456D-A72E-7C796BE81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3FF9C-2E47-4744-AF42-A3B482CF0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FE9AE-F2EC-4A97-8126-F8A190649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6D100-9BB9-4764-A6CC-3CDEE00C4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957480" y="274320"/>
            <a:ext cx="5400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D66BF-9A51-480F-B649-9BE2BD65A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5576E-47D0-4D71-A695-3C921D95E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0C574-CE8D-442C-A055-CACAB9F01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85E38-BC31-4832-992A-41597C385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E71A3-7EEE-4244-88B8-683003F07EBC}" type="slidenum">
              <a:rPr b="0" lang="hu-H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EA192-C32F-4164-9BD8-5B51496062F0}" type="slidenum">
              <a:rPr b="0" lang="hu-H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husk-cbc.eu/" TargetMode="External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mailto:abiriki@husk-cbc.eu" TargetMode="External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husk-cbc.eu/" TargetMode="External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500" spc="-1" strike="noStrike">
                <a:solidFill>
                  <a:srgbClr val="000000"/>
                </a:solidFill>
                <a:latin typeface="Arial"/>
              </a:rPr>
              <a:t>Magyarország-Szlovákia Határon Átnyúló </a:t>
            </a:r>
            <a:br>
              <a:rPr sz="2500"/>
            </a:br>
            <a:r>
              <a:rPr b="0" lang="hu-HU" sz="2500" spc="-1" strike="noStrike">
                <a:solidFill>
                  <a:srgbClr val="000000"/>
                </a:solidFill>
                <a:latin typeface="Arial"/>
              </a:rPr>
              <a:t>Együttműködési Program 2007-2013 </a:t>
            </a:r>
            <a:br>
              <a:rPr sz="2500"/>
            </a:br>
            <a:br>
              <a:rPr sz="3200"/>
            </a:br>
            <a:r>
              <a:rPr b="1" lang="hu-HU" sz="3200" spc="-1" strike="noStrike">
                <a:solidFill>
                  <a:srgbClr val="000000"/>
                </a:solidFill>
                <a:latin typeface="Arial"/>
              </a:rPr>
              <a:t>Partnerkereső fóru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4797000"/>
            <a:ext cx="6400800" cy="84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Biriki Ariann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HU-SK JTS, Budapes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Lučenec, 2011.08.0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4K – együttműködési kritériumo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Calibri"/>
              </a:rPr>
              <a:t>Közös fejleszté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Calibri"/>
              </a:rPr>
              <a:t>Közös végrehajtá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Calibri"/>
              </a:rPr>
              <a:t>Közös alkalmazottak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Calibri"/>
              </a:rPr>
              <a:t>Közös finanszírozá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4"/>
          <p:cNvSpPr/>
          <p:nvPr/>
        </p:nvSpPr>
        <p:spPr>
          <a:xfrm>
            <a:off x="539640" y="5013360"/>
            <a:ext cx="8209080" cy="794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Négy feltétel közül </a:t>
            </a:r>
            <a:r>
              <a:rPr b="1" i="1" lang="hu-HU" sz="2300" spc="-1" strike="noStrike">
                <a:solidFill>
                  <a:srgbClr val="000000"/>
                </a:solidFill>
                <a:latin typeface="Arial"/>
              </a:rPr>
              <a:t>legalább kettőt</a:t>
            </a: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 bizonyíthatóan teljesíteni kell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2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7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2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7" dur="5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564000" y="2599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Arial"/>
              </a:rPr>
              <a:t>IMIR 2007-2013 Monitoring és Információs rendsz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IMIR 2007-2013 </a:t>
            </a:r>
            <a:r>
              <a:rPr b="1" i="1" lang="hu-HU" sz="2800" spc="-1" strike="noStrike">
                <a:solidFill>
                  <a:srgbClr val="c00000"/>
                </a:solidFill>
                <a:latin typeface="Arial"/>
              </a:rPr>
              <a:t>Pályázati modul 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(Application module) HU-SK nyelven</a:t>
            </a:r>
            <a:br>
              <a:rPr sz="2800"/>
            </a:b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IMIR 2007-2013 </a:t>
            </a:r>
            <a:r>
              <a:rPr b="1" i="1" lang="hu-HU" sz="2800" spc="-1" strike="noStrike">
                <a:solidFill>
                  <a:srgbClr val="c00000"/>
                </a:solidFill>
                <a:latin typeface="Arial"/>
              </a:rPr>
              <a:t>Nemzeti modul</a:t>
            </a:r>
            <a:r>
              <a:rPr b="1" lang="hu-HU" sz="2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(National module) – magyar  partnerek részére – ENG</a:t>
            </a:r>
            <a:br>
              <a:rPr sz="2800"/>
            </a:b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IMIR 2007-2013 </a:t>
            </a:r>
            <a:r>
              <a:rPr b="1" i="1" lang="hu-HU" sz="2800" spc="-1" strike="noStrike">
                <a:solidFill>
                  <a:srgbClr val="c00000"/>
                </a:solidFill>
                <a:latin typeface="Arial"/>
              </a:rPr>
              <a:t>Közös modul</a:t>
            </a:r>
            <a:r>
              <a:rPr b="1" lang="hu-HU" sz="2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(Joint module) – Vezető Partnerek számára – E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9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4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9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000000"/>
                </a:solidFill>
                <a:latin typeface="Arial"/>
                <a:ea typeface="Arial"/>
              </a:rPr>
              <a:t>Végül…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  <a:ea typeface="Arial"/>
              </a:rPr>
              <a:t>Bővebb információkért, kérjük keressék fel honlapunkat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1"/>
              </a:rPr>
              <a:t>www.husk-cbc.eu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  <a:ea typeface="Arial"/>
              </a:rPr>
              <a:t>Aktuális információ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  <a:ea typeface="Arial"/>
              </a:rPr>
              <a:t>Kézikönyvek (pl.: IMIR 2007-2013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  <a:ea typeface="Arial"/>
              </a:rPr>
              <a:t>Útmutatók (pl.: elszámolható költségekről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  <a:ea typeface="Arial"/>
              </a:rPr>
              <a:t>Egyéb letölthető dokumentumok (pl.: PIH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2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20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20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200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2000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2000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Köszönöm a figyelmüket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Sikeres pályázást kívánunk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Biriki Ariann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abiriki@husk-cbc.eu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0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3" dur="5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8" dur="500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1" dur="500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000000"/>
                </a:solidFill>
                <a:latin typeface="Arial"/>
              </a:rPr>
              <a:t>Bevezeté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600" spc="-1" strike="noStrike">
                <a:solidFill>
                  <a:srgbClr val="000000"/>
                </a:solidFill>
                <a:latin typeface="Arial"/>
              </a:rPr>
              <a:t>célja</a:t>
            </a: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: elsősorban partnerkeresés + felmerült kérdések megvitatás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600" spc="-1" strike="noStrike">
                <a:solidFill>
                  <a:srgbClr val="000000"/>
                </a:solidFill>
                <a:latin typeface="Arial"/>
              </a:rPr>
              <a:t>résztvevői</a:t>
            </a: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: lehetséges pályázók és Közös Technikai Titkárság képviselői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600" spc="-1" strike="noStrike">
                <a:solidFill>
                  <a:srgbClr val="000000"/>
                </a:solidFill>
                <a:latin typeface="Arial"/>
              </a:rPr>
              <a:t>munkamenete</a:t>
            </a: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: rövid általános információk ismertetése a programról, a felhívásról és maga a </a:t>
            </a:r>
            <a:r>
              <a:rPr b="0" lang="hu-HU" sz="2600" spc="-1" strike="noStrike">
                <a:solidFill>
                  <a:srgbClr val="c0504d"/>
                </a:solidFill>
                <a:latin typeface="Arial"/>
              </a:rPr>
              <a:t>partnerkeresés</a:t>
            </a: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 a munkacsoportos megbeszélések sorá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000000"/>
                </a:solidFill>
                <a:latin typeface="Calibri"/>
              </a:rPr>
              <a:t>Evolúció?!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468360" y="1413000"/>
          <a:ext cx="8229600" cy="4572000"/>
        </p:xfrm>
        <a:graphic>
          <a:graphicData uri="http://schemas.openxmlformats.org/drawingml/2006/table">
            <a:tbl>
              <a:tblPr/>
              <a:tblGrid>
                <a:gridCol w="2057400"/>
                <a:gridCol w="2058840"/>
                <a:gridCol w="2055960"/>
                <a:gridCol w="2057400"/>
              </a:tblGrid>
              <a:tr h="1006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A 2001-2002-es Magyarország-Szlovákia Phare CBC (Cross-border Co-operation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- Közös Kisprojekt Ala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Magyarország-Szlovákia-Ukrajna Szomszédsági Program 2004-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– </a:t>
                      </a:r>
                      <a:r>
                        <a:rPr b="1" lang="hu-H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. pályázati kiírá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Magyarország-Szlovákia Határon Átnyúló Együttműködési Program 2007-20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– </a:t>
                      </a:r>
                      <a:r>
                        <a:rPr b="1" lang="hu-H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. pályázati kiírá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A kiírás indikatív pénzügyi kere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HU: 372 000 EU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SK: 372 000 EU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HU: 8  522 875 EU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SK: 5 548 000 EUR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63 538 887 EU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rojekttípusok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Különáll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Közös</a:t>
                      </a: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- Tükör</a:t>
                      </a: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, </a:t>
                      </a: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- Kiegészítő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- Különáll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Közö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rojektjavaslatok példányszám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 eredeti + 7 másolat + elektronikus adathordoz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 eredeti + 5 másolat + elektronikus adathordoz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 eredeti + 2 másolat + elektronikus adathordoz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Jóváhagyott projektjavaslatok szám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001 program (HU0109): 9 d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002 program (2002/000-604): 11 d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47 d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06 db + 18 db projekt koncepci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Szakmai értékelés elvárása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Határon átnyúló hatá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- Határon átnyúló hatá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- Költséghatékonysá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ff0000"/>
                          </a:solidFill>
                          <a:latin typeface="Calibri"/>
                          <a:ea typeface="Times New Roman"/>
                        </a:rPr>
                        <a:t>- Határon átnyúló hatá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ff0000"/>
                          </a:solidFill>
                          <a:latin typeface="Calibri"/>
                          <a:ea typeface="Times New Roman"/>
                        </a:rPr>
                        <a:t>- Fenntartható fejlődé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ff0000"/>
                          </a:solidFill>
                          <a:latin typeface="Calibri"/>
                          <a:ea typeface="Times New Roman"/>
                        </a:rPr>
                        <a:t>- Környezeti fenntarthatósá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ff0000"/>
                          </a:solidFill>
                          <a:latin typeface="Calibri"/>
                          <a:ea typeface="Times New Roman"/>
                        </a:rPr>
                        <a:t>- Esélyegyenlősé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f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ff0000"/>
                          </a:solidFill>
                          <a:latin typeface="Calibri"/>
                          <a:ea typeface="Times New Roman"/>
                        </a:rPr>
                        <a:t> </a:t>
                      </a:r>
                      <a:r>
                        <a:rPr b="0" lang="hu-HU" sz="1200" spc="-1" strike="noStrike">
                          <a:solidFill>
                            <a:srgbClr val="ff0000"/>
                          </a:solidFill>
                          <a:latin typeface="Calibri"/>
                          <a:ea typeface="Times New Roman"/>
                        </a:rPr>
                        <a:t>Költséghatékonysá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f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 </a:t>
                      </a:r>
                      <a:r>
                        <a:rPr b="0" lang="sk-SK" sz="1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Vezető partner elv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f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 </a:t>
                      </a:r>
                      <a:r>
                        <a:rPr b="0" lang="sk-SK" sz="1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4 kritériu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564000" y="2599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 u="sng">
                <a:solidFill>
                  <a:srgbClr val="000000"/>
                </a:solidFill>
                <a:uFillTx/>
                <a:latin typeface="Arial"/>
              </a:rPr>
              <a:t>Pályázati Formanyomtatvány </a:t>
            </a:r>
            <a:br>
              <a:rPr sz="2800"/>
            </a:br>
            <a:r>
              <a:rPr b="1" lang="sk-SK" sz="2800" spc="-1" strike="noStrike" u="sng">
                <a:solidFill>
                  <a:srgbClr val="000000"/>
                </a:solidFill>
                <a:uFillTx/>
                <a:latin typeface="Arial"/>
              </a:rPr>
              <a:t>- MÚL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Text Box 4"/>
          <p:cNvSpPr/>
          <p:nvPr/>
        </p:nvSpPr>
        <p:spPr>
          <a:xfrm>
            <a:off x="468360" y="1484280"/>
            <a:ext cx="230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. és 2. pályázati felhívá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5"/>
          <p:cNvSpPr/>
          <p:nvPr/>
        </p:nvSpPr>
        <p:spPr>
          <a:xfrm>
            <a:off x="1403280" y="19162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6" descr="képek 001"/>
          <p:cNvPicPr/>
          <p:nvPr/>
        </p:nvPicPr>
        <p:blipFill>
          <a:blip r:embed="rId1"/>
          <a:stretch/>
        </p:blipFill>
        <p:spPr>
          <a:xfrm>
            <a:off x="395280" y="2492280"/>
            <a:ext cx="2517840" cy="3348000"/>
          </a:xfrm>
          <a:prstGeom prst="rect">
            <a:avLst/>
          </a:prstGeom>
          <a:ln w="0">
            <a:noFill/>
          </a:ln>
        </p:spPr>
      </p:pic>
      <p:grpSp>
        <p:nvGrpSpPr>
          <p:cNvPr id="93" name="Group 7"/>
          <p:cNvGrpSpPr/>
          <p:nvPr/>
        </p:nvGrpSpPr>
        <p:grpSpPr>
          <a:xfrm>
            <a:off x="3203640" y="1557360"/>
            <a:ext cx="2376360" cy="3736800"/>
            <a:chOff x="3203640" y="1557360"/>
            <a:chExt cx="2376360" cy="3736800"/>
          </a:xfrm>
        </p:grpSpPr>
        <p:pic>
          <p:nvPicPr>
            <p:cNvPr id="94" name="Picture 8" descr="Kép 016"/>
            <p:cNvPicPr/>
            <p:nvPr/>
          </p:nvPicPr>
          <p:blipFill>
            <a:blip r:embed="rId2"/>
            <a:stretch/>
          </p:blipFill>
          <p:spPr>
            <a:xfrm>
              <a:off x="3203640" y="1557360"/>
              <a:ext cx="2376360" cy="373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Rectangle 9"/>
            <p:cNvSpPr/>
            <p:nvPr/>
          </p:nvSpPr>
          <p:spPr>
            <a:xfrm>
              <a:off x="5205240" y="2075400"/>
              <a:ext cx="244080" cy="23076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" name="Group 10"/>
          <p:cNvGrpSpPr/>
          <p:nvPr/>
        </p:nvGrpSpPr>
        <p:grpSpPr>
          <a:xfrm>
            <a:off x="6084720" y="1916280"/>
            <a:ext cx="2521080" cy="3808080"/>
            <a:chOff x="6084720" y="1916280"/>
            <a:chExt cx="2521080" cy="3808080"/>
          </a:xfrm>
        </p:grpSpPr>
        <p:pic>
          <p:nvPicPr>
            <p:cNvPr id="97" name="Picture 11" descr="Kép 012"/>
            <p:cNvPicPr/>
            <p:nvPr/>
          </p:nvPicPr>
          <p:blipFill>
            <a:blip r:embed="rId3"/>
            <a:stretch/>
          </p:blipFill>
          <p:spPr>
            <a:xfrm>
              <a:off x="6084720" y="1916280"/>
              <a:ext cx="2521080" cy="38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Rectangle 12"/>
            <p:cNvSpPr/>
            <p:nvPr/>
          </p:nvSpPr>
          <p:spPr>
            <a:xfrm>
              <a:off x="7776360" y="3501360"/>
              <a:ext cx="259200" cy="175680"/>
            </a:xfrm>
            <a:prstGeom prst="rect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743280" y="18864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 u="sng">
                <a:solidFill>
                  <a:srgbClr val="000000"/>
                </a:solidFill>
                <a:uFillTx/>
                <a:latin typeface="Arial"/>
              </a:rPr>
              <a:t>Pályázati formanyomtatvány - JEL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5" descr=""/>
          <p:cNvPicPr/>
          <p:nvPr/>
        </p:nvPicPr>
        <p:blipFill>
          <a:blip r:embed="rId1"/>
          <a:srcRect l="22881" t="29339" r="17894" b="13700"/>
          <a:stretch/>
        </p:blipFill>
        <p:spPr>
          <a:xfrm>
            <a:off x="285840" y="1714680"/>
            <a:ext cx="4680000" cy="364644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6"/>
          <p:cNvSpPr/>
          <p:nvPr/>
        </p:nvSpPr>
        <p:spPr>
          <a:xfrm>
            <a:off x="179280" y="1197000"/>
            <a:ext cx="532944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3. és további pályázati felhívás elvárá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7" descr="kepek 005"/>
          <p:cNvPicPr/>
          <p:nvPr/>
        </p:nvPicPr>
        <p:blipFill>
          <a:blip r:embed="rId2"/>
          <a:stretch/>
        </p:blipFill>
        <p:spPr>
          <a:xfrm>
            <a:off x="5435640" y="1700280"/>
            <a:ext cx="3133800" cy="417672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8"/>
          <p:cNvSpPr/>
          <p:nvPr/>
        </p:nvSpPr>
        <p:spPr>
          <a:xfrm>
            <a:off x="179280" y="5445000"/>
            <a:ext cx="482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IMIR 2007-2013 Monitoring és Információs Rendsz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000000"/>
                </a:solidFill>
                <a:latin typeface="Arial"/>
              </a:rPr>
              <a:t>HUSK 1101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Lendületben a magyar-szlovák határmenti fejlesztése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0000"/>
                </a:solidFill>
                <a:latin typeface="Arial"/>
              </a:rPr>
              <a:t>2011. június 23. – 2011. október 21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Elektronikus beadási határidő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0000"/>
                </a:solidFill>
                <a:latin typeface="Arial"/>
              </a:rPr>
              <a:t>2011. október 21. 23.59.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z IMIR 2007-2013 Monitoring és Információs Rendszer erre szolgáló elektronikus pályázati felületén (IMIR 2007-2013 Front Office) – elérhető a </a:t>
            </a:r>
            <a:r>
              <a:rPr b="0" lang="hu-HU" sz="14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www.husk-cbc.eu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oldalról</a:t>
            </a:r>
            <a:r>
              <a:rPr b="0" lang="hu-HU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 kért papír alapú dokumentumok beadási határidej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0000"/>
                </a:solidFill>
                <a:latin typeface="Arial"/>
              </a:rPr>
              <a:t>2011. október 28. 23.59.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(postai bélyegző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0000"/>
                </a:solidFill>
                <a:latin typeface="Arial"/>
              </a:rPr>
              <a:t>2011. október 28. 12.00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(személyesen vagy meghatalmazott útján a 1016 Budapest, Gellérthegy u. 30-32. Iratkezelés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6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ff0000"/>
                </a:solidFill>
                <a:latin typeface="Arial"/>
              </a:rPr>
              <a:t>NE felejtsék el a „BENYÚJT” gombot lenyomni!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" dur="5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500"/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" dur="500"/>
                                        <p:tgtEl>
                                          <p:spTgt spid="1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500"/>
                                        <p:tgtEl>
                                          <p:spTgt spid="10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" dur="500"/>
                                        <p:tgtEl>
                                          <p:spTgt spid="10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Picture 4" descr=""/>
          <p:cNvPicPr/>
          <p:nvPr/>
        </p:nvPicPr>
        <p:blipFill>
          <a:blip r:embed="rId1"/>
          <a:stretch/>
        </p:blipFill>
        <p:spPr>
          <a:xfrm>
            <a:off x="4732200" y="0"/>
            <a:ext cx="441180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5"/>
          <p:cNvSpPr/>
          <p:nvPr/>
        </p:nvSpPr>
        <p:spPr>
          <a:xfrm>
            <a:off x="395280" y="1557360"/>
            <a:ext cx="4105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000000"/>
                </a:solidFill>
                <a:latin typeface="Arial"/>
              </a:rPr>
              <a:t>Prioritások és beavatkozási területe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6"/>
          <p:cNvSpPr/>
          <p:nvPr/>
        </p:nvSpPr>
        <p:spPr>
          <a:xfrm>
            <a:off x="468360" y="2492280"/>
            <a:ext cx="3672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PRIORITÁS 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– Gazdaság és társadal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3300"/>
                </a:solidFill>
                <a:latin typeface="Arial"/>
              </a:rPr>
              <a:t>~55%</a:t>
            </a:r>
            <a:r>
              <a:rPr b="0" lang="sk-SK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sk-SK" sz="1800" spc="-1" strike="noStrike">
                <a:solidFill>
                  <a:srgbClr val="ff3300"/>
                </a:solidFill>
                <a:latin typeface="Arial"/>
              </a:rPr>
              <a:t>(27 357 498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1800" spc="-1" strike="noStrike">
                <a:solidFill>
                  <a:srgbClr val="ff3300"/>
                </a:solidFill>
                <a:latin typeface="Arial"/>
              </a:rPr>
              <a:t>EU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PRIORITÁS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- Környezet- és természetvédelem, elérhetőség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3300"/>
                </a:solidFill>
                <a:latin typeface="Arial"/>
              </a:rPr>
              <a:t>~45%</a:t>
            </a:r>
            <a:r>
              <a:rPr b="0" lang="sk-SK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sk-SK" sz="1800" spc="-1" strike="noStrike">
                <a:solidFill>
                  <a:srgbClr val="ff3300"/>
                </a:solidFill>
                <a:latin typeface="Arial"/>
              </a:rPr>
              <a:t>(22 498 083 EU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7"/>
          <p:cNvSpPr/>
          <p:nvPr/>
        </p:nvSpPr>
        <p:spPr>
          <a:xfrm>
            <a:off x="395280" y="4869000"/>
            <a:ext cx="4103640" cy="1167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A HUSK 1101 felhívás keretösszege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49 855 581 EUR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ERF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2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2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2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2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2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2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20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20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20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20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000000"/>
                </a:solidFill>
                <a:latin typeface="Arial"/>
              </a:rPr>
              <a:t>Minimum elváráso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2000" spc="-1" strike="noStrike" u="sng">
                <a:solidFill>
                  <a:srgbClr val="000000"/>
                </a:solidFill>
                <a:uFillTx/>
                <a:latin typeface="Arial"/>
              </a:rPr>
              <a:t>Formai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Határon túli partn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2000" spc="-1" strike="noStrike" u="sng">
                <a:solidFill>
                  <a:srgbClr val="000000"/>
                </a:solidFill>
                <a:uFillTx/>
                <a:latin typeface="Arial"/>
              </a:rPr>
              <a:t>Szakmai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Innovatív, életképes/fenntartható projekt ötlete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Esélyegyenlősé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Fenntartható fejlődé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Költséghatékonysá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0000"/>
                </a:solidFill>
                <a:latin typeface="Arial"/>
              </a:rPr>
              <a:t>Határon átnyúló hatá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2000" spc="-1" strike="noStrike">
                <a:solidFill>
                  <a:srgbClr val="000000"/>
                </a:solidFill>
                <a:latin typeface="Arial"/>
              </a:rPr>
              <a:t>Vezető partner elv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2000" spc="-1" strike="noStrike">
                <a:solidFill>
                  <a:srgbClr val="000000"/>
                </a:solidFill>
                <a:latin typeface="Arial"/>
              </a:rPr>
              <a:t>4K kritériu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Kétnyelvűség – DE: hivatalos kommunikációs nyelv az </a:t>
            </a:r>
            <a:r>
              <a:rPr b="0" lang="sk-SK" sz="2000" spc="-1" strike="noStrike">
                <a:solidFill>
                  <a:srgbClr val="ff0000"/>
                </a:solidFill>
                <a:latin typeface="Arial"/>
              </a:rPr>
              <a:t>ango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0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1" dur="500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4" dur="500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9" dur="500"/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4" dur="500"/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9" dur="500"/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4" dur="500"/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000000"/>
                </a:solidFill>
                <a:latin typeface="Arial"/>
              </a:rPr>
              <a:t>Vezető partner elv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A partnerek közösen kiválasztanak egy vezetőt maguk közül, aki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0000"/>
                </a:solidFill>
                <a:latin typeface="Arial"/>
              </a:rPr>
              <a:t>támogatási szerződést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ír alá a partnerek nevében a szerződéskötő hatóságg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0000"/>
                </a:solidFill>
                <a:latin typeface="Arial"/>
              </a:rPr>
              <a:t>partnerségi megállapodást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ír alá a partnerekkel a projekt végrehajtását érintő feladatokról, felelőségekről, határidőkről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0000"/>
                </a:solidFill>
                <a:latin typeface="Arial"/>
              </a:rPr>
              <a:t>fogadja az uniós támogatást,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és felel a partnerek közötti elosztásáért</a:t>
            </a:r>
            <a:br>
              <a:rPr sz="2000"/>
            </a:b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felel a projekt teljes végrehajtásáért az illetékes programirányító hatóság előtt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1" dur="1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10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1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1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01T08:38:13Z</dcterms:created>
  <dc:creator>birikiarianna</dc:creator>
  <dc:description/>
  <dc:language>en-US</dc:language>
  <cp:lastModifiedBy>-</cp:lastModifiedBy>
  <dcterms:modified xsi:type="dcterms:W3CDTF">2011-08-01T22:06:24Z</dcterms:modified>
  <cp:revision>63</cp:revision>
  <dc:subject/>
  <dc:title>Luh o</dc:title>
</cp:coreProperties>
</file>