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1962-4946-4675-A0B9-32647A77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59A7-524E-40B3-B0AC-347F0AB4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7F8F-199F-425D-9DE6-274C5E94E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8F72-25A1-4842-858B-8A1072EB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52AB-0C56-48D2-92F6-A656A9D1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03E7-AE5B-4E11-946B-D0551308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0646-EF80-4D28-A90A-3DFD437B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045A-A678-4B3D-99F4-AA3F811A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4417-D4D2-48FC-B95C-BF280E3F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0887-AF5C-4FD1-8629-EA688236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6B1B-8870-4145-BBBA-31301E7B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08DB-77A4-4103-AE3A-4004B49A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6A17-639D-4CA1-981C-0E6C183F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2452-70DD-4C8C-9021-4385B1D1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582A-63C6-4BAF-8153-AFDCF261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EE1A-7513-4A7C-AB67-B69BFAB0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C706-E2AD-402E-8490-EC33DBFE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8C7A-485B-41D6-B504-A319ECD8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FB9E-A05D-4748-B4AC-3A3F3908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7873-485A-4C2E-934B-1B2FC71B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7DF6-1375-4025-8495-3E0ED3FA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DE5C-EF4A-4D8E-A080-8D5E7531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7E85-1E8C-491F-9FC6-61C8CCD7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37DD-D4DF-4807-A7A7-D93CD643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C88E-A4C1-4516-B1F9-EC53241FCDED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C5C7-E413-4366-906E-969FC2991CD9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abiriki@husk-cbc.eu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Magyarország-Szlovákia Határon Átnyúló </a:t>
            </a:r>
            <a:br>
              <a:rPr sz="2500"/>
            </a:b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Együttműködési Program 2007-2013 </a:t>
            </a:r>
            <a:br>
              <a:rPr sz="2500"/>
            </a:b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artnerkereső fór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Lučenec, 2011.08.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hu-HU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Bővebb információkért, kérjük keressék fel honlapunka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www.husk-cbc.e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Aktuális információ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Kézikönyvek (pl.: IMIR 2007-20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Útmutatók (pl.: elszámolható költségekrő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Egyéb letölthető dokumentumok (pl.: PI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abiriki@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célja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elsősorban partnerkeresés + felmerült kérdések megvitatá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résztvevői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lehetséges pályázók és Közös Technikai Titkárság képviselő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munkamenete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rövid általános információk ismertetése a programról, a felhívásról és maga a </a:t>
            </a:r>
            <a:r>
              <a:rPr b="0" lang="hu-HU" sz="2600" spc="-1" strike="noStrike">
                <a:solidFill>
                  <a:srgbClr val="c0504d"/>
                </a:solidFill>
                <a:latin typeface="Arial"/>
              </a:rPr>
              <a:t>partnerkeresé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a munkacsoportos megbeszélések sorá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Evolúció?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68360" y="1413000"/>
          <a:ext cx="8229600" cy="457200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5960"/>
                <a:gridCol w="2057400"/>
              </a:tblGrid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 2001-2002-es Magyarország-Szlovákia Phare CBC (Cross-border Co-operation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özös Kisprojekt Al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gyarország-Szlovákia-Ukrajna Szomszédsági Program 2004-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–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pályázati kiír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gyarország-Szlovákia Határon Átnyúló Együttműködési Program 2007-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–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pályázati kiír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 kiírás indikatív pénzügyi ker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U: 372 000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K: 372 000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U: 8  522 875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K: 5 548 000 EU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3 538 887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kttípuso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ülönáll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özös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Tükör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iegészít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ülönáll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özö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ktjavaslatok példányszá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7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5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2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óváhagyott projektjavaslatok szá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1 program (HU0109): 9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2 program (2002/000-604): 11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7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6 db + 18 db projekt koncepci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zakmai értékelés elvárás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öltséghatékony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Fenntartható fejlődé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Környezeti fenntartható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Esélyegyenlősé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Költséghatékony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zető partner el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 kritér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Pályázati Formanyomtatvány </a:t>
            </a:r>
            <a:br>
              <a:rPr sz="2800"/>
            </a:b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- MÚ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68360" y="14842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. és 2. pályázati felhív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140328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képek 001"/>
          <p:cNvPicPr/>
          <p:nvPr/>
        </p:nvPicPr>
        <p:blipFill>
          <a:blip r:embed="rId1"/>
          <a:stretch/>
        </p:blipFill>
        <p:spPr>
          <a:xfrm>
            <a:off x="395280" y="2492280"/>
            <a:ext cx="2517840" cy="334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7"/>
          <p:cNvGrpSpPr/>
          <p:nvPr/>
        </p:nvGrpSpPr>
        <p:grpSpPr>
          <a:xfrm>
            <a:off x="3203640" y="1557360"/>
            <a:ext cx="2376360" cy="3736800"/>
            <a:chOff x="3203640" y="1557360"/>
            <a:chExt cx="2376360" cy="3736800"/>
          </a:xfrm>
        </p:grpSpPr>
        <p:pic>
          <p:nvPicPr>
            <p:cNvPr id="94" name="Picture 8" descr="Kép 016"/>
            <p:cNvPicPr/>
            <p:nvPr/>
          </p:nvPicPr>
          <p:blipFill>
            <a:blip r:embed="rId2"/>
            <a:stretch/>
          </p:blipFill>
          <p:spPr>
            <a:xfrm>
              <a:off x="3203640" y="1557360"/>
              <a:ext cx="2376360" cy="37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9"/>
            <p:cNvSpPr/>
            <p:nvPr/>
          </p:nvSpPr>
          <p:spPr>
            <a:xfrm>
              <a:off x="5205240" y="2075400"/>
              <a:ext cx="244080" cy="230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0"/>
          <p:cNvGrpSpPr/>
          <p:nvPr/>
        </p:nvGrpSpPr>
        <p:grpSpPr>
          <a:xfrm>
            <a:off x="6084720" y="1916280"/>
            <a:ext cx="2521080" cy="3808080"/>
            <a:chOff x="6084720" y="1916280"/>
            <a:chExt cx="2521080" cy="3808080"/>
          </a:xfrm>
        </p:grpSpPr>
        <p:pic>
          <p:nvPicPr>
            <p:cNvPr id="97" name="Picture 11" descr="Kép 012"/>
            <p:cNvPicPr/>
            <p:nvPr/>
          </p:nvPicPr>
          <p:blipFill>
            <a:blip r:embed="rId3"/>
            <a:stretch/>
          </p:blipFill>
          <p:spPr>
            <a:xfrm>
              <a:off x="6084720" y="1916280"/>
              <a:ext cx="2521080" cy="38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ectangle 12"/>
            <p:cNvSpPr/>
            <p:nvPr/>
          </p:nvSpPr>
          <p:spPr>
            <a:xfrm>
              <a:off x="7776360" y="3501360"/>
              <a:ext cx="259200" cy="17568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743280" y="18864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Pályázati formanyomtatvány - J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rcRect l="22881" t="29339" r="17894" b="13700"/>
          <a:stretch/>
        </p:blipFill>
        <p:spPr>
          <a:xfrm>
            <a:off x="285840" y="1714680"/>
            <a:ext cx="4680000" cy="36464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179280" y="1197000"/>
            <a:ext cx="5329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3. és további pályázati felhívás elvár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kepek 005"/>
          <p:cNvPicPr/>
          <p:nvPr/>
        </p:nvPicPr>
        <p:blipFill>
          <a:blip r:embed="rId2"/>
          <a:stretch/>
        </p:blipFill>
        <p:spPr>
          <a:xfrm>
            <a:off x="5435640" y="1700280"/>
            <a:ext cx="3133800" cy="4176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179280" y="5445000"/>
            <a:ext cx="48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-</cp:lastModifiedBy>
  <dcterms:modified xsi:type="dcterms:W3CDTF">2011-08-01T22:06:24Z</dcterms:modified>
  <cp:revision>63</cp:revision>
  <dc:subject/>
  <dc:title>Luh o</dc:title>
</cp:coreProperties>
</file>