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B2C77E8-5A09-4203-8C6A-D7B416D172F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1043DF8-F032-4FC2-9EEB-66A069A0FE6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D19E-A65D-4334-892E-7F92E3712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E37C-C54E-4896-A5A8-4AE35963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2A8B-469A-4913-B400-CE6118D76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DBF2-1649-49B7-B4B6-BCFECA19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E3AC-6501-45CE-9A7D-6C27B8B5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1CC1-ABF9-4D49-A809-0401A5BA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6094-9FD2-4754-A62E-382CDA8E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0B34-90D3-4D4D-A2FD-37D917D9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1C3D-BECD-4EAC-AA31-B868FFE6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97BD-57C2-4B3F-8D48-F62D6398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9BD5-DB62-4993-A964-A30D81FC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8468-26F5-4DDA-B2DB-E8FF33E2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7933-062B-4AEE-9B8D-C74ADA356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rtner Search Forum, Lučenec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2. augusta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L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23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-10584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45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a 1.7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 EUR) – pomoc a rady poskytuje komunikačná manažérka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4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ýzva na predkladanie žiad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truktúra Štúdie uskutočniteľ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zor projektovej žiadosti – informatív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užívateľský manuál pre I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ručka oprávnených výdav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 príloh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 príloh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+ Príručka pre prijímateľ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v HU/SK jazyko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nie je možné doplnenie/oprav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í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9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4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23. júna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4 mes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49 855 581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1. október 2011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8. október 2011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5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504800"/>
            <a:ext cx="849636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investičné / mäkké projekty - max.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12 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prava plánov a štúdií, tvorba sietí, kultúrne a spoločenské podujatia, výmena skúseností, propagačné materiály a aktivity a pod.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5.1, 1.6.1, 1.6.2 a 1.7.1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vestičné projekty - max.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24 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- stavebné a rekonštrukčné práce, podpora podnikania, výskum a vývoj, turizmus, zdravotníctvo, ŽP, odpady, obnoviteľné zdroje, dopravná infraštruktúr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1.1, 1.2.1, 1.3.1, 1.4.1, 2.1.1, 2.2.1, 2.3.1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3.2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4.2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nné delenie úloh a zodpoved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57120" y="1500120"/>
          <a:ext cx="8229600" cy="441000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10447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1.6 </a:t>
                      </a:r>
                      <a:br>
                        <a:rPr sz="2400"/>
                      </a:b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é využívanie a rozvoj ľudských zdroj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1.6.2 </a:t>
                      </a:r>
                      <a:br>
                        <a:rPr sz="2400"/>
                      </a:b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ciatívy spolupráce na trhu prá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br>
                        <a:rPr sz="2400"/>
                      </a:b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upráca v oblasti vzdelávania dospelých a celoživotného vzdeláv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1-08-01T14:47:50Z</dcterms:modified>
  <cp:revision>127</cp:revision>
  <dc:subject/>
  <dc:title>1. dia</dc:title>
</cp:coreProperties>
</file>