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9EBBBD-94C2-4D7A-96EB-CDD6823FFF5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8E092C-D9BD-44DF-BFD4-040C2C360B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C7F-1C45-489A-9D99-07DB4F28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572A-594F-47A3-B5E5-FBD6055A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D9CA-F45A-41E6-8CEA-D3C0FBAD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804-7F9A-4C18-AE37-29F476A2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3C1-ED74-44F6-95A6-4ABE5BED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CB4-EF6A-4774-BF53-0925D954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3FF3-B5A9-4989-9E63-D1D551C5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4A6-A5DF-49F5-9E36-047CF8BF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2BA3-F01C-47D1-A15E-56930B38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CD8-CE93-4693-84A8-4FB59DA0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10E-296A-417A-A77C-6DB20758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9458-48D9-4677-BC2C-DF4B4DBF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54AC-25FB-4ACD-A390-4C347987A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rtner Search Forum, Lučenec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2. augus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L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23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-10584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a 1.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 EUR) – pomoc a rady poskytuje komunikačná manažérka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4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ýzva na predkladanie žia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truktúra Štúdie uskutočniteľ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or projektovej žiadosti – informatív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užívateľský manuál pre I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oprávnených výdav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+ Príručka pre prijímateľ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v HU/SK jazyko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nie je možné doplnenie/oprav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í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9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4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23. jún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 mes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9 855 581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1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8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5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04800"/>
            <a:ext cx="849636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investičné / mäkk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plánov a štúdií, tvorba sietí, kultúrne a spoločenské podujatia, výmena skúseností, propagačné materiály a aktivity a pod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5.1, 1.6.1, 1.6.2 a 1.7.1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vestičn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4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stavebné a rekonštrukčné práce, podpora podnikania, výskum a vývoj, turizmus, zdravotníctvo, ŽP, odpady, obnoviteľné zdroje, dopravná infraštruktúr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1.1, 1.2.1, 1.3.1, 1.4.1, 2.1.1, 2.2.1, 2.3.1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3.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nné delenie úloh a zodpoved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1500120"/>
          <a:ext cx="8229600" cy="441000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1044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1.6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é využívanie a rozvoj ľudských zdroj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1.6.2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tívy spolupráce na trhu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br>
                        <a:rPr sz="2400"/>
                      </a:b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upráca v oblasti vzdelávania dospelých a celoživotného vzdeláv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1-08-01T14:47:50Z</dcterms:modified>
  <cp:revision>127</cp:revision>
  <dc:subject/>
  <dc:title>1. dia</dc:title>
</cp:coreProperties>
</file>