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0A8F-1662-4AF8-B6F4-DE398FDA5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CFE7-0C52-4089-A013-C8E0BBF2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ECD6-087A-45DE-B24C-15C129D1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E60B-77DE-4FA4-902D-9045500C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FC71-92C0-474D-9CCB-0D566E196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BC1E-953B-4C10-9F8E-527439F7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60E9-E474-43B2-B443-AB097CA9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A4E6-17DC-47AD-B019-627D84B0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1673-06C7-4E96-9506-ECB639DD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9FE7-D19C-4570-AF74-50F88237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EB54-C6B1-4EE1-A8E9-15E41E92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B1A5-2271-4148-ACEB-C5F0894F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B13D-342F-4356-A406-EFFFCEF7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66CC-8906-4DA8-AA7F-8924CCCE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FA17-7C40-4234-ABEC-16955271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F3BC-E4E4-4508-8107-DC52D3538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F159-3401-4F2E-BFF7-E7C8476D0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EF33-AEFE-40AC-B07F-B9B7FDC2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82FA-92D5-45B4-9A56-D0E8ACE8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DF04-F923-4410-A2D5-84A01AEB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700E-0063-427A-A467-AD4A7B9F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0F7A-787B-4E59-8C2F-2CE2FA62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ED55-718C-4F7C-B7DD-81C0F4DB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59E9-CE80-4A30-B970-09DB00C5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3507-6DC4-44CB-A191-E4F44BDBB4E0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D273-D9DE-4DEB-954E-C55C7FC293B7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abiriki@husk-cbc.eu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Magyarország-Szlovákia Határon Átnyúló </a:t>
            </a:r>
            <a:br>
              <a:rPr sz="2500"/>
            </a:b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Együttműködési Program 2007-2013 </a:t>
            </a:r>
            <a:br>
              <a:rPr sz="2500"/>
            </a:b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artnerkereső fór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Lučenec, 2011.08.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hu-HU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Bővebb információkért, kérjük keressék fel honlapunka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www.husk-cbc.e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Aktuális információ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Kézikönyvek (pl.: IMIR 2007-201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Útmutatók (pl.: elszámolható költségekrő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Egyéb letölthető dokumentumok (pl.: PI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abiriki@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célja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elsősorban partnerkeresés + felmerült kérdések megvitatá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résztvevői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lehetséges pályázók és Közös Technikai Titkárság képviselő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munkamenete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rövid általános információk ismertetése a programról, a felhívásról és maga a </a:t>
            </a:r>
            <a:r>
              <a:rPr b="0" lang="hu-HU" sz="2600" spc="-1" strike="noStrike">
                <a:solidFill>
                  <a:srgbClr val="c0504d"/>
                </a:solidFill>
                <a:latin typeface="Arial"/>
              </a:rPr>
              <a:t>partnerkeresé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a munkacsoportos megbeszélések sorá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Evolúció?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68360" y="1413000"/>
          <a:ext cx="8229600" cy="457200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5960"/>
                <a:gridCol w="2057400"/>
              </a:tblGrid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 2001-2002-es Magyarország-Szlovákia Phare CBC (Cross-border Co-operation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özös Kisprojekt Al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gyarország-Szlovákia-Ukrajna Szomszédsági Program 2004-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–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pályázati kiír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gyarország-Szlovákia Határon Átnyúló Együttműködési Program 2007-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–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pályázati kiír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 kiírás indikatív pénzügyi ker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U: 372 000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K: 372 000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U: 8  522 875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K: 5 548 000 EU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3 538 887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jekttípuso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ülönáll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özös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Tükör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iegészít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ülönáll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özö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jektjavaslatok példányszá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7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5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2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óváhagyott projektjavaslatok szá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1 program (HU0109): 9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2 program (2002/000-604): 11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7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6 db + 18 db projekt koncepci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zakmai értékelés elvárás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öltséghatékony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Fenntartható fejlődé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Környezeti fenntartható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Esélyegyenlősé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Költséghatékony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zető partner el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 kritér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Pályázati Formanyomtatvány </a:t>
            </a:r>
            <a:br>
              <a:rPr sz="2800"/>
            </a:b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- MÚ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68360" y="14842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. és 2. pályázati felhív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140328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képek 001"/>
          <p:cNvPicPr/>
          <p:nvPr/>
        </p:nvPicPr>
        <p:blipFill>
          <a:blip r:embed="rId1"/>
          <a:stretch/>
        </p:blipFill>
        <p:spPr>
          <a:xfrm>
            <a:off x="395280" y="2492280"/>
            <a:ext cx="2517840" cy="334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7"/>
          <p:cNvGrpSpPr/>
          <p:nvPr/>
        </p:nvGrpSpPr>
        <p:grpSpPr>
          <a:xfrm>
            <a:off x="3203640" y="1557360"/>
            <a:ext cx="2376360" cy="3736800"/>
            <a:chOff x="3203640" y="1557360"/>
            <a:chExt cx="2376360" cy="3736800"/>
          </a:xfrm>
        </p:grpSpPr>
        <p:pic>
          <p:nvPicPr>
            <p:cNvPr id="94" name="Picture 8" descr="Kép 016"/>
            <p:cNvPicPr/>
            <p:nvPr/>
          </p:nvPicPr>
          <p:blipFill>
            <a:blip r:embed="rId2"/>
            <a:stretch/>
          </p:blipFill>
          <p:spPr>
            <a:xfrm>
              <a:off x="3203640" y="1557360"/>
              <a:ext cx="2376360" cy="37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9"/>
            <p:cNvSpPr/>
            <p:nvPr/>
          </p:nvSpPr>
          <p:spPr>
            <a:xfrm>
              <a:off x="5205240" y="2075400"/>
              <a:ext cx="244080" cy="230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0"/>
          <p:cNvGrpSpPr/>
          <p:nvPr/>
        </p:nvGrpSpPr>
        <p:grpSpPr>
          <a:xfrm>
            <a:off x="6084720" y="1916280"/>
            <a:ext cx="2521080" cy="3808080"/>
            <a:chOff x="6084720" y="1916280"/>
            <a:chExt cx="2521080" cy="3808080"/>
          </a:xfrm>
        </p:grpSpPr>
        <p:pic>
          <p:nvPicPr>
            <p:cNvPr id="97" name="Picture 11" descr="Kép 012"/>
            <p:cNvPicPr/>
            <p:nvPr/>
          </p:nvPicPr>
          <p:blipFill>
            <a:blip r:embed="rId3"/>
            <a:stretch/>
          </p:blipFill>
          <p:spPr>
            <a:xfrm>
              <a:off x="6084720" y="1916280"/>
              <a:ext cx="2521080" cy="38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ectangle 12"/>
            <p:cNvSpPr/>
            <p:nvPr/>
          </p:nvSpPr>
          <p:spPr>
            <a:xfrm>
              <a:off x="7776360" y="3501360"/>
              <a:ext cx="259200" cy="17568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743280" y="18864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Pályázati formanyomtatvány - J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rcRect l="22881" t="29339" r="17894" b="13700"/>
          <a:stretch/>
        </p:blipFill>
        <p:spPr>
          <a:xfrm>
            <a:off x="285840" y="1714680"/>
            <a:ext cx="4680000" cy="36464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179280" y="1197000"/>
            <a:ext cx="5329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3. és további pályázati felhívás elvár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kepek 005"/>
          <p:cNvPicPr/>
          <p:nvPr/>
        </p:nvPicPr>
        <p:blipFill>
          <a:blip r:embed="rId2"/>
          <a:stretch/>
        </p:blipFill>
        <p:spPr>
          <a:xfrm>
            <a:off x="5435640" y="1700280"/>
            <a:ext cx="3133800" cy="4176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179280" y="5445000"/>
            <a:ext cx="48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-</cp:lastModifiedBy>
  <dcterms:modified xsi:type="dcterms:W3CDTF">2011-08-01T22:06:24Z</dcterms:modified>
  <cp:revision>63</cp:revision>
  <dc:subject/>
  <dc:title>Luh o</dc:title>
</cp:coreProperties>
</file>