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7224-3C9E-4FBA-A93D-FEE9130E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26D6-030C-4080-A60C-4260757F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B086-BE70-44E4-A65A-BFE9D0D41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DD00-AC25-4F9A-B6FC-4DCEC682B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18ED-0378-460C-9948-34A4D7094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7CED-DC48-4985-9AB5-44449F74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E658-BB39-4464-A36B-3B4A28CF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8E2D-D72E-4813-931E-F3D40131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AF95-9F2E-422D-BE78-CFB7710D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07B2-C68C-4B79-940C-EB8CB991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6982-701C-4097-98C0-56CB8219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9EFB-7895-4180-A13D-1E42E5D5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9D77-E6CE-49CE-B872-D84491FE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2E35-8973-4F45-9AFC-80AD9921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CBB2-3751-43A2-B410-2A639009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7EB0-9200-4D1F-8E44-C272B382C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2A31-EA0A-4DE5-9BA8-BD4C301C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851C-C87E-4FB2-A185-59D4041F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81FA-4FBF-4DC8-B275-C416FB78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95DD-CF11-4D28-8F52-A7E352AE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33AB-CC76-4582-8ADF-9A2488EA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A75D-26D3-42C6-80C9-09AB9280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E2E9-5D6C-4E71-BBA2-F7499C33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02DB-D45C-4D37-9BE8-D4C21C29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60A6-5731-4591-BD09-E3C34E8DF533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D091-7C0F-4BAF-BFA9-B9BDC2CC8126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abiriki@husk-cbc.eu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Magyarország-Szlovákia Határon Átnyúló </a:t>
            </a:r>
            <a:br>
              <a:rPr sz="2500"/>
            </a:b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Együttműködési Program 2007-2013 </a:t>
            </a:r>
            <a:br>
              <a:rPr sz="2500"/>
            </a:b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artnerkereső fór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Lučenec, 2011.08.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hu-HU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Bővebb információkért, kérjük keressék fel honlapunka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www.husk-cbc.e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Aktuális információ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Kézikönyvek (pl.: IMIR 2007-20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Útmutatók (pl.: elszámolható költségekrő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Egyéb letölthető dokumentumok (pl.: PI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abiriki@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célja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elsősorban partnerkeresés + felmerült kérdések megvitatá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résztvevői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lehetséges pályázók és Közös Technikai Titkárság képviselő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munkamenete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rövid általános információk ismertetése a programról, a felhívásról és maga a </a:t>
            </a:r>
            <a:r>
              <a:rPr b="0" lang="hu-HU" sz="2600" spc="-1" strike="noStrike">
                <a:solidFill>
                  <a:srgbClr val="c0504d"/>
                </a:solidFill>
                <a:latin typeface="Arial"/>
              </a:rPr>
              <a:t>partnerkeresé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a munkacsoportos megbeszélések sorá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Evolúció?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68360" y="1413000"/>
          <a:ext cx="8229600" cy="457200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5960"/>
                <a:gridCol w="2057400"/>
              </a:tblGrid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 2001-2002-es Magyarország-Szlovákia Phare CBC (Cross-border Co-operation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özös Kisprojekt A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gyarország-Szlovákia-Ukrajna Szomszédsági Program 2004-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–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pályázati kiír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gyarország-Szlovákia Határon Átnyúló Együttműködési Program 2007-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–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pályázati kiír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 kiírás indikatív pénzügyi ker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U: 372 000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: 372 000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U: 8  522 875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: 5 548 000 EU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3 538 887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kttípuso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ülönáll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özös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Tükör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iegészít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ülönáll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özö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ktjavaslatok példányszá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7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5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2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óváhagyott projektjavaslatok szá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1 program (HU0109): 9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2 program (2002/000-604): 11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7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6 db + 18 db projekt koncepci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zakmai értékelés elvárás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öltséghatékony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Fenntartható fejlődé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Környezeti fenntartható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Esélyegyenlősé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Költséghatékony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zető partner el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 kritér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Pályázati Formanyomtatvány </a:t>
            </a:r>
            <a:br>
              <a:rPr sz="2800"/>
            </a:b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- MÚ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68360" y="1484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. és 2. pályázati felhív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140328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képek 001"/>
          <p:cNvPicPr/>
          <p:nvPr/>
        </p:nvPicPr>
        <p:blipFill>
          <a:blip r:embed="rId1"/>
          <a:stretch/>
        </p:blipFill>
        <p:spPr>
          <a:xfrm>
            <a:off x="395280" y="2492280"/>
            <a:ext cx="2517840" cy="334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7"/>
          <p:cNvGrpSpPr/>
          <p:nvPr/>
        </p:nvGrpSpPr>
        <p:grpSpPr>
          <a:xfrm>
            <a:off x="3203640" y="1557360"/>
            <a:ext cx="2376360" cy="3736800"/>
            <a:chOff x="3203640" y="1557360"/>
            <a:chExt cx="2376360" cy="3736800"/>
          </a:xfrm>
        </p:grpSpPr>
        <p:pic>
          <p:nvPicPr>
            <p:cNvPr id="94" name="Picture 8" descr="Kép 016"/>
            <p:cNvPicPr/>
            <p:nvPr/>
          </p:nvPicPr>
          <p:blipFill>
            <a:blip r:embed="rId2"/>
            <a:stretch/>
          </p:blipFill>
          <p:spPr>
            <a:xfrm>
              <a:off x="3203640" y="1557360"/>
              <a:ext cx="2376360" cy="37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9"/>
            <p:cNvSpPr/>
            <p:nvPr/>
          </p:nvSpPr>
          <p:spPr>
            <a:xfrm>
              <a:off x="5205240" y="2075400"/>
              <a:ext cx="244080" cy="230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0"/>
          <p:cNvGrpSpPr/>
          <p:nvPr/>
        </p:nvGrpSpPr>
        <p:grpSpPr>
          <a:xfrm>
            <a:off x="6084720" y="1916280"/>
            <a:ext cx="2521080" cy="3808080"/>
            <a:chOff x="6084720" y="1916280"/>
            <a:chExt cx="2521080" cy="3808080"/>
          </a:xfrm>
        </p:grpSpPr>
        <p:pic>
          <p:nvPicPr>
            <p:cNvPr id="97" name="Picture 11" descr="Kép 012"/>
            <p:cNvPicPr/>
            <p:nvPr/>
          </p:nvPicPr>
          <p:blipFill>
            <a:blip r:embed="rId3"/>
            <a:stretch/>
          </p:blipFill>
          <p:spPr>
            <a:xfrm>
              <a:off x="6084720" y="1916280"/>
              <a:ext cx="2521080" cy="38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ectangle 12"/>
            <p:cNvSpPr/>
            <p:nvPr/>
          </p:nvSpPr>
          <p:spPr>
            <a:xfrm>
              <a:off x="7776360" y="3501360"/>
              <a:ext cx="259200" cy="17568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743280" y="18864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Pályázati formanyomtatvány - J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rcRect l="22881" t="29339" r="17894" b="13700"/>
          <a:stretch/>
        </p:blipFill>
        <p:spPr>
          <a:xfrm>
            <a:off x="285840" y="1714680"/>
            <a:ext cx="4680000" cy="36464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179280" y="1197000"/>
            <a:ext cx="5329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3. és további pályázati felhívás elvár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kepek 005"/>
          <p:cNvPicPr/>
          <p:nvPr/>
        </p:nvPicPr>
        <p:blipFill>
          <a:blip r:embed="rId2"/>
          <a:stretch/>
        </p:blipFill>
        <p:spPr>
          <a:xfrm>
            <a:off x="5435640" y="1700280"/>
            <a:ext cx="3133800" cy="4176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179280" y="5445000"/>
            <a:ext cx="48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-</cp:lastModifiedBy>
  <dcterms:modified xsi:type="dcterms:W3CDTF">2011-08-01T22:06:24Z</dcterms:modified>
  <cp:revision>63</cp:revision>
  <dc:subject/>
  <dc:title>Luh o</dc:title>
</cp:coreProperties>
</file>