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B6C8-EE13-4037-A34C-CBB34A56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F87-F3D7-4CC2-8408-45A867A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16B-D639-4FD6-AABF-09CDE34B8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A885-986B-4B8A-A221-E8B99D5FB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0E2F-5701-4976-81DD-47E366771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17345-F0CE-448A-AE02-26B94A87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05BD-C860-4AEE-B9DC-30CF93C9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AA65-A249-46BB-B609-BA4903B7B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918B-E5B8-4366-BA25-DADCE93D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B5F6A-4C9F-4703-BAE3-D12098ED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907E-F176-490E-96DE-9CA0F49F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149-CF9F-484F-820E-8AC60DE6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AEB5-8C2F-40D0-BFB3-9AF29F46E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C878-6B4E-48A6-8304-6BA43641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B6CB-AE76-4390-947D-7ADEA128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2C43-1B13-4DA2-B1B9-8C539B82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7960-BCBE-4ADE-8A3C-D04001B5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B178-9F59-48BA-954E-8B6CD9C9E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0A7-53A1-4A86-B8C3-4E18DDB2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9E7-211F-487F-AC28-F88ED6D6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62E0-41C1-456E-9A36-C85CEB4D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850-6994-4F30-80F9-EEA80836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5404-5AB6-4113-84EF-887EE9AD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2B5B-85B5-497A-BCD9-60F6AF4C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1E41-B4A7-4E69-985F-6B999CFC39EE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B144-F7AA-4FEE-9B93-7A8D2CC79594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abiriki@husk-cbc.eu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husk-cbc.eu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Magyarország-Szlovákia Határon Átnyúló </a:t>
            </a:r>
            <a:br>
              <a:rPr sz="2500"/>
            </a:br>
            <a:r>
              <a:rPr b="0" lang="hu-HU" sz="2500" spc="-1" strike="noStrike">
                <a:solidFill>
                  <a:srgbClr val="000000"/>
                </a:solidFill>
                <a:latin typeface="Arial"/>
              </a:rPr>
              <a:t>Együttműködési Program 2007-2013 </a:t>
            </a:r>
            <a:br>
              <a:rPr sz="2500"/>
            </a:br>
            <a:br>
              <a:rPr sz="3200"/>
            </a:b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Partnerkereső fór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Lučenec, 2011.08.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hu-HU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Bővebb információkért, kérjük keressék fel honlapunka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www.husk-cbc.e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Aktuális információ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Kézikönyvek (pl.: IMIR 2007-201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Útmutatók (pl.: elszámolható költségekrő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  <a:ea typeface="Arial"/>
              </a:rPr>
              <a:t>Egyéb letölthető dokumentumok (pl.: PIH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abiriki@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célja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elsősorban partnerkeresés + felmerült kérdések megvitatás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résztvevői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lehetséges pályázók és Közös Technikai Titkárság képviselő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Arial"/>
              </a:rPr>
              <a:t>munkamenete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: rövid általános információk ismertetése a programról, a felhívásról és maga a </a:t>
            </a:r>
            <a:r>
              <a:rPr b="0" lang="hu-HU" sz="2600" spc="-1" strike="noStrike">
                <a:solidFill>
                  <a:srgbClr val="c0504d"/>
                </a:solidFill>
                <a:latin typeface="Arial"/>
              </a:rPr>
              <a:t>partnerkeresés</a:t>
            </a:r>
            <a:r>
              <a:rPr b="0" lang="hu-HU" sz="2600" spc="-1" strike="noStrike">
                <a:solidFill>
                  <a:srgbClr val="000000"/>
                </a:solidFill>
                <a:latin typeface="Arial"/>
              </a:rPr>
              <a:t> a munkacsoportos megbeszélések sorá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Evolúció?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68360" y="1413000"/>
          <a:ext cx="8229600" cy="457200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5960"/>
                <a:gridCol w="205740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2001-2002-es Magyarország-Szlovákia Phare CBC (Cross-border Co-operation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zös Kisprojekt Al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-Ukrajna Szomszédsági Program 2004-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gyarország-Szlovákia Határon Átnyúló Együttműködési Program 2007-2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– </a:t>
                      </a: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 pályázati kiír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kiírás indikatív pénzügyi ker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372 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372 000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U: 8  522 875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K: 5 548 000 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3 538 887 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típusok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Tükör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</a:t>
                      </a: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iegészít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ülönáll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özö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ktjavaslatok példány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7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5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 eredeti + 2 másolat + elektronikus adathordoz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Jóváhagyott projektjavaslatok szá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1 program (HU0109): 9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2 program (2002/000-604): 11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7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6 db + 18 db projekt koncepci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zakmai értékelés elvárás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- 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Határon átnyúló hatá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Fenntartható fejlődé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Környezeti fenntartható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- Esélyegyenlősé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hu-HU" sz="12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Költséghatékonysá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Vezető partner e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ff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sk-SK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 kritéri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</a:t>
            </a:r>
            <a:br>
              <a:rPr sz="2800"/>
            </a:b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- MÚ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468360" y="148428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. és 2. pályázati felhív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40328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képek 001"/>
          <p:cNvPicPr/>
          <p:nvPr/>
        </p:nvPicPr>
        <p:blipFill>
          <a:blip r:embed="rId1"/>
          <a:stretch/>
        </p:blipFill>
        <p:spPr>
          <a:xfrm>
            <a:off x="395280" y="2492280"/>
            <a:ext cx="2517840" cy="334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7"/>
          <p:cNvGrpSpPr/>
          <p:nvPr/>
        </p:nvGrpSpPr>
        <p:grpSpPr>
          <a:xfrm>
            <a:off x="3203640" y="1557360"/>
            <a:ext cx="2376360" cy="3736800"/>
            <a:chOff x="3203640" y="1557360"/>
            <a:chExt cx="2376360" cy="3736800"/>
          </a:xfrm>
        </p:grpSpPr>
        <p:pic>
          <p:nvPicPr>
            <p:cNvPr id="94" name="Picture 8" descr="Kép 016"/>
            <p:cNvPicPr/>
            <p:nvPr/>
          </p:nvPicPr>
          <p:blipFill>
            <a:blip r:embed="rId2"/>
            <a:stretch/>
          </p:blipFill>
          <p:spPr>
            <a:xfrm>
              <a:off x="3203640" y="1557360"/>
              <a:ext cx="237636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9"/>
            <p:cNvSpPr/>
            <p:nvPr/>
          </p:nvSpPr>
          <p:spPr>
            <a:xfrm>
              <a:off x="5205240" y="2075400"/>
              <a:ext cx="244080" cy="23076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0"/>
          <p:cNvGrpSpPr/>
          <p:nvPr/>
        </p:nvGrpSpPr>
        <p:grpSpPr>
          <a:xfrm>
            <a:off x="6084720" y="1916280"/>
            <a:ext cx="2521080" cy="3808080"/>
            <a:chOff x="6084720" y="1916280"/>
            <a:chExt cx="2521080" cy="3808080"/>
          </a:xfrm>
        </p:grpSpPr>
        <p:pic>
          <p:nvPicPr>
            <p:cNvPr id="97" name="Picture 11" descr="Kép 012"/>
            <p:cNvPicPr/>
            <p:nvPr/>
          </p:nvPicPr>
          <p:blipFill>
            <a:blip r:embed="rId3"/>
            <a:stretch/>
          </p:blipFill>
          <p:spPr>
            <a:xfrm>
              <a:off x="6084720" y="1916280"/>
              <a:ext cx="2521080" cy="38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ectangle 12"/>
            <p:cNvSpPr/>
            <p:nvPr/>
          </p:nvSpPr>
          <p:spPr>
            <a:xfrm>
              <a:off x="7776360" y="3501360"/>
              <a:ext cx="259200" cy="175680"/>
            </a:xfrm>
            <a:prstGeom prst="rect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743280" y="18864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 u="sng">
                <a:solidFill>
                  <a:srgbClr val="000000"/>
                </a:solidFill>
                <a:uFillTx/>
                <a:latin typeface="Arial"/>
              </a:rPr>
              <a:t>Pályázati formanyomtatvány - JE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rcRect l="22881" t="29339" r="17894" b="13700"/>
          <a:stretch/>
        </p:blipFill>
        <p:spPr>
          <a:xfrm>
            <a:off x="285840" y="1714680"/>
            <a:ext cx="4680000" cy="36464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79280" y="1197000"/>
            <a:ext cx="5329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. és további pályázati felhívás elvár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kepek 005"/>
          <p:cNvPicPr/>
          <p:nvPr/>
        </p:nvPicPr>
        <p:blipFill>
          <a:blip r:embed="rId2"/>
          <a:stretch/>
        </p:blipFill>
        <p:spPr>
          <a:xfrm>
            <a:off x="5435640" y="1700280"/>
            <a:ext cx="3133800" cy="417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79280" y="5445000"/>
            <a:ext cx="48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0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-</cp:lastModifiedBy>
  <dcterms:modified xsi:type="dcterms:W3CDTF">2011-08-01T22:06:24Z</dcterms:modified>
  <cp:revision>63</cp:revision>
  <dc:subject/>
  <dc:title>Luh o</dc:title>
</cp:coreProperties>
</file>