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D5F802-A880-4460-99C8-BD56BE6D09E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98D605-6337-40D6-AAB5-ECB8B1BAFF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3D6B-F5C5-44CA-BF54-87C2DE78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B73-1421-4F6A-A8FB-78E5ABF0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0C12-2ED9-4797-913D-5C785007D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27A-44C3-4E83-9B4B-1F43BE1D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F40-02F5-4378-931D-12040F80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3B0E-7E47-4FDF-A340-A141864D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2D7-9F3A-4186-93E9-5064BAAB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6B18-F82F-41C3-B041-C976A48B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7F74-487F-4A83-9731-408F38FF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2282-AA08-470E-9B79-496DDD87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498C-8743-47BF-9019-CC08D55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71F2-A7AA-4A45-A4B3-866E01A7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2060-AE84-4A6B-909D-6D64DC3A6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rtner Search Forum, Lučenec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2. augusta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L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23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-10584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45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a 1.7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 EUR) – pomoc a rady poskytuje komunikačná manažérka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4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ýzva na predkladanie žiad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Štruktúra Štúdie uskutočniteľ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or projektovej žiadosti – informatív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užívateľský manuál pre I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ručka oprávnených výdav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 prílohy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+ Príručka pre prijímateľ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v HU/SK jazyko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nie je možné doplnenie/oprav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í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9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4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  <a:ea typeface="Arial"/>
              </a:rPr>
              <a:t>23. júna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 mesi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49 855 581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1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28. október 2011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5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1504800"/>
            <a:ext cx="8496360" cy="36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investičné / mäkk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plánov a štúdií, tvorba sietí, kultúrne a spoločenské podujatia, výmena skúseností, propagačné materiály a aktivity a pod.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5.1, 1.6.1, 1.6.2 a 1.7.1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vestičné projekty - max.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4 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stavebné a rekonštrukčné práce, podpora podnikania, výskum a vývoj, turizmus, zdravotníctvo, ŽP, odpady, obnoviteľné zdroje, dopravná infraštruktúra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1.1, 1.2.1, 1.3.1, 1.4.1, 2.1.1, 2.2.1, 2.3.1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3.2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4.2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nné delenie úloh a zodpoved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3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57120" y="1500120"/>
          <a:ext cx="8229600" cy="441000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1044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0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1.6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é využívanie a rozvoj ľudských zdroj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1.6.2 </a:t>
                      </a:r>
                      <a:br>
                        <a:rPr sz="2400"/>
                      </a:br>
                      <a:r>
                        <a:rPr b="1" i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iciatívy spolupráce na trhu prá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br>
                        <a:rPr sz="2400"/>
                      </a:b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upráca v oblasti vzdelávania dospelých a celoživotného vzdeláv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1-08-01T14:47:50Z</dcterms:modified>
  <cp:revision>127</cp:revision>
  <dc:subject/>
  <dc:title>1. dia</dc:title>
</cp:coreProperties>
</file>