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A454C9E-E659-43B8-BCE8-C43CEDFF1F4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A7374FD-3A89-49E3-8666-A1212AE670D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D646-6549-4995-B204-7B6CFC217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D8A2-BAE6-4FC7-A235-A293107A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D210-001A-487E-A39D-10144090A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2A95-898D-49B7-9A95-A65A74B8A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C5F1-B311-43E1-A5B5-E60D61E2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AF84-E401-45FB-8849-F24DC85D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A82B-EB27-4E24-B46D-555918F0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219C-AB2E-4616-B0E0-82E72F1C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F598-042D-4A0A-9ABF-5D86FDA7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FDEC-8684-401F-B607-AAF81324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B770-778C-4EC6-9CA5-78374ECB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7D40-BECB-4355-9715-69A7CF01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A237-46CB-466F-BD0E-AB27368EE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katarina.mihalova@husk-cbc.eu" TargetMode="External"/><Relationship Id="rId2" Type="http://schemas.openxmlformats.org/officeDocument/2006/relationships/hyperlink" Target="mailto:katarina.mihalova@husk-cbc.eu" TargetMode="External"/><Relationship Id="rId3" Type="http://schemas.openxmlformats.org/officeDocument/2006/relationships/hyperlink" Target="mailto:katarina.mihalova@husk-cbc.eu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atarína Mihaľ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U-SK J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artner Search Forum, Lučenec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ňa 2. augusta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. VÝZVA NA PREDKLADANIE PROJEKTOV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ÝCH ŽIADOSTÍ</a:t>
            </a: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ODNOTENIE </a:t>
            </a: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, subjek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5280" y="1989000"/>
          <a:ext cx="8229600" cy="3864240"/>
        </p:xfrm>
        <a:graphic>
          <a:graphicData uri="http://schemas.openxmlformats.org/drawingml/2006/table">
            <a:tbl>
              <a:tblPr/>
              <a:tblGrid>
                <a:gridCol w="3024360"/>
                <a:gridCol w="2462040"/>
                <a:gridCol w="274320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/ Kritéri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dpovedný org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pracujúci orgá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a) FORMÁLNE</a:t>
                      </a:r>
                      <a:br>
                        <a:rPr sz="1800"/>
                      </a:b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ritéria podania Žo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ormálne kritéri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)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ÁL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kritériá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tériá oprávne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VALITATÍV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; externí hodnotite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a) HODNOTENIE FOR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19600" y="1571760"/>
            <a:ext cx="592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 PODANIA ŽIADOSTI 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aná v termíne elektronicky + papierová verzia prílo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hlásenie LP a Deklarácia o partnerst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4857840" y="2643120"/>
            <a:ext cx="428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ÁLNE KRITÉ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vinné prílohy podané v predpísanej forme (soft projekty A1,2,3/investičné projekty A1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615760" y="32194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82880" y="321300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 flipH="1">
            <a:off x="755640" y="278136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9"/>
          <p:cNvSpPr/>
          <p:nvPr/>
        </p:nvSpPr>
        <p:spPr>
          <a:xfrm>
            <a:off x="1979640" y="278136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0"/>
          <p:cNvSpPr/>
          <p:nvPr/>
        </p:nvSpPr>
        <p:spPr>
          <a:xfrm>
            <a:off x="3780000" y="3573360"/>
            <a:ext cx="93636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4574880" y="4437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6450120" y="44370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Dopln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3"/>
          <p:cNvSpPr/>
          <p:nvPr/>
        </p:nvSpPr>
        <p:spPr>
          <a:xfrm flipH="1">
            <a:off x="5364000" y="3933720"/>
            <a:ext cx="935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4"/>
          <p:cNvSpPr/>
          <p:nvPr/>
        </p:nvSpPr>
        <p:spPr>
          <a:xfrm>
            <a:off x="6300720" y="3933720"/>
            <a:ext cx="719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5727240" y="5661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7383600" y="55897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7"/>
          <p:cNvSpPr/>
          <p:nvPr/>
        </p:nvSpPr>
        <p:spPr>
          <a:xfrm flipH="1">
            <a:off x="6300360" y="494172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7093080" y="4941720"/>
            <a:ext cx="93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0" y="6165720"/>
            <a:ext cx="9144000" cy="692280"/>
            <a:chOff x="0" y="6165720"/>
            <a:chExt cx="9144000" cy="692280"/>
          </a:xfrm>
        </p:grpSpPr>
        <p:sp>
          <p:nvSpPr>
            <p:cNvPr id="123" name=""/>
            <p:cNvSpPr/>
            <p:nvPr/>
          </p:nvSpPr>
          <p:spPr>
            <a:xfrm>
              <a:off x="0" y="6165720"/>
              <a:ext cx="9144000" cy="69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5867280" y="6344280"/>
              <a:ext cx="3167280" cy="4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179280" y="6286320"/>
              <a:ext cx="288000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-105840" y="1643040"/>
            <a:ext cx="37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4 KRITÉRIÁ SPOLU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personá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5003640" y="2571840"/>
            <a:ext cx="41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 OPRÁVNE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právnenosť žiadateľov,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. 1 oprávnený partner z druhej strany hranice, sídlo v oprávnenom území, aktivity a štruktú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 súlade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 Príručkou pre opatr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2615760" y="37958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82880" y="379584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 flipH="1">
            <a:off x="755280" y="321300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>
            <a:off x="1908000" y="3213000"/>
            <a:ext cx="1151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3995640" y="4149720"/>
            <a:ext cx="93672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5151240" y="5445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7167960" y="5445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3"/>
          <p:cNvSpPr/>
          <p:nvPr/>
        </p:nvSpPr>
        <p:spPr>
          <a:xfrm flipH="1">
            <a:off x="586728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4"/>
          <p:cNvSpPr/>
          <p:nvPr/>
        </p:nvSpPr>
        <p:spPr>
          <a:xfrm>
            <a:off x="680400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2627280" y="4508640"/>
            <a:ext cx="1582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eukázané splnenie min.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b) HODNOTENIE MINI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250920" y="4508640"/>
            <a:ext cx="158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esplnené ani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214200" y="1285920"/>
          <a:ext cx="8569440" cy="5132520"/>
        </p:xfrm>
        <a:graphic>
          <a:graphicData uri="http://schemas.openxmlformats.org/drawingml/2006/table">
            <a:tbl>
              <a:tblPr/>
              <a:tblGrid>
                <a:gridCol w="6193080"/>
                <a:gridCol w="1152360"/>
                <a:gridCol w="12240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PROJEKTOVÉHO ZÁME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Súlad zamerania projektu s rozvojovými stratégiam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Relevant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Kritériá cezhraničnej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Prínos a inovatívnosť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Partnerst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Udržateľ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ZABEZPEČENIA REALIZÁCIE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 Uskutočniteľnosť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Manažmen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Financi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Plán aktiví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Horizontálne princípy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IAHNUTEĽNÝ POČET BOD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45" name="Text Box 67"/>
          <p:cNvSpPr/>
          <p:nvPr/>
        </p:nvSpPr>
        <p:spPr>
          <a:xfrm>
            <a:off x="6657480" y="13413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x.           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1"/>
          <p:cNvSpPr/>
          <p:nvPr/>
        </p:nvSpPr>
        <p:spPr>
          <a:xfrm>
            <a:off x="1042920" y="404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HODNOTENIE KVALITATÍV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OS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Z PREDCHÁDZAJÚCICH VÝZI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pulárne opatrenia (najmä 1.3.1 a 1.7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stvo orientované na výsledky (optimálny počet partnerov, finančná stabilita, dôvera, ak nie – dôsledkom sú výrazné zmeny v projekte a následná zhoršená implementácia a dosahovanie indikátorov resp. odstúpenie partner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ácia medzi partnermi – hierarchická a vertiká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ančná kríza (5% vlastné spolufinancovanie, platby formou refund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+3/2 – pravidlo čerpania v rámci programu – nesplnenie vedie k finančným sankciám; ust. v Zmluve o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 Progres Report/Monitorovacia správa na úrovni projektu – žiada sa dôsledné vypra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dikátory – precízne plánova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ublicita – logo EÚ a programu, slogan, referencie na web a odkaz; informačná tabuľa/plaketa (nad 500.00 EUR) – pomoc a rady poskytuje komunikačná manažérka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EŠTUDUJTE 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KUMENTY 4.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ýzva na predkladanie žiados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ručka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Štruktúra Štúdie uskutočniteľ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zor projektovej žiadosti – informatív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užívateľský manuál pre I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ručka oprávnených výdav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ormulár príloh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ormulár prílohy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ormuláre na hodnotenie jednotlivý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+ Príručka pre prijímateľ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NEZABUDN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aktiv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žiadateľov – zoznam v Príručke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nglický jazyk – oficiálny jazyk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osť o FP vyplnená v HU/SK jazyko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počet – oprávnenosť, opodstatnenosť, metóda kalkulá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astné spolufinan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fund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itériá podania ŽoP nie je možné doplnenie/oprav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468360" y="1125360"/>
          <a:ext cx="8112240" cy="4681800"/>
        </p:xfrm>
        <a:graphic>
          <a:graphicData uri="http://schemas.openxmlformats.org/drawingml/2006/table">
            <a:tbl>
              <a:tblPr/>
              <a:tblGrid>
                <a:gridCol w="4608360"/>
                <a:gridCol w="3503880"/>
              </a:tblGrid>
              <a:tr h="625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é stro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pozemk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pravné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ý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ávnených výdavkov 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ádzkové a režíjné náklad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25% z personálnych nákladov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3., 7.4., 7.5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vky vynaložené mimo oprávnené územ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budov, personálne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bmedzená s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63640" y="551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FORMÁLNE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 preklad do druhého jazyka - formulár ŽoFP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lohy - SK/HU iden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jú povinné prílohy, resp. predložené len kópie bez overenia/podpisu – predpísaná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právne, resp. nedostatočne vyplnený rozpočet (správnosť položiek,prepočty v HUF a kalkul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ojekt predložený v nesprávnom opatr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9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4. VÝZVA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NA PREDKLADANIE PROJEKTOV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ÝCH 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verejnená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23. júna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rvanie výzvy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4 mesi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inančná čiastka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49 855 581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ER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ermíny uzávierky podávania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21. október 2011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elektro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28. október 2011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poš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osobne do 12.00h, poštou do 24.00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OBSAHOVÉ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Nesplnená podmienka 5% vlastných zdroj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e sú splnené min. 2 kritériá spolupráce (zo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artner projektu nie je z oprávneného územia, resp. nemá právnu subjektiv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popísané aktivity a výstupy projek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kladové položky nie sú oprávnenými, resp. nie sú v súlade s trhovými cenami (nepodložen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vázi „jednostranné projekt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skúsený projektový manaž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5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Ďakujem za pozornosť!</a:t>
            </a:r>
            <a:br>
              <a:rPr sz="4000"/>
            </a:br>
            <a:br>
              <a:rPr sz="4000"/>
            </a:br>
            <a:r>
              <a:rPr b="0" lang="sk-SK" sz="28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katarina.mihalova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@</a:t>
            </a:r>
            <a:r>
              <a:rPr b="0" lang="sk-SK" sz="2800" spc="-1" strike="noStrike" u="sng">
                <a:solidFill>
                  <a:srgbClr val="cc3300"/>
                </a:solidFill>
                <a:uFillTx/>
                <a:latin typeface="Arial"/>
                <a:hlinkClick r:id="rId3"/>
              </a:rPr>
              <a:t>husk-cbc.eu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TYPY/ TRVANIE PROJEKT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1504800"/>
            <a:ext cx="8496360" cy="36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investičné / mäkké projekty - max.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12 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prava plánov a štúdií, tvorba sietí, kultúrne a spoločenské podujatia, výmena skúseností, propagačné materiály a aktivity a pod.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5.1, 1.6.1, 1.6.2 a 1.7.1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vestičné projekty - max.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24 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- stavebné a rekonštrukčné práce, podpora podnikania, výskum a vývoj, turizmus, zdravotníctvo, ŽP, odpady, obnoviteľné zdroje, dopravná infraštruktúra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1.1, 1.2.1, 1.3.1, 1.4.1, 2.1.1, 2.2.1, 2.3.1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3.2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4.2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É ÚZEMI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ďar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Župy (7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őr-Moson-Sop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árom-Eszterg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ógrá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sod-Abaúj-Zemplé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abolcs-Szatmár- Bere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 mesto Buda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loven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správne kraje (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islavs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nav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ians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skobystric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šick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husk map"/>
          <p:cNvPicPr/>
          <p:nvPr/>
        </p:nvPicPr>
        <p:blipFill>
          <a:blip r:embed="rId1"/>
          <a:stretch/>
        </p:blipFill>
        <p:spPr>
          <a:xfrm>
            <a:off x="3492360" y="1413000"/>
            <a:ext cx="5461200" cy="3859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452760" y="5445000"/>
            <a:ext cx="5656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jekty sa musia realizovať v oprávnenom území a musia mať pozitívny dopad na OÚ (výnimk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mimo O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3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len právnické oso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ídlo alebo pobočka v oprávnenom územ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ÚC, mestá a obce, združenia, štátne orgány a nimi založené organiz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úkromné spoločnosti s verejnou účasť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urópske zoskupenia územ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movládne organizácie a i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iac info - Príručka pre žiadateľov, príloha 1A a 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ARTNERST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právnení partneri z oboch strán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vinný minimálne 1 oprávnený partner z druhej strany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rovnané partnerstvo – rovnomenné delenie úloh a zodpoved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ncíp vedúceho partnera (PV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ATEGÓRIE PARTNEROV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Arial"/>
              </a:rPr>
              <a:t>podľa povinností, úloh a zodpovedností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dúci partner -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ojektoví partneri - 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máci partn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ezhraniční partn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lavný cezhraničný partner – len na 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Pridružení partneri - P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 SPOLUPRÁ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dpora spoločnýc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špeciálne pravidlá na realizáciu OP cezhranič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povinnosť splniť 2 zo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prípr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ý person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ŠTRUKTÚRA PROGRA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57120" y="1500120"/>
          <a:ext cx="8229600" cy="4410000"/>
        </p:xfrm>
        <a:graphic>
          <a:graphicData uri="http://schemas.openxmlformats.org/drawingml/2006/table">
            <a:tbl>
              <a:tblPr/>
              <a:tblGrid>
                <a:gridCol w="1428840"/>
                <a:gridCol w="1428840"/>
                <a:gridCol w="1571400"/>
                <a:gridCol w="3800520"/>
              </a:tblGrid>
              <a:tr h="10447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R I O R I T NÁ OS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ASŤ PODPORY – 1.6 </a:t>
                      </a:r>
                      <a:br>
                        <a:rPr sz="2400"/>
                      </a:br>
                      <a:r>
                        <a:rPr b="1" i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očné využívanie a rozvoj ľudských zdroj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ATRENIE – 1.6.2 </a:t>
                      </a:r>
                      <a:br>
                        <a:rPr sz="2400"/>
                      </a:br>
                      <a:r>
                        <a:rPr b="1" i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iciatívy spolupráce na trhu prá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ITA </a:t>
                      </a:r>
                      <a:br>
                        <a:rPr sz="2400"/>
                      </a:br>
                      <a:r>
                        <a:rPr b="1" i="1" lang="sk-SK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upráca v oblasti vzdelávania dospelých a celoživotného vzdeláv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katarinamihalova</cp:lastModifiedBy>
  <dcterms:modified xsi:type="dcterms:W3CDTF">2011-08-01T14:47:50Z</dcterms:modified>
  <cp:revision>127</cp:revision>
  <dc:subject/>
  <dc:title>1. dia</dc:title>
</cp:coreProperties>
</file>