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9A9-7AF2-4D6E-BE77-7270D16B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2ED-1ECE-459E-B7D8-BE969EF6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014-01BC-4C28-BB52-37C7DCED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D87-2617-4843-A08A-03E68D7F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535B-98AA-4C0B-820D-8B8FCB85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3006-2D44-45EC-9BE1-B8C8045E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795C-D140-4EBD-848C-409B88F4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6A17-7333-4CA9-94D1-3CE348DF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5DE4-C4DA-41AE-B309-7FDE1AA4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6AFF-7153-4472-BD9F-8D37AF7E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92BF-D8A9-452B-9092-C5CBC139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0E91-3B4B-455B-9ED5-55FADA25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AE8B-94E0-40E7-B8F9-294443BF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4CDE-49A0-492A-9C3C-1C15793D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036F-D6D3-49EE-A862-1E611989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9D24-32AF-4777-9AE7-35F9776B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2F62-4DBF-4025-8B67-05B3D3B7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7FF-9CBA-4E37-82C5-6E80334E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0612-A79B-4DC2-BFBB-6FB545C7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9C2F-62E7-49EF-83AC-01B05FBF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B1AE-99D0-47A5-80B1-8BC5AC25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DE4-E064-4B60-AD3E-6D84C50E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8C4-D456-4018-A94A-BE4B2CDE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B9AE-EF0E-49BE-90CB-6837298B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0CA5-5A1E-48B4-BF3A-E18554EAE0D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CB53-C24A-434C-AEBC-38E283A2E39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biriki@husk-cbc.eu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Magyarország-Szlovákia Határon Átnyúló 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gyüttműködési Program 2007-2013 </a:t>
            </a:r>
            <a:br>
              <a:rPr sz="2500"/>
            </a:b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artnerkereső fó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Lučenec, 2011.08.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hu-HU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Bővebb információkért, kérjük keressék fel honlapunk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husk-cbc.e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ktuális információ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ézikönyvek (pl.: IMIR 2007-20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Útmutatók (pl.: elszámolható költségekrő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Egyéb letölthető dokumentumok (pl.: PI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biriki@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célj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elsősorban partnerkeresés + felmerült kérdések megvitatá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résztvevő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lehetséges pályázók és Közös Technikai Titkárság képviselő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unkamene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rövid általános információk ismertetése a programról, a felhívásról és maga a </a:t>
            </a:r>
            <a:r>
              <a:rPr b="0" lang="hu-HU" sz="2600" spc="-1" strike="noStrike">
                <a:solidFill>
                  <a:srgbClr val="c0504d"/>
                </a:solidFill>
                <a:latin typeface="Arial"/>
              </a:rPr>
              <a:t>partnerkeres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munkacsoportos megbeszélések sor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Evolúció?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4130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2001-2002-es Magyarország-Szlovákia Phare CBC (Cross-border Co-operatio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zös Kisprojekt A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-Ukrajna Szomszédsági Program 2004-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 Határon Átnyúló Együttműködési Program 2007-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kiírás indikatív pénzügyi ke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372 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372 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8  522 875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5 548 000 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 538 887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típuso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Tükör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iegészít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javaslatok példány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7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5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2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óváhagyott projektjavaslatok 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1 program (HU0109): 9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 program (2002/000-604): 11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7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6 db + 18 db projekt koncep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zakmai értékelés elvárás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Fenntartható fejlőd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Környezeti fenntartható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Esélyegyenlő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zető partner e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krité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</a:t>
            </a:r>
            <a:br>
              <a:rPr sz="2800"/>
            </a:b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- MÚ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1484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és 2. pályázati felhív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40328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épek 001"/>
          <p:cNvPicPr/>
          <p:nvPr/>
        </p:nvPicPr>
        <p:blipFill>
          <a:blip r:embed="rId1"/>
          <a:stretch/>
        </p:blipFill>
        <p:spPr>
          <a:xfrm>
            <a:off x="395280" y="2492280"/>
            <a:ext cx="2517840" cy="334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3203640" y="1557360"/>
            <a:ext cx="2376360" cy="3736800"/>
            <a:chOff x="3203640" y="1557360"/>
            <a:chExt cx="2376360" cy="3736800"/>
          </a:xfrm>
        </p:grpSpPr>
        <p:pic>
          <p:nvPicPr>
            <p:cNvPr id="94" name="Picture 8" descr="Kép 016"/>
            <p:cNvPicPr/>
            <p:nvPr/>
          </p:nvPicPr>
          <p:blipFill>
            <a:blip r:embed="rId2"/>
            <a:stretch/>
          </p:blipFill>
          <p:spPr>
            <a:xfrm>
              <a:off x="3203640" y="1557360"/>
              <a:ext cx="237636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9"/>
            <p:cNvSpPr/>
            <p:nvPr/>
          </p:nvSpPr>
          <p:spPr>
            <a:xfrm>
              <a:off x="5205240" y="2075400"/>
              <a:ext cx="244080" cy="230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6084720" y="1916280"/>
            <a:ext cx="2521080" cy="3808080"/>
            <a:chOff x="6084720" y="1916280"/>
            <a:chExt cx="2521080" cy="3808080"/>
          </a:xfrm>
        </p:grpSpPr>
        <p:pic>
          <p:nvPicPr>
            <p:cNvPr id="97" name="Picture 11" descr="Kép 012"/>
            <p:cNvPicPr/>
            <p:nvPr/>
          </p:nvPicPr>
          <p:blipFill>
            <a:blip r:embed="rId3"/>
            <a:stretch/>
          </p:blipFill>
          <p:spPr>
            <a:xfrm>
              <a:off x="6084720" y="1916280"/>
              <a:ext cx="2521080" cy="38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12"/>
            <p:cNvSpPr/>
            <p:nvPr/>
          </p:nvSpPr>
          <p:spPr>
            <a:xfrm>
              <a:off x="7776360" y="3501360"/>
              <a:ext cx="259200" cy="17568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43280" y="18864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- J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rcRect l="22881" t="29339" r="17894" b="13700"/>
          <a:stretch/>
        </p:blipFill>
        <p:spPr>
          <a:xfrm>
            <a:off x="285840" y="1714680"/>
            <a:ext cx="4680000" cy="3646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79280" y="1197000"/>
            <a:ext cx="53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és további pályázati felhívás elvár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kepek 005"/>
          <p:cNvPicPr/>
          <p:nvPr/>
        </p:nvPicPr>
        <p:blipFill>
          <a:blip r:embed="rId2"/>
          <a:stretch/>
        </p:blipFill>
        <p:spPr>
          <a:xfrm>
            <a:off x="5435640" y="1700280"/>
            <a:ext cx="313380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79280" y="544500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-</cp:lastModifiedBy>
  <dcterms:modified xsi:type="dcterms:W3CDTF">2011-08-01T22:06:24Z</dcterms:modified>
  <cp:revision>63</cp:revision>
  <dc:subject/>
  <dc:title>Luh o</dc:title>
</cp:coreProperties>
</file>