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7C0-01CE-45CA-81FD-F346BAEB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EBA-0C0C-4C8F-BCFA-03432745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A13-D1AC-495C-8945-BEB66E2F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78A5-5C59-4653-94F4-D8B34C23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6120-041C-4F10-A961-5450E5CD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7996-19BB-4A5E-9DBE-A03623EE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B785-F0BB-4872-9848-ED69D547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B6E0-1A46-4CE1-ACB7-79E8ECBF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1368-7A75-4F5B-BB49-4D1912A0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7B0F-2921-4439-B620-9AA80589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B1C1-9045-4215-A816-1714DAB1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703B-E9E8-4351-9D22-1FB2A799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5D8D-FB52-4D21-90C2-864AE728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8B37-DBB0-419B-9697-034833BC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4C88-2918-4B85-B588-933F0646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B0A2-9C10-40E6-9D37-FC7D4FAD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D9CA-83E2-4911-9036-F9F6DD28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E3B1-3C3A-4105-94C9-9047EB41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D9E-4769-4F23-A405-B9DECFBF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0F9-D40E-4D29-B0B1-7D097115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D8F-C8FE-4C39-88CC-92AB6ECE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CFF-A62F-4413-BCAC-8BD51586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CD6-5EE2-46A3-8093-612699BC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6A2-A168-464F-A00C-4ADB8B4C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5E6B-354F-4B7B-9434-60A78F91936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6B33-1C31-4142-B552-A4E861D59CF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biriki@husk-cbc.eu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Magyarország-Szlovákia Határon Átnyúló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gyüttműködési Program 2007-2013 </a:t>
            </a:r>
            <a:br>
              <a:rPr sz="2500"/>
            </a:b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artnerkereső fó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Lučenec, 2011.08.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hu-HU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Bővebb információkért, kérjük keressék fel honlapunk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husk-cbc.e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tuális információ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ézikönyvek (pl.: IMIR 2007-20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Útmutatók (pl.: elszámolható költségekrő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gyéb letölthető dokumentumok (pl.: PI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biriki@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élj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elsősorban partnerkeresés + felmerült kérdések megvitatá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észtvevő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lehetséges pályázók és Közös Technikai Titkárság képviselő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unkamene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rövid általános információk ismertetése a programról, a felhívásról és maga a </a:t>
            </a:r>
            <a:r>
              <a:rPr b="0" lang="hu-HU" sz="2600" spc="-1" strike="noStrike">
                <a:solidFill>
                  <a:srgbClr val="c0504d"/>
                </a:solidFill>
                <a:latin typeface="Arial"/>
              </a:rPr>
              <a:t>partnerkeres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munkacsoportos megbeszélések sor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Evolúció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4130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2001-2002-es Magyarország-Szlovákia Phare CBC (Cross-border Co-operatio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zös Kisprojekt A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-Ukrajna Szomszédsági Program 2004-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 Határon Átnyúló Együttműködési Program 2007-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kiírás indikatív pénzügyi ke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372 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372 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8  522 875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5 548 000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 538 887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típuso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Tükör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iegészít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javaslatok példány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7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5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2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óváhagyott projektjavaslatok 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1 program (HU0109): 9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 program (2002/000-604): 11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6 db + 18 db projekt koncep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zakmai értékelés elvárás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Fenntartható fejlő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Környezeti fenntartható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Esélyegyenlő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zető partner e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krité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</a:t>
            </a:r>
            <a:br>
              <a:rPr sz="2800"/>
            </a:b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- MÚ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148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és 2. pályázati felhí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40328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épek 001"/>
          <p:cNvPicPr/>
          <p:nvPr/>
        </p:nvPicPr>
        <p:blipFill>
          <a:blip r:embed="rId1"/>
          <a:stretch/>
        </p:blipFill>
        <p:spPr>
          <a:xfrm>
            <a:off x="395280" y="2492280"/>
            <a:ext cx="2517840" cy="334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3203640" y="1557360"/>
            <a:ext cx="2376360" cy="3736800"/>
            <a:chOff x="3203640" y="1557360"/>
            <a:chExt cx="2376360" cy="3736800"/>
          </a:xfrm>
        </p:grpSpPr>
        <p:pic>
          <p:nvPicPr>
            <p:cNvPr id="94" name="Picture 8" descr="Kép 016"/>
            <p:cNvPicPr/>
            <p:nvPr/>
          </p:nvPicPr>
          <p:blipFill>
            <a:blip r:embed="rId2"/>
            <a:stretch/>
          </p:blipFill>
          <p:spPr>
            <a:xfrm>
              <a:off x="3203640" y="1557360"/>
              <a:ext cx="237636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5205240" y="2075400"/>
              <a:ext cx="244080" cy="230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6084720" y="1916280"/>
            <a:ext cx="2521080" cy="3808080"/>
            <a:chOff x="6084720" y="1916280"/>
            <a:chExt cx="2521080" cy="3808080"/>
          </a:xfrm>
        </p:grpSpPr>
        <p:pic>
          <p:nvPicPr>
            <p:cNvPr id="97" name="Picture 11" descr="Kép 012"/>
            <p:cNvPicPr/>
            <p:nvPr/>
          </p:nvPicPr>
          <p:blipFill>
            <a:blip r:embed="rId3"/>
            <a:stretch/>
          </p:blipFill>
          <p:spPr>
            <a:xfrm>
              <a:off x="6084720" y="1916280"/>
              <a:ext cx="2521080" cy="38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7776360" y="3501360"/>
              <a:ext cx="259200" cy="1756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3280" y="188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- J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rcRect l="22881" t="29339" r="17894" b="13700"/>
          <a:stretch/>
        </p:blipFill>
        <p:spPr>
          <a:xfrm>
            <a:off x="285840" y="1714680"/>
            <a:ext cx="4680000" cy="3646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79280" y="1197000"/>
            <a:ext cx="53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és további pályázati felhívás elvár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epek 005"/>
          <p:cNvPicPr/>
          <p:nvPr/>
        </p:nvPicPr>
        <p:blipFill>
          <a:blip r:embed="rId2"/>
          <a:stretch/>
        </p:blipFill>
        <p:spPr>
          <a:xfrm>
            <a:off x="5435640" y="1700280"/>
            <a:ext cx="313380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79280" y="54450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-</cp:lastModifiedBy>
  <dcterms:modified xsi:type="dcterms:W3CDTF">2011-08-01T22:06:24Z</dcterms:modified>
  <cp:revision>63</cp:revision>
  <dc:subject/>
  <dc:title>Luh o</dc:title>
</cp:coreProperties>
</file>