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40E1-E367-432D-8E42-1D62A6F75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307F-428D-461F-88A6-3817E73E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BD3D-1765-41B2-B46A-DE9044C55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102D-E333-48AA-9599-A3238CE6D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48C9-77F0-4B89-9867-84376451A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C2D2-54DD-477F-8570-9B22F19D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14E4-E4D9-415D-BD7F-EC6031E0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827DE-B66D-47D8-BB13-DFABA2F6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8B83-DA6B-483F-A162-73867B25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8DF2F-7C3D-4449-AE9B-B3C1EB5E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C776-5088-486F-88E9-FE09DD11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E5C4-FFDE-4EDC-A91D-BF0109A1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A420-FF37-45D3-8892-BFCC3AFA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493F4-6129-4AA7-8645-7CE4FD14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C6FE-FAC2-40EA-8B45-FC5412D7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E1F7-4282-4EF3-901E-6AE0ADCCF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AF23-237F-4FD7-8891-6804589E3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BDCD-F4A6-4357-BB49-4DA00EFF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4A71-0DC5-4BAD-A572-A20F3018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777C-2C9D-4D8C-8CB3-BD00A49B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758D-B246-4B8A-9695-68FBC767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1F93-B603-4053-B1FA-580D892C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3E41-0812-42A2-A6DF-550B243C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706E-E202-427D-8678-4743F815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8D5E-D956-406C-9A84-A39C8CA57D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DE59-263C-4D23-89B7-DC2D40198C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abiriki@husk-cbc.eu" TargetMode="External"/><Relationship Id="rId3" Type="http://schemas.openxmlformats.org/officeDocument/2006/relationships/hyperlink" Target="mailto:abiriki@husk-cbc.eu" TargetMode="External"/><Relationship Id="rId4" Type="http://schemas.openxmlformats.org/officeDocument/2006/relationships/hyperlink" Target="mailto:abiriki@husk-cbc.eu" TargetMode="External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HUSK 4. pályázati felhívás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Információs nap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333333"/>
                </a:solidFill>
                <a:latin typeface="Arial"/>
              </a:rPr>
              <a:t>Biriki Ari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HU-SK JTS, Budap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Eger, 2011.08.3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artnerek közösen kiválasztanak egy vezetőt maguk közül, ak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ámogatási szerződé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 nevében a szerződéskötő hatóságg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rtnerségi megállapodá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kel a projekt végrehajtását érintő feladatokról, felelőségekről, határidőkrő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ogadja az uniós támogatást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és felel a partnerek közötti elosztásáér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lel a projekt teljes végrehajtásáért az illetékes programirányító hatóság előt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K – együttműködési kritérium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ejleszt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végrehaj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alkalmazotta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inanszírozá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39640" y="5013360"/>
            <a:ext cx="8209080" cy="79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égy feltétel közül 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legalább kettő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bizonyíthatóan teljesíteni kel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jogosult területen kívül megvalósítandó tevékenységek elszámolható költsége nem haladhatja meg a projekt elszámolható összköltségének 10%-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őkészítő költségek (1. költségvetési sor) - Az adott partner költségvetésének max.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an jogosult. A szerződéskötésig felmerült költség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6.1 és 6.2 sorok projekt szintű összege nem haladhatja meg a projekt jogosult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7.3-7.5 (rezsi) sorok összege nem haladhatja meg az adott partner személyi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25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ojekt megszabott min.-max. méretei = </a:t>
            </a:r>
            <a:r>
              <a:rPr b="0" lang="sk-SK" sz="2000" spc="-1" strike="noStrike">
                <a:solidFill>
                  <a:srgbClr val="ff3300"/>
                </a:solidFill>
                <a:latin typeface="Arial"/>
              </a:rPr>
              <a:t>85%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(ERF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eadandók</a:t>
            </a: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1 eredeti+1 másol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Calibri"/>
              </a:rPr>
              <a:t>nyomtatva, lepecsételve és aláírva</a:t>
            </a: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 beküldendő dokumentumok a következők: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cc0000"/>
                </a:solidFill>
                <a:latin typeface="Calibri"/>
              </a:rPr>
              <a:t>Vezető Partner nyilatkozat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(a nyomtatvány elérhető magyar VP-nek magyarul, szlovák VP-nek szlovákul) - nyomtatva, törvényes képviselő által aláírva és lepecsételve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700" spc="-1" strike="noStrike">
                <a:solidFill>
                  <a:srgbClr val="cc0000"/>
                </a:solidFill>
                <a:latin typeface="Calibri"/>
              </a:rPr>
              <a:t>Partnerségi nyilatkozat</a:t>
            </a:r>
            <a:r>
              <a:rPr b="0" lang="sk-SK" sz="1700" spc="-1" strike="noStrike">
                <a:solidFill>
                  <a:srgbClr val="000000"/>
                </a:solidFill>
                <a:latin typeface="Calibri"/>
              </a:rPr>
              <a:t> (az összes támogatásban részesülő partner törvényes képviselője által aláírva) - 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nyomtatva, törvényes képviselő által aláírva és lepecsételve - 1 db dokumentu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Calibri"/>
              </a:rPr>
              <a:t>nyomtatva</a:t>
            </a: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 beküldendő dokumentumok a következők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Calibri"/>
              </a:rPr>
              <a:t>1. melléklet - 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Amennyiben a partnerek az együttműködési kritériumok közül a </a:t>
            </a:r>
            <a:r>
              <a:rPr b="0" lang="hu-HU" sz="1700" spc="-1" strike="noStrike">
                <a:solidFill>
                  <a:srgbClr val="cc0000"/>
                </a:solidFill>
                <a:latin typeface="Calibri"/>
              </a:rPr>
              <a:t>„Közös fejlesztés”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feltételét választják, a megfelelőség igazolására szükséges az előkészítő tárgyalásokra szóló meghívók, jelenléti ívek, valamint a megbeszélések során készült jegyzőkönyvek pályázathoz való csatolása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2. melléklet - A projekt </a:t>
            </a:r>
            <a:r>
              <a:rPr b="0" lang="hu-HU" sz="1700" spc="-1" strike="noStrike">
                <a:solidFill>
                  <a:srgbClr val="cc0000"/>
                </a:solidFill>
                <a:latin typeface="Calibri"/>
              </a:rPr>
              <a:t>fenntarthatóságát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3. melléklet - Az </a:t>
            </a:r>
            <a:r>
              <a:rPr b="0" lang="hu-HU" sz="1700" spc="-1" strike="noStrike">
                <a:solidFill>
                  <a:srgbClr val="cc0000"/>
                </a:solidFill>
                <a:latin typeface="Calibri"/>
              </a:rPr>
              <a:t>esélyegyenlőséget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Beruházási projektek esetében (ahol a 6. költségvetési soron “Építés/Investície” költséget kívánnak elszámoln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Értékelés mene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00000" y="1773360"/>
            <a:ext cx="6551280" cy="4347720"/>
            <a:chOff x="900000" y="1773360"/>
            <a:chExt cx="6551280" cy="4347720"/>
          </a:xfrm>
        </p:grpSpPr>
        <p:sp>
          <p:nvSpPr>
            <p:cNvPr id="116" name=""/>
            <p:cNvSpPr/>
            <p:nvPr/>
          </p:nvSpPr>
          <p:spPr>
            <a:xfrm>
              <a:off x="900000" y="1773360"/>
              <a:ext cx="1540800" cy="658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ó, a KSZT és a RIP támogatásá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00000" y="361764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 R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00000" y="4935240"/>
              <a:ext cx="1540800" cy="5266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/vagy külső szakértő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00000" y="572580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M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41360" y="190512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 kidolgoz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5520" y="3299400"/>
              <a:ext cx="25218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 benyújtása/befogad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25520" y="4047480"/>
              <a:ext cx="25218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Formai és jogosultsági ellenőrz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03600" y="2968200"/>
              <a:ext cx="1147680" cy="9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ánypótlás (az értékelési táblában rögzített, előre meghatározott esetekbe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03200" y="3749760"/>
              <a:ext cx="9806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784200" y="2168280"/>
              <a:ext cx="1440" cy="65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6504120" y="216864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22560" y="2432160"/>
              <a:ext cx="14806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ismétel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23120" y="2300040"/>
              <a:ext cx="2160" cy="13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1800" y="2432160"/>
              <a:ext cx="12934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41360" y="506736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ok szakmai értékelé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01320" y="2959200"/>
              <a:ext cx="2801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01320" y="4671720"/>
              <a:ext cx="28018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03200" y="295920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01320" y="298656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22560" y="4671720"/>
              <a:ext cx="144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41360" y="5725800"/>
              <a:ext cx="33624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ok kiválasztása, támogatási dönt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22560" y="5462280"/>
              <a:ext cx="144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27240" y="3141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 naptári n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Pályázati modul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Application module) HU-SK nyelven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Nemzeti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National module) – magyar  partnerek részére – ENG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Közös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Joint module) – Vezető Partnerek számára – E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égül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A pályázati felhívással kapcsolatos minden információ és dokumentum megtalálható a honlapunkon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www.husk-cbc.eu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elhív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útmutat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és melléklete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kitöltési útmutató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Útmutató a költségek elszámolhatóságáho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Értékelő tábláza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Megvalósíthatósági tanulmány szerkeze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rojektvégrehajtási kézikönyv (PI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szönöm a figyelmük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ikeres pályázást kívánun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abiriki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@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usk-cbc.eu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 HUSK 1101 pályázati felhívá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MIR 2007-2013 pályázati modu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Kérdések és válaszok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SK 11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endületben a magyar-szlovák határmenti fejlesztés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2011. június 23. – 2011. október 2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lektronikus beadási határidő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1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IMIR 2007-2013 Monitoring és Információs Rendszer erre szolgáló elektronikus pályázati felületén (IMIR 2007-2013 Front Office) – elérhető a </a:t>
            </a:r>
            <a:r>
              <a:rPr b="0" lang="hu-H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husk-cbc.eu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oldalról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kért papír alapú dokumentumok beadási határidej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postai bélyegző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12.00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személyesen vagy meghatalmazott útján a 1016 Budapest, Gellérthegy u. 30-32. Iratkezelé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0000"/>
                </a:solidFill>
                <a:latin typeface="Arial"/>
              </a:rPr>
              <a:t>NE felejtsék el a „BENYÚJT” gombot lenyomni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4732200" y="0"/>
            <a:ext cx="44118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395280" y="155736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ioritások és beavatkozási terület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68360" y="249228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– Gazdaság és társa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5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7 357 498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- Környezet- és természetvédelem, elérhető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4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2 498 083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95280" y="4869000"/>
            <a:ext cx="4103640" cy="11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USK 1101 felhívás keretössze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9 855 581 E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RIORITÁSI TENGEL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1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Üzleti infrastruktúra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jlesztése  - 7 545 672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2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TF és innováció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infrastruktúra közös fejlesztése és határon átnyúló kutatási együttműködés - 5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3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Turisztika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termékek és vonzerők fejlesztése, desztináció-menedzsment szervezetek és kapcsolódó infrastruktúra felállítása - 7 477 401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4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Egészségügy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kockázatkezelési kapacitások közös fejlesztése és összehangolt használata - 1 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5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hálózat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partnerségi, program- és projekttervezési és -irányítási kapacitások fejlesztése - 1 5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1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épzés, oktatá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hálózatépítés - 1 234 425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2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Munkaerő-piaci kezdeményezések - 2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7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Emberek közötti (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eople to peopl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 kapcsolatépítés - 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 PRIORITÁSI TENGELY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1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Víz-, és hulladékgazdálkodás, megújuló energia - 10 813 699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2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Közös természetvédelmi tevékenységek - 3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1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isléptékű útépítés, kerékpárutak  - 4 728 517 EU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tömegközlekedés fejlesztése  - 1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4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anulmányok és tervek  (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Jobb határátkelési lehetőségek biztosítása a határfolyókon)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- 2 955 868 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szletesebben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ályázati útmutató 1.3 fejeztéb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vashatnak az elérhető intézkedésekrő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imum elvárás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novatív, életképes/fenntartható projekt ötlete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sélyegyenlősé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enntartható fejlőd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öltséghatékonysá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Határon átnyúló hat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4K krité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tnyelvűség – DE: hivatalos kommunikációs nyelv az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ang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További elváráso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rojekt elképzel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novatív, ötletes, hozzáadott értéket, CB hatást képviselő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Finanszírozás</a:t>
            </a:r>
            <a:r>
              <a:rPr b="0" lang="sk-SK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– saját vs külső források, a kötelező önerő valójában többszöröse az előírt % összegnek, mivel utófinanszírozás kerül alkalmazás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artnerség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Életképes partnerség, kölcsönös bizalom (horizontális, vertikális szinten), kellő kapacitásokkal rendelkező (HR, tőke, szakmai, EUs ismerete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ladatkörök, tevékenységek kellő szintű </a:t>
            </a: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delegálás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partnerek között, de az adott partner szervezeti keretein belül 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Reális költségvet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megalapozott, összhangban a tevékenységekkel, indikátorokk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Indikátorok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partner és projekt szinten– kimenet (rövidtávú) és eredmény (rövidtávú) mutató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5 éves fenntartási kötelezettsé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Archiválá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2022-ig megőrizni a kapcsolódó dokumentumok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8:38:13Z</dcterms:created>
  <dc:creator>birikiarianna</dc:creator>
  <dc:description/>
  <dc:language>en-US</dc:language>
  <cp:lastModifiedBy>birikiarianna</cp:lastModifiedBy>
  <dcterms:modified xsi:type="dcterms:W3CDTF">2011-08-30T12:32:43Z</dcterms:modified>
  <cp:revision>100</cp:revision>
  <dc:subject/>
  <dc:title>Luh o</dc:title>
</cp:coreProperties>
</file>