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7C16-895F-46FE-8F32-C69AB2A05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1524-821E-42C3-A42E-5EEFA26E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B461-E7E3-49CC-9E1A-CBCA6C042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018E-40B3-4FE2-BDDE-3BD1A57BA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B63A-9D72-4D29-AEDA-32AEF335B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83A1-55EF-4DD2-B36B-262E4342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5B3B-85A1-4E31-90CB-F4C9BAE0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193A-6D24-422C-8363-B26C07F9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4616-EF3C-4CEB-95CC-7A3E96F4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19CD-3471-426E-87CF-72E2CBB8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D4B4-9DCB-4C54-9901-A6D5560F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1BC3-FEC2-4EA6-A2D4-6CE4A2C8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2794-8EBE-42FA-8D68-8B0AC2D0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A361-AB33-4D22-B6FD-BAFE84DF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103F-2315-48EA-85CE-47B5CC85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2F01-3561-4D83-BD13-D6EAED14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E063-750B-42F7-833F-FB4CA1E2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559E-F4AF-4A4E-8C81-A0100391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B8D6-B20A-4F7E-B42C-92D876AE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64F2-B035-4269-A30C-EA3C8F92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DE8A-0F79-4E5C-94D0-F66A1A4E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426F-7839-4A27-AC8F-AF483C65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34DF-C771-433A-B967-BF67B931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8F95-1DA1-4992-9EA0-C98D2458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3394-F0C5-43AF-A41C-2297C5F3D19C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C31F-6627-4E0C-8C5E-35F9C672BB24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4. pályázati kiírás online pályázati moduljána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Fő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714680"/>
            <a:ext cx="35719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Ő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KT CÍ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fejező, nem túl hossz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ÖVID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ax 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2052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216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714240" y="2786040"/>
            <a:ext cx="33814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Azonos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500880" y="16430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ARTNER ADAT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ROJEKTRE VONATKOZÓ PARTNER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213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Képvisel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71360" y="1714680"/>
            <a:ext cx="6213600" cy="4214520"/>
          </a:xfrm>
          <a:prstGeom prst="rect">
            <a:avLst/>
          </a:prstGeom>
          <a:ln w="0">
            <a:noFill/>
          </a:ln>
        </p:spPr>
      </p:pic>
      <p:sp>
        <p:nvSpPr>
          <p:cNvPr id="116" name="Szövegdoboz 7"/>
          <p:cNvSpPr/>
          <p:nvPr/>
        </p:nvSpPr>
        <p:spPr>
          <a:xfrm>
            <a:off x="6500880" y="171468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APCSOLATTAR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ÖRVÉNYES KÉPVISEL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7"/>
          <p:cNvSpPr/>
          <p:nvPr/>
        </p:nvSpPr>
        <p:spPr>
          <a:xfrm>
            <a:off x="6000840" y="1000080"/>
            <a:ext cx="30002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SZÁM / PROJEKTMEGVALÓSÍTÁSI TAPASZTAL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UTOLSÓ LEZÁRT ÜZLETI 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. MEGVALÓSÍTÁSÁNAK HELYSZÍ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91320" cy="3929040"/>
          </a:xfrm>
          <a:prstGeom prst="rect">
            <a:avLst/>
          </a:prstGeom>
          <a:ln w="0">
            <a:noFill/>
          </a:ln>
        </p:spPr>
      </p:pic>
      <p:sp>
        <p:nvSpPr>
          <p:cNvPr id="119" name="Szövegdoboz 6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Üzleti 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gyüttműködési kritéri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6000840" y="1746360"/>
            <a:ext cx="3000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Érték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Leírá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42920" y="1781280"/>
            <a:ext cx="57243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2857680" y="428760"/>
            <a:ext cx="6000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Projekt leí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6143760" y="1000080"/>
            <a:ext cx="2857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x. karakterszám: 2000 +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zövegdoboz 6" descr=""/>
          <p:cNvPicPr/>
          <p:nvPr/>
        </p:nvPicPr>
        <p:blipFill>
          <a:blip r:embed="rId1"/>
          <a:stretch/>
        </p:blipFill>
        <p:spPr>
          <a:xfrm>
            <a:off x="133200" y="4492800"/>
            <a:ext cx="8913960" cy="161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592956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Célok és tevékenység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onatkozó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ervezett költ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-e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285840" y="2214720"/>
            <a:ext cx="442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10"/>
          <p:cNvSpPr/>
          <p:nvPr/>
        </p:nvSpPr>
        <p:spPr>
          <a:xfrm>
            <a:off x="6286680" y="171468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Finanszírozási forrá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részletes költségve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ütemez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6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21360" cy="31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Választott partner részletes költségveté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286680" y="1553760"/>
            <a:ext cx="264312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Előkészítő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emélyi köl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Útiköltség és alapellátmány (napidíj és szállá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olgáltat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Beszerzések (Eszközö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Építési beruhá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Rezsi, működési és adminisztratív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2920" y="1857240"/>
            <a:ext cx="61167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hu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lovák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sk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pályázatot két nyelven kell kitölte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 megnyitott felület nyelvétől függetlenü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rjük tanulmányozzák az IMIR 2007-2013 Front Office Felhasználói Kézikönyvet, amely megtalálható a pályázati felhívás mellékletei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32520" cy="3286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6215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zövegdoboz 10"/>
          <p:cNvSpPr/>
          <p:nvPr/>
        </p:nvSpPr>
        <p:spPr>
          <a:xfrm>
            <a:off x="6215040" y="1571760"/>
            <a:ext cx="2714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olgáltatások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eszerzések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2548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142920" y="3357720"/>
            <a:ext cx="4819680" cy="202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142920" y="4714920"/>
            <a:ext cx="30002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a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47" name="Szövegdoboz 6"/>
          <p:cNvSpPr/>
          <p:nvPr/>
        </p:nvSpPr>
        <p:spPr>
          <a:xfrm>
            <a:off x="142920" y="1143000"/>
            <a:ext cx="657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Finanszírozási for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10"/>
          <p:cNvSpPr/>
          <p:nvPr/>
        </p:nvSpPr>
        <p:spPr>
          <a:xfrm>
            <a:off x="6286680" y="1643040"/>
            <a:ext cx="2714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Ütemez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51" name="Téglalap 6"/>
          <p:cNvSpPr/>
          <p:nvPr/>
        </p:nvSpPr>
        <p:spPr>
          <a:xfrm>
            <a:off x="142920" y="492912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Ne feledje, hogy a programban a visszafizetés hosszú, kétszintű folyamat, vagyis 4-6 hónap is eltelhet a kifizetett számlák benyújtásától az ellenőrző testületeknek addig, míg az ERFA támogatás összege kifizetésre ker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10"/>
          <p:cNvSpPr/>
          <p:nvPr/>
        </p:nvSpPr>
        <p:spPr>
          <a:xfrm>
            <a:off x="6286680" y="1643040"/>
            <a:ext cx="271440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káto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 és 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ÓDOSÍT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tel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Indikáto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958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gyéb eszközö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ommunikációs eszközö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2857680" cy="287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14800" y="3416400"/>
            <a:ext cx="57434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ngedély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72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llenőrző lis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4091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10"/>
          <p:cNvSpPr/>
          <p:nvPr/>
        </p:nvSpPr>
        <p:spPr>
          <a:xfrm>
            <a:off x="6215040" y="1643040"/>
            <a:ext cx="2786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száma és címe, hogy kötelező-e vagy sem, és hogy milyen módon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jelölheti, hogy az adott mellékletet csatolta vagy elküld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42920" y="1666800"/>
            <a:ext cx="5929200" cy="4303800"/>
          </a:xfrm>
          <a:prstGeom prst="rect">
            <a:avLst/>
          </a:prstGeom>
          <a:ln w="0">
            <a:noFill/>
          </a:ln>
        </p:spPr>
      </p:pic>
      <p:sp>
        <p:nvSpPr>
          <p:cNvPr id="16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Melléklet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DOKUMENT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zövegdoboz 10"/>
          <p:cNvSpPr/>
          <p:nvPr/>
        </p:nvSpPr>
        <p:spPr>
          <a:xfrm>
            <a:off x="5286240" y="1571760"/>
            <a:ext cx="35719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TÖLT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DOKUMENTUMO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pír alapon csak - az eredeti aláírásokkal ellátott – melléklet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űrlapot szintén nem szükséges kinyomtatni. Az elektronikus formában elérhető mellékletek és egyéb támogató dokumentumok szintén feltölthetőek az elektronikus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modul elérhető a honlapunkon a pályázati kiírás oldalán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BENYÚJTÁ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z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TZÉ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ikeres pályázást kíváno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anadz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. név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ami megjegyezhet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4451400" cy="178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2"/>
          <a:stretch/>
        </p:blipFill>
        <p:spPr>
          <a:xfrm>
            <a:off x="285840" y="4143240"/>
            <a:ext cx="4451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létrehoz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folytat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nem törlőd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hiánypótlás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192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285920"/>
            <a:ext cx="357192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ÖRL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OVÁBB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BENYÚJTÁS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az ellenőrzött és megfelelően kitöltött pályáza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KILÉP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42920" y="127008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2857680" y="35712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285920"/>
            <a:ext cx="35719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ÁTTEKIN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ŰRLAP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ja és részletezi a tervezett projektet. A táblázat soraihoz ún.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OKUMENTU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285920"/>
            <a:ext cx="3571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szerkesztését,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8-30T15:05:53Z</dcterms:modified>
  <cp:revision>52</cp:revision>
  <dc:subject/>
  <dc:title>1. dia</dc:title>
</cp:coreProperties>
</file>