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7B31-1A56-48C3-AA6A-C1EDF524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520-B92C-4147-8320-925BE7AC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791E-FA54-49EF-B04A-335DF183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EA7-A86C-4117-92C3-A52E3A1F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55CB-E2AB-41A6-877E-4EE8442F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A72D-F947-4DF1-930B-37C69869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0770-EDFC-438B-B9C3-5730E807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B4ED-05A5-4CA0-B814-4B83BA9C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E3E2-4E3C-47DC-94CF-788AACAE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ACBE-C378-49D3-90BF-74653E6A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0B1A-1FCA-4BB6-A998-9426F9D1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702-3EC1-4285-BA35-F8689957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9D59-CDC7-4247-9225-74498A3D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41BD-C875-4F90-A6D6-222A62C3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A938-F533-4DC3-B878-0672EF15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CBF5-171C-4DD9-863F-189A42A1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6F7B-8B9E-4AB0-AC11-E360A202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BEA-130F-4CCC-A4F7-E2A5748B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C5FF-95DB-4BF7-9C0B-2AAAEA05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7A2-8F9F-4A2A-BDE2-D94B5B94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573-BF16-4C47-AA28-9BE4F494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1699-31D3-45CB-9EB4-FAB7FC09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79C9-7349-4F20-AE82-A4321E41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E1E3-D3C4-4D72-B5A1-B3835284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E3A5-CC1A-406A-92DB-9D8FCE776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4F66-86B2-41A3-8EF0-9427D140B2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Eger, 2011.08.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7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Jobb határátkelési lehetőségek biztosítása a határfolyókon)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8-30T12:32:43Z</dcterms:modified>
  <cp:revision>100</cp:revision>
  <dc:subject/>
  <dc:title>Luh o</dc:title>
</cp:coreProperties>
</file>