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A846-A1BD-45AF-9CD8-DC055373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035D-067C-404F-8B17-3AA53371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C7FC-E0C4-4370-8B76-0686D1E2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C7A2-450B-4E6E-B8C0-C7556098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67D4-88CF-474F-97BB-7D84C4A9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F527-A207-4DFA-AE23-B5764C39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F066-F1AC-45CC-8F2B-E499E1B2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7AB4-9187-43C8-ACD9-130C285B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1919-AF52-490C-BC7B-DD0153E8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0832-2DC2-4222-96BD-95BCD4DD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1460-49B1-4FCE-B3B8-8A7AA179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556B-1E26-44B2-8A8C-5A74A604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BAF5-0434-4E58-BE61-8858EE8A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284D-3953-4186-B50A-96668CE5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0CC5-4138-41BB-B0C9-DB5EAFAB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4A51-CD87-481B-98FB-C389CAA8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B508-3D11-4FB9-9EF0-BEC150A9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79CE-B72D-4544-B9C4-83D7CC35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6065-8FB0-4623-816E-3E4693CF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002D-E5C9-4063-93AB-72169146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FDA9-DCD3-4CAC-9253-903C624B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76A6-0E50-43DC-95CE-F89184BA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782B-8098-4590-8A85-D7704DBA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E399-A657-4864-B553-97B8872C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1712-09FF-455C-9399-714720AE8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45FC-27CE-40B8-B09D-989976361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Eger, 2011.08.3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Jobb határátkelési lehetőségek biztosítása a határfolyókon)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8-30T12:32:43Z</dcterms:modified>
  <cp:revision>100</cp:revision>
  <dc:subject/>
  <dc:title>Luh o</dc:title>
</cp:coreProperties>
</file>