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A0B0-221D-4C72-8635-7ABB7A4C1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CEBA-F253-48B8-BB6E-7860F31AB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2144-18BB-4875-913B-2EA32B380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E97A-C9EC-4DBD-837A-5210CB2A1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7DD58-009A-4316-8295-8A05B0A53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5EFA8-757B-4B5A-A8BE-171252510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35216-9450-4634-BC18-0BD9A528E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22FCC-66E5-4743-AB35-73A74150E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0B4A3-AD7D-4D36-9AF2-B46ED9B6A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086B1-2558-4B9C-8EA1-BA40628E4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130C1-DC51-4530-A3DE-D0A64108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82FB-6287-4C4D-956E-A89C51273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BADE5-6FA6-45B6-9123-DBE056DC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CB852-F66F-4EFC-8CC3-B88F9EEA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313CC-B3C4-4B92-9E64-26C05C2F9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7A2D5-5219-44DD-84B3-85A0AFE67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71227-2365-4F2D-AA3E-16B6A04D7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AAEC-9C4D-41F8-A180-66C679DD1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ED68-D446-4664-9D7A-8C018A107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BA70-8D0B-4872-A2EE-ECB4CE430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DB3E-B022-449B-B330-81216C23B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5098-DD24-4960-84FA-FA402EB8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8C64-2102-4B85-8BC7-3C1A0EF3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EBCA-1E9A-4692-A803-9E507F61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8ED2B-C41D-4603-BDA7-1D5B2C298932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839B3-9FCD-4691-84A3-DE0C48EB2B23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IMIR 2007-2013</a:t>
            </a:r>
            <a:br>
              <a:rPr sz="3600"/>
            </a:b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Monitoring és Információs Rendszer</a:t>
            </a:r>
            <a:r>
              <a:rPr b="0" lang="hu-H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898989"/>
                </a:solidFill>
                <a:latin typeface="Calibri"/>
              </a:rPr>
              <a:t>A 4. pályázati kiírás online pályázati moduljának bemutatá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Főad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zövegdoboz 7"/>
          <p:cNvSpPr/>
          <p:nvPr/>
        </p:nvSpPr>
        <p:spPr>
          <a:xfrm>
            <a:off x="5429160" y="1714680"/>
            <a:ext cx="3571920" cy="36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Ő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KT CÍ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ifejező, nem túl hossz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ÖVID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ax 25 karak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itöltéséhez szükséges a pályázati útmutató ismer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időtartama &gt;/=24 hón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142920" y="1785960"/>
            <a:ext cx="52052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zövegdoboz 7"/>
          <p:cNvSpPr/>
          <p:nvPr/>
        </p:nvSpPr>
        <p:spPr>
          <a:xfrm>
            <a:off x="5429160" y="1643040"/>
            <a:ext cx="357192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ÉSZLET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adatainak megtekin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adatainak módosí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törl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Ú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új partner hozzáadása a partner típusának megválasztásáv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14960" cy="2168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714240" y="2786040"/>
            <a:ext cx="338148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Azonosí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zövegdoboz 7"/>
          <p:cNvSpPr/>
          <p:nvPr/>
        </p:nvSpPr>
        <p:spPr>
          <a:xfrm>
            <a:off x="6500880" y="164304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PARTNER ADAT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 név, cím, adószám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PROJEKTRE VONATKOZÓ PARTNERAD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Jogi státusz (közjogi, központi, magánjogi), alkalmazottak száma, levelezési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mennyiben nem biztos valamely adatok tartalmában, kérjük használja a pályázati útmutatót illetve az IMIR kézikönyv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21360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Képviselő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71360" y="1714680"/>
            <a:ext cx="6213600" cy="4214520"/>
          </a:xfrm>
          <a:prstGeom prst="rect">
            <a:avLst/>
          </a:prstGeom>
          <a:ln w="0">
            <a:noFill/>
          </a:ln>
        </p:spPr>
      </p:pic>
      <p:sp>
        <p:nvSpPr>
          <p:cNvPr id="116" name="Szövegdoboz 7"/>
          <p:cNvSpPr/>
          <p:nvPr/>
        </p:nvSpPr>
        <p:spPr>
          <a:xfrm>
            <a:off x="6500880" y="171468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APCSOLATTAR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ÖRVÉNYES KÉPVISEL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örvényes képviselő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ALAPÍTÓ SZER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bban az esetben kell kitölteni, ha a Partner egy másik szervezet közvetlen irányítása alatt működik. (pl. a megye által működtetett középiskola stb. esetében a megyei önkormányza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zövegdoboz 7"/>
          <p:cNvSpPr/>
          <p:nvPr/>
        </p:nvSpPr>
        <p:spPr>
          <a:xfrm>
            <a:off x="6000840" y="1000080"/>
            <a:ext cx="30002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ÉTSZÁM / PROJEKTMEGVALÓSÍTÁSI TAPASZTAL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formációk a partner korábbi projektirányítási tapasztalatairól (Projektcím, költségvetés, részvétel típusa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UTOLSÓ LEZÁRT ÜZLETI 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utolsó üzleti évére vonatkozó információk (bevétel, kiadás, eredmény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. MEGVALÓSÍTÁSÁNAK HELYSZÍ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alamennyi helyszín, ahol a projektet vagy annak bizonyos részeit végrehajtjá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végrehajtása szempontjából releváns 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791320" cy="3929040"/>
          </a:xfrm>
          <a:prstGeom prst="rect">
            <a:avLst/>
          </a:prstGeom>
          <a:ln w="0">
            <a:noFill/>
          </a:ln>
        </p:spPr>
      </p:pic>
      <p:sp>
        <p:nvSpPr>
          <p:cNvPr id="119" name="Szövegdoboz 6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Üzleti ad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gyüttműködési kritérium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zövegdoboz 7"/>
          <p:cNvSpPr/>
          <p:nvPr/>
        </p:nvSpPr>
        <p:spPr>
          <a:xfrm>
            <a:off x="6000840" y="1746360"/>
            <a:ext cx="30002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z együttműködés szintje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fejlesz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végrehaj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végrehajtás közös finanszíroz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személy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álassza ki az egyik kritériumot úgy, hogy rákattint, majd válassza ki a baloldalon található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Érték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ző legördülő listájának egyik elemét, és magyarázza vagy indokolja a választást a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Leírá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mezőben. Ismételje meg a folyamatot valamennyi kritérium eseté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142920" y="1781280"/>
            <a:ext cx="572436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zövegdoboz 5"/>
          <p:cNvSpPr/>
          <p:nvPr/>
        </p:nvSpPr>
        <p:spPr>
          <a:xfrm>
            <a:off x="2857680" y="428760"/>
            <a:ext cx="6000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Projekt leírás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zövegdoboz 7"/>
          <p:cNvSpPr/>
          <p:nvPr/>
        </p:nvSpPr>
        <p:spPr>
          <a:xfrm>
            <a:off x="6143760" y="1000080"/>
            <a:ext cx="2857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CT DESCRI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ojektleírá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lamennyi témáról részletes, összefüggő leírásokat kell 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ax. karakterszám: 2000 + 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Szövegdoboz 6" descr=""/>
          <p:cNvPicPr/>
          <p:nvPr/>
        </p:nvPicPr>
        <p:blipFill>
          <a:blip r:embed="rId1"/>
          <a:stretch/>
        </p:blipFill>
        <p:spPr>
          <a:xfrm>
            <a:off x="133200" y="4492800"/>
            <a:ext cx="8913960" cy="1616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214200" y="1071720"/>
            <a:ext cx="5929560" cy="33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Célok és tevékenység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zövegdoboz 10"/>
          <p:cNvSpPr/>
          <p:nvPr/>
        </p:nvSpPr>
        <p:spPr>
          <a:xfrm>
            <a:off x="5500800" y="1643040"/>
            <a:ext cx="32144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KT TEVÉKENYSÉGEINEK LISTÁ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tevékenységek kapcsán az alábbi adatokat kell megadn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elős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gyéb a megvalósításba bevont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leír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ockáz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onatkozó periódu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ervezett költ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(segít annak azonosításában, hogy az adott tevékenység megfelelő arányt képvisel-e a projekten bel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2"/>
          <a:stretch/>
        </p:blipFill>
        <p:spPr>
          <a:xfrm>
            <a:off x="285840" y="2214720"/>
            <a:ext cx="442908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zövegdoboz 10"/>
          <p:cNvSpPr/>
          <p:nvPr/>
        </p:nvSpPr>
        <p:spPr>
          <a:xfrm>
            <a:off x="6286680" y="1714680"/>
            <a:ext cx="27144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Finanszírozási forrá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artnerszintű költségve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artnertábláz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társfinanszírozási forrás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részletes költségve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költségeinek ütemez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zövegdoboz 6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21360" cy="31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Választott partner részletes költségveté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6286680" y="1553760"/>
            <a:ext cx="2643120" cy="37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Előkészítő költség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Személyi költsé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Útiköltség és alapellátmány (napidíj és szállá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Szolgáltatás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Beszerzések (Eszközö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Építési beruház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Rezsi, működési és adminisztratív költség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142920" y="1857240"/>
            <a:ext cx="611676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zövegdoboz 5"/>
          <p:cNvSpPr/>
          <p:nvPr/>
        </p:nvSpPr>
        <p:spPr>
          <a:xfrm>
            <a:off x="428760" y="1344600"/>
            <a:ext cx="771516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pályázati elektronikus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agyar nyelvű kitöltési felü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ttps://www.doc.imis2007-2013.hu/elementafohu1/app/elementahusk.jn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lovák nyelvű kitöltési felü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ttps://www.doc.imis2007-2013.hu/elementafosk1/app/elementahusk.jn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pályázatot két nyelven kell kitölten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a megnyitott felület nyelvétől függetlenü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érjük tanulmányozzák az IMIR 2007-2013 Front Office Felhasználói Kézikönyvet, amely megtalálható a pályázati felhívás mellékletei közöt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Utazás és alapellátmán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1"/>
          <a:stretch/>
        </p:blipFill>
        <p:spPr>
          <a:xfrm>
            <a:off x="1071720" y="1643040"/>
            <a:ext cx="7832520" cy="3286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"/>
          <p:cNvPicPr/>
          <p:nvPr/>
        </p:nvPicPr>
        <p:blipFill>
          <a:blip r:embed="rId2"/>
          <a:stretch/>
        </p:blipFill>
        <p:spPr>
          <a:xfrm>
            <a:off x="357120" y="3357720"/>
            <a:ext cx="621504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Utazás és alapellátmán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zövegdoboz 10"/>
          <p:cNvSpPr/>
          <p:nvPr/>
        </p:nvSpPr>
        <p:spPr>
          <a:xfrm>
            <a:off x="6215040" y="1571760"/>
            <a:ext cx="271476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zolgáltatások (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eszerzések 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költségvetési sorok alatt harmadik szintű költségvetési alsorokat talál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ható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melyeknek nincs pontos ne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bben az esetben Önnek kell eldöntenie, hogy a költségvetési alsorok közül mennyire van szüksége, és hogyan szeretné kiadásait csoportosítani a fenti számok alatt, hogy ezek a legérthetőbb logikát tükrözzé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2548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2"/>
          <a:stretch/>
        </p:blipFill>
        <p:spPr>
          <a:xfrm>
            <a:off x="142920" y="3357720"/>
            <a:ext cx="4819680" cy="2022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"/>
          <p:cNvPicPr/>
          <p:nvPr/>
        </p:nvPicPr>
        <p:blipFill>
          <a:blip r:embed="rId3"/>
          <a:stretch/>
        </p:blipFill>
        <p:spPr>
          <a:xfrm>
            <a:off x="142920" y="4714920"/>
            <a:ext cx="300024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zövegdoboz 10"/>
          <p:cNvSpPr/>
          <p:nvPr/>
        </p:nvSpPr>
        <p:spPr>
          <a:xfrm>
            <a:off x="6286680" y="1643040"/>
            <a:ext cx="2714400" cy="27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Választott partner társfinanszírozási forr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es mezők automatikusan számolódnak ki a partnerek jogi státuszának tükréb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mennyiben a szervezet bevételekre tesz szert a projektmegvalósítás során, úgy annak tervezett  mértékét itt kell meg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60960" cy="3143160"/>
          </a:xfrm>
          <a:prstGeom prst="rect">
            <a:avLst/>
          </a:prstGeom>
          <a:ln w="0">
            <a:noFill/>
          </a:ln>
        </p:spPr>
      </p:pic>
      <p:sp>
        <p:nvSpPr>
          <p:cNvPr id="147" name="Szövegdoboz 6"/>
          <p:cNvSpPr/>
          <p:nvPr/>
        </p:nvSpPr>
        <p:spPr>
          <a:xfrm>
            <a:off x="142920" y="1143000"/>
            <a:ext cx="65721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Finanszírozási forrás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zövegdoboz 10"/>
          <p:cNvSpPr/>
          <p:nvPr/>
        </p:nvSpPr>
        <p:spPr>
          <a:xfrm>
            <a:off x="6286680" y="1643040"/>
            <a:ext cx="27144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lőrejelzésre a program költségvetésének kifizetési ütemezésének megtervezéséhez van szük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egadott összegek tájékoztató jellegűek, azonban a tervezett ütemezéstől való jelentős eltérés esetén a program a pénzügyi kötelezettségvállalás visszavonásának tárgya leh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Ütemezé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60960" cy="3143160"/>
          </a:xfrm>
          <a:prstGeom prst="rect">
            <a:avLst/>
          </a:prstGeom>
          <a:ln w="0">
            <a:noFill/>
          </a:ln>
        </p:spPr>
      </p:pic>
      <p:sp>
        <p:nvSpPr>
          <p:cNvPr id="151" name="Téglalap 6"/>
          <p:cNvSpPr/>
          <p:nvPr/>
        </p:nvSpPr>
        <p:spPr>
          <a:xfrm>
            <a:off x="142920" y="4929120"/>
            <a:ext cx="885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70c0"/>
                </a:solidFill>
                <a:latin typeface="Arial"/>
              </a:rPr>
              <a:t>Ne feledje, hogy a programban a visszafizetés hosszú, kétszintű folyamat, vagyis 4-6 hónap is eltelhet a kifizetett számlák benyújtásától az ellenőrző testületeknek addig, míg az ERFA támogatás összege kifizetésre ker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zövegdoboz 10"/>
          <p:cNvSpPr/>
          <p:nvPr/>
        </p:nvSpPr>
        <p:spPr>
          <a:xfrm>
            <a:off x="6286680" y="1643040"/>
            <a:ext cx="2714400" cy="34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kátor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gram által meghatározott mutatók, és az Ön saját projekt-specifikus mutató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 MÓDOSÍT gombra kattint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beállíthatja alapértéküke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célértéküket és kiválaszthatja megvalósításuk időszaká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tel.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szlop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TS által kötelezővé tet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t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a nincs bejelölés, Öntől függ, hogy szeretné-e a használni a projekt során (releváns-e a projekt szempontjából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Indikátor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9588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zövegdoboz 10"/>
          <p:cNvSpPr/>
          <p:nvPr/>
        </p:nvSpPr>
        <p:spPr>
          <a:xfrm>
            <a:off x="6286680" y="142920"/>
            <a:ext cx="271440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ad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n kommunikációs eszközök kiválasztása az előre meghatározott listából, amelyek használatát tervezi a projekt végrehajtása sorá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gyéb olyan kommunikációs eszköz leírása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Egyéb eszközök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zőben, amelyek használatát tervezi, de amelyek nem jelennek meg az előre meghatározott listá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ommunikációs eszközö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214200" y="1643040"/>
            <a:ext cx="2857680" cy="2876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"/>
          <p:cNvPicPr/>
          <p:nvPr/>
        </p:nvPicPr>
        <p:blipFill>
          <a:blip r:embed="rId2"/>
          <a:stretch/>
        </p:blipFill>
        <p:spPr>
          <a:xfrm>
            <a:off x="3214800" y="3416400"/>
            <a:ext cx="574344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zövegdoboz 10"/>
          <p:cNvSpPr/>
          <p:nvPr/>
        </p:nvSpPr>
        <p:spPr>
          <a:xfrm>
            <a:off x="6215040" y="1643040"/>
            <a:ext cx="2714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jekt megvalósításához szükséges engedélyek listá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ngedély adata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á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kiadásának időpontj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érvényességének vég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ó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ngedély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9720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zövegdoboz 10"/>
          <p:cNvSpPr/>
          <p:nvPr/>
        </p:nvSpPr>
        <p:spPr>
          <a:xfrm>
            <a:off x="4286160" y="1643040"/>
            <a:ext cx="42148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Táblázatos formában elkészített ellenőrzől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érdések automatikusan kitöltésre kerülne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ónak Igen/Nem választ kell adnia a jelölőnégyzetre kattint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érjük, menjen végig a lista valamennyi elemén, különben a rendszer hibát jelez az Ellenőrzési riport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llenőrző lis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409104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zövegdoboz 10"/>
          <p:cNvSpPr/>
          <p:nvPr/>
        </p:nvSpPr>
        <p:spPr>
          <a:xfrm>
            <a:off x="6215040" y="1643040"/>
            <a:ext cx="27860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knak a mellékleteknek a listája, amelyeket a pályázattal együtt kell benyújt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tt látható a melléklet száma és címe, hogy kötelező-e vagy sem, és hogy milyen módon kell beküldeni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gjelölheti, hogy az adott mellékletet csatolta vagy elküld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1"/>
          <a:stretch/>
        </p:blipFill>
        <p:spPr>
          <a:xfrm>
            <a:off x="142920" y="1666800"/>
            <a:ext cx="5929200" cy="4303800"/>
          </a:xfrm>
          <a:prstGeom prst="rect">
            <a:avLst/>
          </a:prstGeom>
          <a:ln w="0">
            <a:noFill/>
          </a:ln>
        </p:spPr>
      </p:pic>
      <p:sp>
        <p:nvSpPr>
          <p:cNvPr id="167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Melléklet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DOKUMENTUM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zövegdoboz 10"/>
          <p:cNvSpPr/>
          <p:nvPr/>
        </p:nvSpPr>
        <p:spPr>
          <a:xfrm>
            <a:off x="5286240" y="1571760"/>
            <a:ext cx="357192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TÖLTÉ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segítségével csatolhatja a pályázathoz a szükséges támogató dokumentumok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használatával a rendszer 4 dokumentumot állít elő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ályázati la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artnerségi nyilatkoza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P nyilatkozat HU/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alamennyi dokumentum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.pdf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ormátumban érhető e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generált dokumentumokat a rendszer automatikusan lementi és megjeleníti a táblázatban. Ezeket ki is nyomtathat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létrehozott dokumentumok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DOKUMENTUMOK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ülben bármikor lekérhető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78620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zövegdoboz 5"/>
          <p:cNvSpPr/>
          <p:nvPr/>
        </p:nvSpPr>
        <p:spPr>
          <a:xfrm>
            <a:off x="428760" y="1344600"/>
            <a:ext cx="7715160" cy="35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pályázati elektronikus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apír alapon csak - az eredeti aláírásokkal ellátott – mellékleteket kell benyújtani (pl. Vezető Partner nyilatkozata, Partnerségi nyilatkozat, fenntartható fejlődést biztosító intézkedések, stb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pályázati űrlapot szintén nem szükséges kinyomtatni. Az elektronikus formában elérhető mellékletek és egyéb támogató dokumentumok szintén feltölthetőek az elektronikus felületen kereszt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pályázati modul elérhető a honlapunkon a pályázati kiírás oldalán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www.husk-cbc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zövegdoboz 5"/>
          <p:cNvSpPr/>
          <p:nvPr/>
        </p:nvSpPr>
        <p:spPr>
          <a:xfrm>
            <a:off x="1500120" y="121428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 pályázat benyújtásának folyam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églalap 6"/>
          <p:cNvSpPr/>
          <p:nvPr/>
        </p:nvSpPr>
        <p:spPr>
          <a:xfrm>
            <a:off x="214200" y="1619280"/>
            <a:ext cx="87156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ztráció és bejelnetke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szükséges adatok felv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lenőrzése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A hiányzó adatok feltöltése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ső ellenőrzése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 – eredmény: Sikeres ellenőr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okumentumok feltöltése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 A pályázathoz szükséges dokumentumok elektornikus  változatának feltölté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leges dokumentumainak létrehozása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ektronikus benyújtása a JTS felé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BENYÚJTÁ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Időszakos ellenőrzése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az 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TZÉS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gomb segítségével bármikor ellenőrizheti a pályázat hiányzó adat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Dokumentumok megtekintés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– A pályázat adatainak feltöltése során bármikor a 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 gombra kattintva létrehozhatja és megtekintheti a pályázati formanyomtatványt .pdf formátumb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zövegdoboz 5"/>
          <p:cNvSpPr/>
          <p:nvPr/>
        </p:nvSpPr>
        <p:spPr>
          <a:xfrm>
            <a:off x="1571760" y="207180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Sikeres pályázást kíváno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églalap 6"/>
          <p:cNvSpPr/>
          <p:nvPr/>
        </p:nvSpPr>
        <p:spPr>
          <a:xfrm>
            <a:off x="285840" y="3286080"/>
            <a:ext cx="87152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U-SK JOINT TECHNICAL SECRETARI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Holop Szilvesz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grammanadzs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zholop@vati.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www.husk-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zövegdoboz 5"/>
          <p:cNvSpPr/>
          <p:nvPr/>
        </p:nvSpPr>
        <p:spPr>
          <a:xfrm>
            <a:off x="428760" y="1281240"/>
            <a:ext cx="771516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ndszerkövetelmén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kapcso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ációs rendszer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gyéb szoftver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Microsoft Office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Adobe Reader/Pdf 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Java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legújabb verzi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Innen letölthető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böngésző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 Internet Explorer 6.0 vagy újabb verzió/ Mozilla Firefox 3.0 vagy újabb verz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zövegdoboz 5"/>
          <p:cNvSpPr/>
          <p:nvPr/>
        </p:nvSpPr>
        <p:spPr>
          <a:xfrm>
            <a:off x="214200" y="121428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Bejelentk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zövegdoboz 3"/>
          <p:cNvSpPr/>
          <p:nvPr/>
        </p:nvSpPr>
        <p:spPr>
          <a:xfrm>
            <a:off x="214200" y="36813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gisztr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zövegdoboz 7"/>
          <p:cNvSpPr/>
          <p:nvPr/>
        </p:nvSpPr>
        <p:spPr>
          <a:xfrm>
            <a:off x="4929120" y="1793880"/>
            <a:ext cx="3929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h. név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ármi, ami megjegyezhet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pl. a szervezet ne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rendszer 5-10 perc múlva elküldi a jelszót, amely 1 óráig érvény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ejelentkezés után meg kell változtatnia jelszavá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lyan új jelszót kell választania, amely legalább 8 karakter hosszú,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is- és nagybetűket, valamint számokat is tartalma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lfelejtett jelszó esetén a rendszer által generált új jelszó max. 1 órán át érvény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1"/>
          <a:stretch/>
        </p:blipFill>
        <p:spPr>
          <a:xfrm>
            <a:off x="285840" y="1714680"/>
            <a:ext cx="4451400" cy="1785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"/>
          <p:cNvPicPr/>
          <p:nvPr/>
        </p:nvPicPr>
        <p:blipFill>
          <a:blip r:embed="rId2"/>
          <a:stretch/>
        </p:blipFill>
        <p:spPr>
          <a:xfrm>
            <a:off x="285840" y="4143240"/>
            <a:ext cx="44514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zövegdoboz 5"/>
          <p:cNvSpPr/>
          <p:nvPr/>
        </p:nvSpPr>
        <p:spPr>
          <a:xfrm>
            <a:off x="71280" y="11811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Üdvözlő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zövegdoboz 7"/>
          <p:cNvSpPr/>
          <p:nvPr/>
        </p:nvSpPr>
        <p:spPr>
          <a:xfrm>
            <a:off x="5572080" y="1071720"/>
            <a:ext cx="32148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létrehozás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j pályázat összeállít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indig ellenőrizze a View Applications menüpont alatt, hogy van-e már megkezdett pályáz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folytatás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folytathatja a pályázatához szükséges adatok bevitelé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at kitöltése bármikor megszakítható – a rögzített adatok nem törlődn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nnyiben már benyújtotta pályázatát, 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 má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öbbé nem módosíth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hiánypótlás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ódosíthatja azokat a pályázatokat, amelyeket a JTS kiegészítés vagy módosítás céljából visszaküldöt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142920" y="1785960"/>
            <a:ext cx="51926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zövegdoboz 5"/>
          <p:cNvSpPr/>
          <p:nvPr/>
        </p:nvSpPr>
        <p:spPr>
          <a:xfrm>
            <a:off x="3000240" y="4287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zövegdoboz 7"/>
          <p:cNvSpPr/>
          <p:nvPr/>
        </p:nvSpPr>
        <p:spPr>
          <a:xfrm>
            <a:off x="5429160" y="1285920"/>
            <a:ext cx="357192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jlé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lapbeállítás szerint üres, inaktí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sőbb, automatikusan töltődik 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Gombo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TÖRL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- az egész pályázatot törli, és teljes adatvesztéshez 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- a rendszer előre meghatározott, beépített algoritmusok és szabályok alapján ellenőrzi a pályázat tartalmá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TOVÁBB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sikeres ellenőrzés után a benyújtás folyta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BENYÚJTÁS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az ellenőrzött és megfelelően kitöltött pályázat benyúj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KILÉP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– a képernyő elhagyása (valamennyi adat automatikusan mentésre ker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142920" y="127008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zövegdoboz 5"/>
          <p:cNvSpPr/>
          <p:nvPr/>
        </p:nvSpPr>
        <p:spPr>
          <a:xfrm>
            <a:off x="2857680" y="35712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zövegdoboz 7"/>
          <p:cNvSpPr/>
          <p:nvPr/>
        </p:nvSpPr>
        <p:spPr>
          <a:xfrm>
            <a:off x="5429160" y="1285920"/>
            <a:ext cx="3571920" cy="43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ÁTTEKIN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gjeleníti a pályázat legfontosabb általános és pénzügyi adatait. Valamennyi mező inaktív, adatbevitelre itt nincs lehető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ŰRLAP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ja és részletezi a tervezett projektet. A táblázat soraihoz ún. alképernyők tartoznak, amelyek a projekt különböző részeire vonatkozna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DOKUMENTUM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okumentumok feltöltésére és létrehozására szolg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zövegdoboz 5"/>
          <p:cNvSpPr/>
          <p:nvPr/>
        </p:nvSpPr>
        <p:spPr>
          <a:xfrm>
            <a:off x="3000240" y="4287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zövegdoboz 7"/>
          <p:cNvSpPr/>
          <p:nvPr/>
        </p:nvSpPr>
        <p:spPr>
          <a:xfrm>
            <a:off x="5429160" y="1285920"/>
            <a:ext cx="357192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ÉSZLET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 adatok áttekintésé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ÓDOSÍ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 adatok szerkesztését, módosításá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22:11Z</dcterms:created>
  <dc:creator>holopszilveszter</dc:creator>
  <dc:description/>
  <dc:language>en-US</dc:language>
  <cp:lastModifiedBy>holopszilveszter</cp:lastModifiedBy>
  <dcterms:modified xsi:type="dcterms:W3CDTF">2011-08-30T15:05:53Z</dcterms:modified>
  <cp:revision>52</cp:revision>
  <dc:subject/>
  <dc:title>1. dia</dc:title>
</cp:coreProperties>
</file>