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425-5DCC-4930-8324-F15D7FA4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8C8B-9B5C-435C-A05C-F25EB104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27D-1947-40BB-8CCF-D7ECEC63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966-8EE2-4199-8183-3B7AD17D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20FB-D2D4-4B44-8B93-09D38006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CA02-10D7-40F7-A101-DD16ED24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589F-7314-4317-B6C8-09C10342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255E-6CAB-4DE0-ABB5-0915A374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5764-0682-42E8-8DE7-D66AC555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319F-7A29-4D6A-A446-9070CC41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403C-42A3-440A-ABAA-1FDEFC0A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9D23-9C61-4828-AD7A-D0AE4904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CE19-1868-4F45-AFC4-B1AFAEF9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D3D1-C13B-4301-9D73-853C2CA7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D002-7490-4A50-B618-E51DE055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36BB-CC7F-4348-9ED5-AEF3077D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F7D2-D3C7-4182-8EC3-E1E013E0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19F0-B4F6-422B-A5EE-72A5587F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3634-19BF-4E94-BB4C-2A250938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A7F-C46B-48F9-BF73-B3D5D094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D43-3E0F-475A-A671-1BF2AD93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4537-C8A8-437E-8033-E3BEE681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4B21-3AFA-4B3F-8119-2B0465D7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BED-4C86-44BC-96C7-C828BA8A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CB3F-71E6-4857-8609-7CA04EB00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37C4-2D96-4806-B515-18AC4EE05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Eger, 2011.08.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obb határátkelési lehetőségek biztosítása a határfolyókon)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8-30T12:32:43Z</dcterms:modified>
  <cp:revision>100</cp:revision>
  <dc:subject/>
  <dc:title>Luh o</dc:title>
</cp:coreProperties>
</file>