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CCC3-CE0A-4575-B937-55073349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FC6-9856-4AF2-B03A-6D295E94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8DF-ECB3-43DF-BC66-0AF15584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C76-F7B3-42C2-9084-698264C8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F249-7191-4B5B-8EED-A90EBB53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8047-2809-4892-A2D6-90AF5A4C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5D20-7336-4137-8C8F-866BCE12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D02D-7410-473E-A88A-E2D05922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49E3-46C7-46DA-9ED0-0CF805CD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2B56-E0DD-43B9-9890-80DE41E4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3AB7-7A55-467C-91F2-6482ECD1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ACD-E452-4A5F-AC29-63B7FB84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77FB-5E42-4420-98E8-708A4EE5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5B10-DDB6-4851-98CB-CA4533DE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7FAC-21B9-4BE3-AC2D-A361C063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428A-38F3-49FD-BF3E-BC924BF9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762C-3262-472F-B9C6-C7A42326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58F1-4387-40A3-874B-2C6076FA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A9A-3599-4E47-8284-BFA5C06C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E1E-655C-4296-8510-6AF84877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FEC-9039-46B4-B283-C25EE2BE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CFE-6EBC-4DF5-85AC-8C17524C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F00-FA0F-4A1E-B80D-44782B9C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138-AD8B-47D7-8EEE-364F19CA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CD50-B501-4D7A-8693-184CD18D0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A11A-4414-4074-83C3-CE9498A85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Eger, 2011.08.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obb határátkelési lehetőségek biztosítása a határfolyókon)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8-30T12:32:43Z</dcterms:modified>
  <cp:revision>100</cp:revision>
  <dc:subject/>
  <dc:title>Luh o</dc:title>
</cp:coreProperties>
</file>