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C77D-A698-4249-8AC7-5FC85FD9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5D04-BAAF-4493-AE95-2E10BD2D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793A-5E6E-4CA9-B48D-43DC4E42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3745-904C-400F-951E-C603E8F61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970F-0DFF-42C7-A3B5-BB80D0B1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6F10-A232-4608-B503-333E5785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40AB-E23F-409F-A7D9-FD188127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BF77-018B-4E2E-BE2F-DD00F648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313E-D72B-4AB6-BFC5-4F86DC04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E293-4A39-4C0E-9D64-38D728AB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6726-0FC4-4B77-AD1B-D97B8122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584C-105B-4C2B-B693-4D6C8AEB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9D60-9D91-4E1B-A0ED-FC1179B2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C635-C539-4568-A7F8-417E516B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8F24-FFFE-4F99-9BEE-3BBF3932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5AF9-D4DE-4B19-BF51-6890D644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2505-7374-469C-8899-F6D3761D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F311-BC98-4D8B-B2EB-C12B1160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0D2E-2788-4E3B-A4AD-905A9542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E0A9-06DD-44DA-B117-CBE97DD3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EAB0-1A60-442D-BFC2-54C6CE11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4CDE-BB01-4010-91B8-7972B030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7359-8179-4C39-9804-F12FB9F4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FC05-E369-476D-99C4-A1D66B79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C257-86DB-49FB-A913-0FFBDAAD21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83BB-381E-42C0-8B8B-A5D15F643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abiriki@husk-cbc.eu" TargetMode="External"/><Relationship Id="rId3" Type="http://schemas.openxmlformats.org/officeDocument/2006/relationships/hyperlink" Target="mailto:abiriki@husk-cbc.eu" TargetMode="External"/><Relationship Id="rId4" Type="http://schemas.openxmlformats.org/officeDocument/2006/relationships/hyperlink" Target="mailto:abiriki@husk-cbc.eu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HUSK 4. pályázati felhívás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Információs nap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3333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Eger, 2011.08.3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n jogosult. A szerződéskötésig felmerült költség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7.3-7.5 (rezsi) sorok összege nem haladhatja meg az adott partner személyi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eadandók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 eredeti+1 másol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Calibri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 beküldendő dokumentumok a következők: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cc0000"/>
                </a:solidFill>
                <a:latin typeface="Calibri"/>
              </a:rPr>
              <a:t>Vezető Partner nyilatkoza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(a nyomtatvány elérhető magyar VP-nek magyarul, szlovák VP-nek szlovákul) - nyomtatva, törvényes képviselő által aláírva és lepecsételve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cc0000"/>
                </a:solidFill>
                <a:latin typeface="Calibri"/>
              </a:rPr>
              <a:t>Partnerségi nyilatkozat</a:t>
            </a:r>
            <a:r>
              <a:rPr b="0" lang="sk-SK" sz="1700" spc="-1" strike="noStrike">
                <a:solidFill>
                  <a:srgbClr val="000000"/>
                </a:solidFill>
                <a:latin typeface="Calibri"/>
              </a:rPr>
              <a:t> (az összes támogatásban részesülő partner törvényes képviselője által aláírva) - 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nyomtatva, törvényes képviselő által aláírva és lepecsételve - 1 db dokumentu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Calibri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Calibri"/>
              </a:rPr>
              <a:t>1. melléklet - 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Amennyiben a partnerek az együttműködési kritériumok közül a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„Közös fejlesztés”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2. melléklet - A projekt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fenntarthatóságá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3. melléklet - Az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esélyegyenlősége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Értékelés mene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11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7240" y="3141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A pályázati felhívással kapcsolatos minden információ és dokumentum megtalálható a honlapunko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husk-cbc.eu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elhív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útmutat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és melléklete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kitöltési útmutat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Útmutató a költségek elszámolhatóságáho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Értékelő tábláza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Megvalósíthatósági tanulmány szerkez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rojektvégrehajtási kézikönyv (PI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biriki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@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HUSK 1101 pályázati felhívá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IR 2007-2013 pályázati modu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Kérdések és válaszok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RIORITÁSI TENGE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1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Üzleti infrastruktúra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jlesztése  - 7 545 672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2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TF és innováció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nfrastruktúra közös fejlesztése és határon átnyúló kutatási együttműködés - 5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3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Turisztika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ermékek és vonzerők fejlesztése, desztináció-menedzsment szervezetek és kapcsolódó infrastruktúra felállítása - 7 477 401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4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Egészségügy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kockázatkezelési kapacitások közös fejlesztése és összehangolt használata - 1 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5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hálózat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partnerségi, program- és projekttervezési és -irányítási kapacitások fejlesztése - 1 5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1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épzés, oktat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hálózatépítés - 1 234 425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2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unkaerő-piaci kezdeményezések - 2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7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mberek közötti (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eople to peopl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kapcsolatépítés - 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 PRIORITÁSI TENGELY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1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Víz-, és hulladékgazdálkodás, megújuló energia - 10 813 699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2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Közös természetvédelmi tevékenységek - 3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1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isléptékű útépítés, kerékpárutak  - 4 728 517 EU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tömegközlekedés fejlesztése  - 1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4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anulmányok és tervek  (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Jobb határátkelési lehetőségek biztosítása a határfolyókon)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2 955 868 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zletesebben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ályázati útmutató 1.3 fejeztéb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vashatnak az elérhető intézkedésekrő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További elvárás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rojekt elképzel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Finanszírozás</a:t>
            </a:r>
            <a:r>
              <a:rPr b="0" lang="sk-SK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artnerség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</a:t>
            </a: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delegálás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Reális költségvet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Indikátoro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rtner és projekt szinten– kimenet (rövidtávú) és eredmény (rövidtávú) mutató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Archiválá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birikiarianna</cp:lastModifiedBy>
  <dcterms:modified xsi:type="dcterms:W3CDTF">2011-08-30T12:32:43Z</dcterms:modified>
  <cp:revision>100</cp:revision>
  <dc:subject/>
  <dc:title>Luh o</dc:title>
</cp:coreProperties>
</file>