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930D-B7EC-4E84-88AC-6EBDBEF18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DC0B-0509-4284-9BF2-44B6A232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9B5B-52B8-4A05-AFCC-BC77520B0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E4A4-BE72-449B-BFFC-CDCF2F39C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C426-991A-48A3-A0E3-D5F0AE6DB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F90A-895D-474C-BE1F-0D05F1D1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3A81-548D-4074-88B3-4DBE2D70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44CC-7428-466D-87D3-A31E5FD8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84D95-9917-48DA-A14E-929A7F05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FC490-B8DD-47FD-9ECE-FE0A44E1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9166-3548-429D-9300-8C1ED8E9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FF87-5326-48FE-B906-9492211B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32DF-4532-4823-8684-4D45AA83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54BDD-8A36-4B81-AD23-E4CFD041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8256-C7A3-4E41-9C4D-AC9BBF8F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3F43-9A12-4B23-B02C-1D01CFF21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0B95-B1F5-402E-98CB-9E9C174CF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CA1D-3305-4B7E-BF9F-DB9195E5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CC0F-CAAC-4CE9-984A-10510779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3D48-ACE5-47E7-B4DF-2C2E9BC6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E91C-F119-411B-87FE-EFFED2C1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B573-1659-4E22-9A64-866D2013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A710-EC87-412C-A5AD-CDC2607D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34FF-7023-464A-A57E-FB9C5A8B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D21F-F97E-44FE-A981-0792FE45DE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6357-EB16-4AB8-8C9F-D6113499BC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abiriki@husk-cbc.eu" TargetMode="External"/><Relationship Id="rId3" Type="http://schemas.openxmlformats.org/officeDocument/2006/relationships/hyperlink" Target="mailto:abiriki@husk-cbc.eu" TargetMode="External"/><Relationship Id="rId4" Type="http://schemas.openxmlformats.org/officeDocument/2006/relationships/hyperlink" Target="mailto:abiriki@husk-cbc.eu" TargetMode="External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HUSK 4. pályázati felhívás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Információs nap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333333"/>
                </a:solidFill>
                <a:latin typeface="Arial"/>
              </a:rPr>
              <a:t>Biriki Ari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HU-SK JTS, Budap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Eger, 2011.08.3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artnerek közösen kiválasztanak egy vezetőt maguk közül, ak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ámogatási szerződé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 nevében a szerződéskötő hatóságg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rtnerségi megállapodá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kel a projekt végrehajtását érintő feladatokról, felelőségekről, határidőkrő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ogadja az uniós támogatást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és felel a partnerek közötti elosztásáér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lel a projekt teljes végrehajtásáért az illetékes programirányító hatóság előt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K – együttműködési kritérium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ejleszt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végrehaj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alkalmazotta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inanszírozá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39640" y="5013360"/>
            <a:ext cx="8209080" cy="79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égy feltétel közül 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legalább kettő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bizonyíthatóan teljesíteni kel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jogosult területen kívül megvalósítandó tevékenységek elszámolható költsége nem haladhatja meg a projekt elszámolható összköltségének 10%-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őkészítő költségek (1. költségvetési sor) - Az adott partner költségvetésének max.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an jogosult. A szerződéskötésig felmerült költség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6.1 és 6.2 sorok projekt szintű összege nem haladhatja meg a projekt jogosult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7.3-7.5 (rezsi) sorok összege nem haladhatja meg az adott partner személyi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25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ojekt megszabott min.-max. méretei = </a:t>
            </a:r>
            <a:r>
              <a:rPr b="0" lang="sk-SK" sz="2000" spc="-1" strike="noStrike">
                <a:solidFill>
                  <a:srgbClr val="ff3300"/>
                </a:solidFill>
                <a:latin typeface="Arial"/>
              </a:rPr>
              <a:t>85%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(ERF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eadandók</a:t>
            </a: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1 eredeti+1 másol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Calibri"/>
              </a:rPr>
              <a:t>nyomtatva, lepecsételve és aláírva</a:t>
            </a: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 beküldendő dokumentumok a következők: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cc0000"/>
                </a:solidFill>
                <a:latin typeface="Calibri"/>
              </a:rPr>
              <a:t>Vezető Partner nyilatkozat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(a nyomtatvány elérhető magyar VP-nek magyarul, szlovák VP-nek szlovákul) - nyomtatva, törvényes képviselő által aláírva és lepecsételve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700" spc="-1" strike="noStrike">
                <a:solidFill>
                  <a:srgbClr val="cc0000"/>
                </a:solidFill>
                <a:latin typeface="Calibri"/>
              </a:rPr>
              <a:t>Partnerségi nyilatkozat</a:t>
            </a:r>
            <a:r>
              <a:rPr b="0" lang="sk-SK" sz="1700" spc="-1" strike="noStrike">
                <a:solidFill>
                  <a:srgbClr val="000000"/>
                </a:solidFill>
                <a:latin typeface="Calibri"/>
              </a:rPr>
              <a:t> (az összes támogatásban részesülő partner törvényes képviselője által aláírva) - 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nyomtatva, törvényes képviselő által aláírva és lepecsételve - 1 db dokumentu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Calibri"/>
              </a:rPr>
              <a:t>nyomtatva</a:t>
            </a: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 beküldendő dokumentumok a következők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Calibri"/>
              </a:rPr>
              <a:t>1. melléklet - 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Amennyiben a partnerek az együttműködési kritériumok közül a </a:t>
            </a:r>
            <a:r>
              <a:rPr b="0" lang="hu-HU" sz="1700" spc="-1" strike="noStrike">
                <a:solidFill>
                  <a:srgbClr val="cc0000"/>
                </a:solidFill>
                <a:latin typeface="Calibri"/>
              </a:rPr>
              <a:t>„Közös fejlesztés”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feltételét választják, a megfelelőség igazolására szükséges az előkészítő tárgyalásokra szóló meghívók, jelenléti ívek, valamint a megbeszélések során készült jegyzőkönyvek pályázathoz való csatolása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2. melléklet - A projekt </a:t>
            </a:r>
            <a:r>
              <a:rPr b="0" lang="hu-HU" sz="1700" spc="-1" strike="noStrike">
                <a:solidFill>
                  <a:srgbClr val="cc0000"/>
                </a:solidFill>
                <a:latin typeface="Calibri"/>
              </a:rPr>
              <a:t>fenntarthatóságát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3. melléklet - Az </a:t>
            </a:r>
            <a:r>
              <a:rPr b="0" lang="hu-HU" sz="1700" spc="-1" strike="noStrike">
                <a:solidFill>
                  <a:srgbClr val="cc0000"/>
                </a:solidFill>
                <a:latin typeface="Calibri"/>
              </a:rPr>
              <a:t>esélyegyenlőséget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Beruházási projektek esetében (ahol a 6. költségvetési soron “Építés/Investície” költséget kívánnak elszámoln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Értékelés mene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00000" y="1773360"/>
            <a:ext cx="6551280" cy="4347720"/>
            <a:chOff x="900000" y="1773360"/>
            <a:chExt cx="6551280" cy="4347720"/>
          </a:xfrm>
        </p:grpSpPr>
        <p:sp>
          <p:nvSpPr>
            <p:cNvPr id="116" name=""/>
            <p:cNvSpPr/>
            <p:nvPr/>
          </p:nvSpPr>
          <p:spPr>
            <a:xfrm>
              <a:off x="900000" y="1773360"/>
              <a:ext cx="1540800" cy="658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ó, a KSZT és a RIP támogatásá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00000" y="361764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 R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00000" y="4935240"/>
              <a:ext cx="1540800" cy="5266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/vagy külső szakértő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00000" y="572580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M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41360" y="190512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 kidolgoz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5520" y="3299400"/>
              <a:ext cx="25218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 benyújtása/befogad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25520" y="4047480"/>
              <a:ext cx="25218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Formai és jogosultsági ellenőrz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03600" y="2968200"/>
              <a:ext cx="1147680" cy="9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ánypótlás (az értékelési táblában rögzített, előre meghatározott esetekbe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03200" y="3749760"/>
              <a:ext cx="9806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784200" y="2168280"/>
              <a:ext cx="1440" cy="65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6504120" y="216864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22560" y="2432160"/>
              <a:ext cx="14806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ismétel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23120" y="2300040"/>
              <a:ext cx="2160" cy="13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1800" y="2432160"/>
              <a:ext cx="12934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41360" y="506736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ok szakmai értékelé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01320" y="2959200"/>
              <a:ext cx="2801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01320" y="4671720"/>
              <a:ext cx="28018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03200" y="295920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01320" y="298656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22560" y="4671720"/>
              <a:ext cx="144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41360" y="5725800"/>
              <a:ext cx="33624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ok kiválasztása, támogatási dönt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22560" y="5462280"/>
              <a:ext cx="144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27240" y="3141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 naptári n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Pályázati modul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Application module) HU-SK nyelven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Nemzeti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National module) – magyar  partnerek részére – ENG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Közös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Joint module) – Vezető Partnerek számára – E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égül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A pályázati felhívással kapcsolatos minden információ és dokumentum megtalálható a honlapunkon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www.husk-cbc.eu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elhív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útmutat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és melléklete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kitöltési útmutató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Útmutató a költségek elszámolhatóságáho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Értékelő tábláza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Megvalósíthatósági tanulmány szerkeze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rojektvégrehajtási kézikönyv (PI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szönöm a figyelmük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ikeres pályázást kívánun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abiriki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@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usk-cbc.eu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 HUSK 1101 pályázati felhívá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MIR 2007-2013 pályázati modu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Kérdések és válaszok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SK 11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endületben a magyar-szlovák határmenti fejlesztés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2011. június 23. – 2011. október 2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lektronikus beadási határidő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1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IMIR 2007-2013 Monitoring és Információs Rendszer erre szolgáló elektronikus pályázati felületén (IMIR 2007-2013 Front Office) – elérhető a </a:t>
            </a:r>
            <a:r>
              <a:rPr b="0" lang="hu-H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husk-cbc.eu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oldalról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kért papír alapú dokumentumok beadási határidej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postai bélyegző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12.00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személyesen vagy meghatalmazott útján a 1016 Budapest, Gellérthegy u. 30-32. Iratkezelé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0000"/>
                </a:solidFill>
                <a:latin typeface="Arial"/>
              </a:rPr>
              <a:t>NE felejtsék el a „BENYÚJT” gombot lenyomni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4732200" y="0"/>
            <a:ext cx="44118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395280" y="155736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ioritások és beavatkozási terület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68360" y="249228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– Gazdaság és társa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5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7 357 498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- Környezet- és természetvédelem, elérhető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4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2 498 083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95280" y="4869000"/>
            <a:ext cx="4103640" cy="11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USK 1101 felhívás keretössze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9 855 581 E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RIORITÁSI TENGEL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1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Üzleti infrastruktúra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jlesztése  - 7 545 672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2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TF és innováció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infrastruktúra közös fejlesztése és határon átnyúló kutatási együttműködés - 5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3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Turisztika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termékek és vonzerők fejlesztése, desztináció-menedzsment szervezetek és kapcsolódó infrastruktúra felállítása - 7 477 401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4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Egészségügy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kockázatkezelési kapacitások közös fejlesztése és összehangolt használata - 1 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5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hálózat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partnerségi, program- és projekttervezési és -irányítási kapacitások fejlesztése - 1 5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1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épzés, oktatá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hálózatépítés - 1 234 425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2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Munkaerő-piaci kezdeményezések - 2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7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Emberek közötti (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eople to peopl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 kapcsolatépítés - 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 PRIORITÁSI TENGELY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1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Víz-, és hulladékgazdálkodás, megújuló energia - 10 813 699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2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Közös természetvédelmi tevékenységek - 3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1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isléptékű útépítés, kerékpárutak  - 4 728 517 EU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tömegközlekedés fejlesztése  - 1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4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anulmányok és tervek  (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Jobb határátkelési lehetőségek biztosítása a határfolyókon)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- 2 955 868 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szletesebben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ályázati útmutató 1.3 fejeztéb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vashatnak az elérhető intézkedésekrő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imum elvárás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novatív, életképes/fenntartható projekt ötlete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sélyegyenlősé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enntartható fejlőd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öltséghatékonysá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Határon átnyúló hat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4K krité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tnyelvűség – DE: hivatalos kommunikációs nyelv az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ang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További elváráso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rojekt elképzel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novatív, ötletes, hozzáadott értéket, CB hatást képviselő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Finanszírozás</a:t>
            </a:r>
            <a:r>
              <a:rPr b="0" lang="sk-SK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– saját vs külső források, a kötelező önerő valójában többszöröse az előírt % összegnek, mivel utófinanszírozás kerül alkalmazás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artnerség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Életképes partnerség, kölcsönös bizalom (horizontális, vertikális szinten), kellő kapacitásokkal rendelkező (HR, tőke, szakmai, EUs ismerete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ladatkörök, tevékenységek kellő szintű </a:t>
            </a: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delegálás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partnerek között, de az adott partner szervezeti keretein belül 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Reális költségvet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megalapozott, összhangban a tevékenységekkel, indikátorokk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Indikátorok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partner és projekt szinten– kimenet (rövidtávú) és eredmény (rövidtávú) mutató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5 éves fenntartási kötelezettsé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Archiválá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2022-ig megőrizni a kapcsolódó dokumentumok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8:38:13Z</dcterms:created>
  <dc:creator>birikiarianna</dc:creator>
  <dc:description/>
  <dc:language>en-US</dc:language>
  <cp:lastModifiedBy>birikiarianna</cp:lastModifiedBy>
  <dcterms:modified xsi:type="dcterms:W3CDTF">2011-08-30T12:32:43Z</dcterms:modified>
  <cp:revision>100</cp:revision>
  <dc:subject/>
  <dc:title>Luh o</dc:title>
</cp:coreProperties>
</file>