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9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C0DF-B2EB-48BB-BD3C-7BFC54567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1A5C-F6B1-4A36-901E-B194A3F0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970A-7A0F-4F1D-B6A5-77A291170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7CD03-A49A-4811-8345-BB72A7AEF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6DFFE-B917-43D3-9D1C-C78A56846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C849C-B08B-468C-8BBA-404006722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326F-AC90-48E7-B8FE-369FBB8B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DE685-7186-4B70-BC59-91C998FC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3B04C-4CC0-4143-ABD0-8DCA3B7B9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9139-3EE2-477E-BA88-62D343EB9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82855-6AC7-432A-9707-5528ADE9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C4F8-1317-4EF1-A94A-487B35DD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8D80-6786-4B08-94B0-F22CAD1CC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6B89D-1107-48F3-A370-7CA7720E7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8750-1277-422C-806C-068C35174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2DDF2-A247-49D5-BAC3-7DCB28AFD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E21-F291-4122-8B10-7817CF29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EDB-7233-4BEF-9191-182AE751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E31C-4ED8-4D4C-B4B2-C8CC0BB61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4E0-E8F0-4016-842C-6586DBCE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DD3-FD3D-441C-8B90-BB2342DA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E8C-7445-4E3B-9E80-4D853F231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AE98-4F51-49D5-83CE-2E6A24A1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667B-10FA-4107-80E2-D944B1AEA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7D7F-0FE8-4893-8485-377FC5C21B72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87B99-A5DD-4795-BD97-C47FCD25B516}" type="slidenum">
              <a:rPr b="0" lang="hu-H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IMIR 2007-2013</a:t>
            </a:r>
            <a:br>
              <a:rPr sz="3600"/>
            </a:br>
            <a:r>
              <a:rPr b="1" lang="hu-HU" sz="3600" spc="-1" strike="noStrike">
                <a:solidFill>
                  <a:srgbClr val="000000"/>
                </a:solidFill>
                <a:latin typeface="Calibri"/>
              </a:rPr>
              <a:t>Monitoring és Információs Rendszer</a:t>
            </a:r>
            <a:r>
              <a:rPr b="0" lang="hu-HU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898989"/>
                </a:solidFill>
                <a:latin typeface="Calibri"/>
              </a:rPr>
              <a:t>A 4. pályázati kiírás online pályázati moduljának bemutatás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Fő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zövegdoboz 7"/>
          <p:cNvSpPr/>
          <p:nvPr/>
        </p:nvSpPr>
        <p:spPr>
          <a:xfrm>
            <a:off x="5429160" y="1714680"/>
            <a:ext cx="35719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Ő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KT CÍ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fejező, nem túl hossz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ÖVID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ax 25 karak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itöltéséhez szükséges a pályázati útmutató ismer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időtartama &gt;/=24 hón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20524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zövegdoboz 7"/>
          <p:cNvSpPr/>
          <p:nvPr/>
        </p:nvSpPr>
        <p:spPr>
          <a:xfrm>
            <a:off x="5429160" y="1643040"/>
            <a:ext cx="357192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DAT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egtekin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artner adatainak módosí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törl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új partner hozzáadása a partner típusának megválasztásáv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2168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714240" y="2786040"/>
            <a:ext cx="338148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Azonosít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zövegdoboz 7"/>
          <p:cNvSpPr/>
          <p:nvPr/>
        </p:nvSpPr>
        <p:spPr>
          <a:xfrm>
            <a:off x="6500880" y="164304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ARTNER ADAT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 név, cím, adószám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PROJEKTRE VONATKOZÓ PARTNERAD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Jogi státusz (közjogi, központi, magánjogi), alkalmazottak száma, levelezési cí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mennyiben nem biztos valamely adatok tartalmában, kérjük használja a pályázati útmutatót illetve az IMIR kézikönyv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213600" cy="42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zövegdoboz 5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Képviselő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171360" y="1714680"/>
            <a:ext cx="6213600" cy="4214520"/>
          </a:xfrm>
          <a:prstGeom prst="rect">
            <a:avLst/>
          </a:prstGeom>
          <a:ln w="0">
            <a:noFill/>
          </a:ln>
        </p:spPr>
      </p:pic>
      <p:sp>
        <p:nvSpPr>
          <p:cNvPr id="116" name="Szövegdoboz 7"/>
          <p:cNvSpPr/>
          <p:nvPr/>
        </p:nvSpPr>
        <p:spPr>
          <a:xfrm>
            <a:off x="6500880" y="1714680"/>
            <a:ext cx="250020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APCSOLATTAR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ÖRVÉNYES KÉPVISEL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törvényes képviselő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, pozíció, e-mail, elérhető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ALAPÍTÓ SZER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bban az esetben kell kitölteni, ha a Partner egy másik szervezet közvetlen irányítása alatt működik. (pl. a megye által működtetett középiskola stb. esetében a megyei önkormányz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zövegdoboz 7"/>
          <p:cNvSpPr/>
          <p:nvPr/>
        </p:nvSpPr>
        <p:spPr>
          <a:xfrm>
            <a:off x="6000840" y="1000080"/>
            <a:ext cx="300024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SZÁM / PROJEKTMEGVALÓSÍTÁSI TAPASZTAL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információk a partner korábbi projektirányítási tapasztalatairól (Projektcím, költségvetés, részvétel típusa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UTOLSÓ LEZÁRT ÜZLETI 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artner utolsó üzleti évére vonatkozó információk (bevétel, kiadás, eredmény stb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. MEGVALÓSÍTÁSÁNAK HELYSZÍ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alamennyi helyszín, ahol a projektet vagy annak bizonyos részeit végrehajtjá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rojekt végrehajtása szempontjából releváns bankszámlá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791320" cy="3929040"/>
          </a:xfrm>
          <a:prstGeom prst="rect">
            <a:avLst/>
          </a:prstGeom>
          <a:ln w="0">
            <a:noFill/>
          </a:ln>
        </p:spPr>
      </p:pic>
      <p:sp>
        <p:nvSpPr>
          <p:cNvPr id="119" name="Szövegdoboz 6"/>
          <p:cNvSpPr/>
          <p:nvPr/>
        </p:nvSpPr>
        <p:spPr>
          <a:xfrm>
            <a:off x="71280" y="11811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\Partnerség\Üzleti adat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gyüttműködési kritéri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zövegdoboz 7"/>
          <p:cNvSpPr/>
          <p:nvPr/>
        </p:nvSpPr>
        <p:spPr>
          <a:xfrm>
            <a:off x="6000840" y="1746360"/>
            <a:ext cx="30002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z együttműködés szintje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fejlesz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végrehajtá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végrehajtás közös finanszíroz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zös projektszemély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álassza ki az egyik kritériumot úgy, hogy rákattint, majd válassza ki a baloldalon található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Érték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ző legördülő listájának egyik elemét, és magyarázza vagy indokolja a választást a </a:t>
            </a: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Leírá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mezőben. Ismételje meg a folyamatot valamennyi kritérium eseté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142920" y="1781280"/>
            <a:ext cx="5724360" cy="37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zövegdoboz 5"/>
          <p:cNvSpPr/>
          <p:nvPr/>
        </p:nvSpPr>
        <p:spPr>
          <a:xfrm>
            <a:off x="2857680" y="428760"/>
            <a:ext cx="60004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Projekt leí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zövegdoboz 7"/>
          <p:cNvSpPr/>
          <p:nvPr/>
        </p:nvSpPr>
        <p:spPr>
          <a:xfrm>
            <a:off x="6143760" y="1000080"/>
            <a:ext cx="2857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CT DESCRI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ojektleírá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lamennyi témáról részletes, összefüggő leírásokat kell 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ax. karakterszám: 2000 +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Szövegdoboz 6" descr=""/>
          <p:cNvPicPr/>
          <p:nvPr/>
        </p:nvPicPr>
        <p:blipFill>
          <a:blip r:embed="rId1"/>
          <a:stretch/>
        </p:blipFill>
        <p:spPr>
          <a:xfrm>
            <a:off x="133200" y="4492800"/>
            <a:ext cx="8913960" cy="161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"/>
          <p:cNvPicPr/>
          <p:nvPr/>
        </p:nvPicPr>
        <p:blipFill>
          <a:blip r:embed="rId2"/>
          <a:stretch/>
        </p:blipFill>
        <p:spPr>
          <a:xfrm>
            <a:off x="214200" y="1071720"/>
            <a:ext cx="5929560" cy="33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Szövegdoboz 5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Célok és tevékenység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zövegdoboz 10"/>
          <p:cNvSpPr/>
          <p:nvPr/>
        </p:nvSpPr>
        <p:spPr>
          <a:xfrm>
            <a:off x="5500800" y="1643040"/>
            <a:ext cx="321444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ROJEKT TEVÉKENYSÉGEINEK LISTÁ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tevékenységek kapcsán az alábbi adatokat kell megadn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é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elős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gyéb a megvalósításba bevont 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tevékenység leír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ockázat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onatkozó periódu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ervezett költsé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(segít annak azonosításában, hogy az adott tevékenység megfelelő arányt képvisel-e a projekten bel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2"/>
          <a:stretch/>
        </p:blipFill>
        <p:spPr>
          <a:xfrm>
            <a:off x="285840" y="2214720"/>
            <a:ext cx="442908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zövegdoboz 10"/>
          <p:cNvSpPr/>
          <p:nvPr/>
        </p:nvSpPr>
        <p:spPr>
          <a:xfrm>
            <a:off x="6286680" y="1714680"/>
            <a:ext cx="271440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70c0"/>
                </a:solidFill>
                <a:latin typeface="Arial"/>
              </a:rPr>
              <a:t>Finanszírozási forrás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szintű költségveté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partnerszintű költségve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artnertábláz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ltségvetési fül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társfinanszírozási forrása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részletes költségvet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lasztott partner költségeinek ütemezé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zövegdoboz 6"/>
          <p:cNvSpPr/>
          <p:nvPr/>
        </p:nvSpPr>
        <p:spPr>
          <a:xfrm>
            <a:off x="71280" y="1181160"/>
            <a:ext cx="6000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21360" cy="31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Választott partner részletes költségvetés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6286680" y="1553760"/>
            <a:ext cx="2643120" cy="37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Előkészítő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emélyi költsé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Útiköltség és alapellátmány (napidíj és szállá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Szolgáltatás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Beszerzések (Eszközö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Építési beruházá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ts val="2599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  <a:ea typeface="Calibri"/>
              </a:rPr>
              <a:t>Rezsi, működési és adminisztratív költség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4" descr=""/>
          <p:cNvPicPr/>
          <p:nvPr/>
        </p:nvPicPr>
        <p:blipFill>
          <a:blip r:embed="rId1"/>
          <a:stretch/>
        </p:blipFill>
        <p:spPr>
          <a:xfrm>
            <a:off x="142920" y="1857240"/>
            <a:ext cx="611676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zövegdoboz 5"/>
          <p:cNvSpPr/>
          <p:nvPr/>
        </p:nvSpPr>
        <p:spPr>
          <a:xfrm>
            <a:off x="428760" y="1344600"/>
            <a:ext cx="7715160" cy="37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agyar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hu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zlovák nyelvű kitöltési felül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https://www.doc.imis2007-2013.hu/elementafosk1/app/elementahusk.jn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A pályázatot két nyelven kell kitölteni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(a megnyitott felület nyelvétől függetlenü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Kérjük tanulmányozzák az IMIR 2007-2013 Front Office Felhasználói Kézikönyvet, amely megtalálható a pályázati felhívás mellékletei közöt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32520" cy="32860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357120" y="3357720"/>
            <a:ext cx="6215040" cy="26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Utazás és alapellátmá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zövegdoboz 10"/>
          <p:cNvSpPr/>
          <p:nvPr/>
        </p:nvSpPr>
        <p:spPr>
          <a:xfrm>
            <a:off x="6215040" y="1571760"/>
            <a:ext cx="271476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zolgáltatások (4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eszerzések 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költségvetési sorok alatt harmadik szintű költségvetési alsorokat talál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ható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melyeknek nincs pontos ne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bben az esetben Önnek kell eldöntenie, hogy a költségvetési alsorok közül mennyire van szüksége, és hogyan szeretné kiadásait csoportosítani a fenti számok alatt, hogy ezek a legérthetőbb logikát tükrözzé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72120" cy="25480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" descr=""/>
          <p:cNvPicPr/>
          <p:nvPr/>
        </p:nvPicPr>
        <p:blipFill>
          <a:blip r:embed="rId2"/>
          <a:stretch/>
        </p:blipFill>
        <p:spPr>
          <a:xfrm>
            <a:off x="142920" y="3357720"/>
            <a:ext cx="4819680" cy="20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4" descr=""/>
          <p:cNvPicPr/>
          <p:nvPr/>
        </p:nvPicPr>
        <p:blipFill>
          <a:blip r:embed="rId3"/>
          <a:stretch/>
        </p:blipFill>
        <p:spPr>
          <a:xfrm>
            <a:off x="142920" y="4714920"/>
            <a:ext cx="3000240" cy="12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Szövegdoboz 10"/>
          <p:cNvSpPr/>
          <p:nvPr/>
        </p:nvSpPr>
        <p:spPr>
          <a:xfrm>
            <a:off x="6286680" y="1643040"/>
            <a:ext cx="2714400" cy="27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Választott partner társfinanszírozási forr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gyes mezők automatikusan számolódnak ki a partnerek jogi státuszának tükrébe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mennyiben a szervezet bevételekre tesz szert a projektmegvalósítás során, úgy annak tervezett  mértékét itt kell megad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47" name="Szövegdoboz 6"/>
          <p:cNvSpPr/>
          <p:nvPr/>
        </p:nvSpPr>
        <p:spPr>
          <a:xfrm>
            <a:off x="142920" y="1143000"/>
            <a:ext cx="65721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Finanszírozási forrás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Szövegdoboz 10"/>
          <p:cNvSpPr/>
          <p:nvPr/>
        </p:nvSpPr>
        <p:spPr>
          <a:xfrm>
            <a:off x="6286680" y="1643040"/>
            <a:ext cx="27144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lőrejelzésre a program költségvetésének kifizetési ütemezésének megtervezéséhez van szük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megadott összegek tájékoztató jellegűek, azonban a tervezett ütemezéstől való jelentős eltérés esetén a program a pénzügyi kötelezettségvállalás visszavonásának tárgya lehe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öltségvetés\Ütemez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6060960" cy="3143160"/>
          </a:xfrm>
          <a:prstGeom prst="rect">
            <a:avLst/>
          </a:prstGeom>
          <a:ln w="0">
            <a:noFill/>
          </a:ln>
        </p:spPr>
      </p:pic>
      <p:sp>
        <p:nvSpPr>
          <p:cNvPr id="151" name="Téglalap 6"/>
          <p:cNvSpPr/>
          <p:nvPr/>
        </p:nvSpPr>
        <p:spPr>
          <a:xfrm>
            <a:off x="142920" y="4929120"/>
            <a:ext cx="885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70c0"/>
                </a:solidFill>
                <a:latin typeface="Arial"/>
              </a:rPr>
              <a:t>Ne feledje, hogy a programban a visszafizetés hosszú, kétszintű folyamat, vagyis 4-6 hónap is eltelhet a kifizetett számlák benyújtásától az ellenőrző testületeknek addig, míg az ERFA támogatás összege kifizetésre ker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zövegdoboz 10"/>
          <p:cNvSpPr/>
          <p:nvPr/>
        </p:nvSpPr>
        <p:spPr>
          <a:xfrm>
            <a:off x="6286680" y="1643040"/>
            <a:ext cx="2714400" cy="34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ndikáto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gram által meghatározott mutatók, és az Ön saját projekt-specifikus mutatói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 MÓDOSÍT gombra kattintv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beállíthatja alapértéküke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célértéküket és kiválaszthatja megvalósításuk időszaká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Kötel.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szlop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TS által kötelezővé tet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t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a nincs bejelölés, Öntől függ, hogy szeretné-e a használni a projekt során (releváns-e a projekt szempontjábó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Indikátor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609588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Szövegdoboz 10"/>
          <p:cNvSpPr/>
          <p:nvPr/>
        </p:nvSpPr>
        <p:spPr>
          <a:xfrm>
            <a:off x="6286680" y="142920"/>
            <a:ext cx="2714400" cy="31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adat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n kommunikációs eszközök kiválasztása az előre meghatározott listából, amelyek használatát tervezi a projekt végrehajtása sorá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Egyéb olyan kommunikációs eszköz leírása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gyéb eszközö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zőben, amelyek használatát tervezi, de amelyek nem jelennek meg az előre meghatározott listá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Kommunikációs eszközö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214200" y="1643040"/>
            <a:ext cx="2857680" cy="28764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"/>
          <p:cNvPicPr/>
          <p:nvPr/>
        </p:nvPicPr>
        <p:blipFill>
          <a:blip r:embed="rId2"/>
          <a:stretch/>
        </p:blipFill>
        <p:spPr>
          <a:xfrm>
            <a:off x="3214800" y="3416400"/>
            <a:ext cx="574344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zövegdoboz 10"/>
          <p:cNvSpPr/>
          <p:nvPr/>
        </p:nvSpPr>
        <p:spPr>
          <a:xfrm>
            <a:off x="6215040" y="1643040"/>
            <a:ext cx="271476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projekt megvalósításához szükséges engedélyek listá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engedély adata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ípu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á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kiadásának időpontj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ngedély érvényességének vég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onosító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zövegdoboz 4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ngedély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597204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zövegdoboz 10"/>
          <p:cNvSpPr/>
          <p:nvPr/>
        </p:nvSpPr>
        <p:spPr>
          <a:xfrm>
            <a:off x="4286160" y="1643040"/>
            <a:ext cx="421488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Táblázatos formában elkészített ellenőrzőli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kérdések automatikusan kitöltésre kerülnek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ónak Igen/Nem választ kell adnia a jelölőnégyzetre kattint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érjük, menjen végig a lista valamennyi elemén, különben a rendszer hibát jelez az Ellenőrzési riportba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Ellenőrző lis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"/>
          <p:cNvPicPr/>
          <p:nvPr/>
        </p:nvPicPr>
        <p:blipFill>
          <a:blip r:embed="rId1"/>
          <a:stretch/>
        </p:blipFill>
        <p:spPr>
          <a:xfrm>
            <a:off x="142920" y="1714680"/>
            <a:ext cx="4091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zövegdoboz 10"/>
          <p:cNvSpPr/>
          <p:nvPr/>
        </p:nvSpPr>
        <p:spPr>
          <a:xfrm>
            <a:off x="6215040" y="1643040"/>
            <a:ext cx="2786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oknak a mellékleteknek a listája, amelyeket a pályázattal együtt kell benyújtan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tt látható a melléklet száma és címe, hogy kötelező-e vagy sem, és hogy milyen módon kell beküldeni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egjelölheti, hogy az adott mellékletet csatolta vagy elküld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5929200" cy="4303800"/>
          </a:xfrm>
          <a:prstGeom prst="rect">
            <a:avLst/>
          </a:prstGeom>
          <a:ln w="0">
            <a:noFill/>
          </a:ln>
        </p:spPr>
      </p:pic>
      <p:sp>
        <p:nvSpPr>
          <p:cNvPr id="167" name="Szövegdoboz 6"/>
          <p:cNvSpPr/>
          <p:nvPr/>
        </p:nvSpPr>
        <p:spPr>
          <a:xfrm>
            <a:off x="71280" y="1181160"/>
            <a:ext cx="6572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ŰRLAPOK\Melléklete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zövegdoboz 5"/>
          <p:cNvSpPr/>
          <p:nvPr/>
        </p:nvSpPr>
        <p:spPr>
          <a:xfrm>
            <a:off x="71280" y="118116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DOKUMENTUMO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zövegdoboz 10"/>
          <p:cNvSpPr/>
          <p:nvPr/>
        </p:nvSpPr>
        <p:spPr>
          <a:xfrm>
            <a:off x="5286240" y="1571760"/>
            <a:ext cx="357192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FELTÖLTÉS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segítségével csatolhatja a pályázathoz a szükséges támogató dokumentumoka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gomb használatával a rendszer 4 dokumentumot állít elő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ályázati la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Partnerségi nyilatkoza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P nyilatkozat HU/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Valamennyi dokumentum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.pdf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ormátumban érhető e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generált dokumentumokat a rendszer automatikusan lementi és megjeleníti a táblázatban. Ezeket ki is nyomtathatj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A létrehozott dokumentumok az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DOKUMENTUMOK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  <a:ea typeface="Arial"/>
              </a:rPr>
              <a:t> fülben bármikor lekérhető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5" descr=""/>
          <p:cNvPicPr/>
          <p:nvPr/>
        </p:nvPicPr>
        <p:blipFill>
          <a:blip r:embed="rId1"/>
          <a:stretch/>
        </p:blipFill>
        <p:spPr>
          <a:xfrm>
            <a:off x="142920" y="1643040"/>
            <a:ext cx="4786200" cy="434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zövegdoboz 5"/>
          <p:cNvSpPr/>
          <p:nvPr/>
        </p:nvSpPr>
        <p:spPr>
          <a:xfrm>
            <a:off x="428760" y="1344600"/>
            <a:ext cx="7715160" cy="35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IMIR pályázati elektronikus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Papír alapon csak - az eredeti aláírásokkal ellátott – mellékleteket kell benyújtani (pl. Vezető Partner nyilatkozata, Partnerségi nyilatkozat, fenntartható fejlődést biztosító intézkedések, stb.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űrlapot szintén nem szükséges kinyomtatni. Az elektronikus formában elérhető mellékletek és egyéb támogató dokumentumok szintén feltölthetőek az elektronikus felületen keresztü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A pályázati modul elérhető a honlapunkon a pályázati kiírás oldalán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zövegdoboz 5"/>
          <p:cNvSpPr/>
          <p:nvPr/>
        </p:nvSpPr>
        <p:spPr>
          <a:xfrm>
            <a:off x="1500120" y="121428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Calibri"/>
              </a:rPr>
              <a:t>A pályázat benyújtásának folyamat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églalap 6"/>
          <p:cNvSpPr/>
          <p:nvPr/>
        </p:nvSpPr>
        <p:spPr>
          <a:xfrm>
            <a:off x="214200" y="1619280"/>
            <a:ext cx="87156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ztráció és bejelnetke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szükséges adatok felvite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A hiányzó adatok feltöltése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ső ellenőrzése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 – eredmény: Sikeres ellenőrz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Dokumentumok feltöltése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- A pályázathoz szükséges dokumentumok elektornikus  változatának feltölté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végleges dokumentumainak létrehozása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A pályázat elektronikus benyújtása a JTS felé (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BENYÚJTÁS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Időszakos ellenőrzések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az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ELLENŐTZÉS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gomb segítségével bármikor ellenőrizheti a pályázat hiányzó adata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Dokumentumok megtekintése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– A pályázat adatainak feltöltése során bármikor a </a:t>
            </a:r>
            <a:r>
              <a:rPr b="0" i="1" lang="sk-SK" sz="1600" spc="-1" strike="noStrike">
                <a:solidFill>
                  <a:srgbClr val="000000"/>
                </a:solidFill>
                <a:latin typeface="Arial"/>
              </a:rPr>
              <a:t>LÉTREHOZ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gombra kattintva létrehozhatja és megtekintheti a pályázati formanyomtatványt .pdf formátumba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zövegdoboz 5"/>
          <p:cNvSpPr/>
          <p:nvPr/>
        </p:nvSpPr>
        <p:spPr>
          <a:xfrm>
            <a:off x="1571760" y="2071800"/>
            <a:ext cx="61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Calibri"/>
              </a:rPr>
              <a:t>Sikeres pályázást kívánok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églalap 6"/>
          <p:cNvSpPr/>
          <p:nvPr/>
        </p:nvSpPr>
        <p:spPr>
          <a:xfrm>
            <a:off x="285840" y="3286080"/>
            <a:ext cx="871524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HU-SK JOINT TECHNICAL SECRETARI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Holop Szilvesz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grammanadzs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zholop@vati.h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zövegdoboz 5"/>
          <p:cNvSpPr/>
          <p:nvPr/>
        </p:nvSpPr>
        <p:spPr>
          <a:xfrm>
            <a:off x="428760" y="1281240"/>
            <a:ext cx="7715160" cy="46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ndszerkövetelmény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kapcsol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ációs rendszer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Egyéb szoftvere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Microsoft Office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Adobe Reader/Pdf rea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Java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legújabb verzi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Innen letölthető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Internetböngésző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  <a:ea typeface="Arial"/>
              </a:rPr>
              <a:t> Internet Explorer 6.0 vagy újabb verzió/ Mozilla Firefox 3.0 vagy újabb verzi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Szövegdoboz 5"/>
          <p:cNvSpPr/>
          <p:nvPr/>
        </p:nvSpPr>
        <p:spPr>
          <a:xfrm>
            <a:off x="214200" y="121428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Bejelentkez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zövegdoboz 3"/>
          <p:cNvSpPr/>
          <p:nvPr/>
        </p:nvSpPr>
        <p:spPr>
          <a:xfrm>
            <a:off x="214200" y="36813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Regisztráci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zövegdoboz 7"/>
          <p:cNvSpPr/>
          <p:nvPr/>
        </p:nvSpPr>
        <p:spPr>
          <a:xfrm>
            <a:off x="4929120" y="1793880"/>
            <a:ext cx="3929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lh. név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ármi, ami megjegyezhet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(pl. a szervezet nev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A rendszer 5-10 perc múlva elküldi a jelszót, amely 1 óráig érvény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Bejelentkezés után meg kell változtatnia jelszavá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Olyan új jelszót kell választania, amely legalább 8 karakter hosszú,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kis- és nagybetűket, valamint számokat is tartalmaz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Elfelejtett jelszó esetén a rendszer által generált új jelszó max. 1 órán át érvényes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"/>
          <p:cNvPicPr/>
          <p:nvPr/>
        </p:nvPicPr>
        <p:blipFill>
          <a:blip r:embed="rId1"/>
          <a:stretch/>
        </p:blipFill>
        <p:spPr>
          <a:xfrm>
            <a:off x="285840" y="1714680"/>
            <a:ext cx="4451400" cy="17856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2"/>
          <a:stretch/>
        </p:blipFill>
        <p:spPr>
          <a:xfrm>
            <a:off x="285840" y="4143240"/>
            <a:ext cx="44514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zövegdoboz 5"/>
          <p:cNvSpPr/>
          <p:nvPr/>
        </p:nvSpPr>
        <p:spPr>
          <a:xfrm>
            <a:off x="71280" y="118116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Üdvözlő felü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zövegdoboz 7"/>
          <p:cNvSpPr/>
          <p:nvPr/>
        </p:nvSpPr>
        <p:spPr>
          <a:xfrm>
            <a:off x="5572080" y="1071720"/>
            <a:ext cx="3214800" cy="48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létrehoz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új pályázat összeállítá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indig ellenőrizze a View Applications menüpont alatt, hogy van-e már megkezdett pályáz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folytatás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folytathatja a pályázatához szükséges adatok bevitelé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 pályázat kitöltése bármikor megszakítható – a rögzített adatok nem törlődn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ennyiben már benyújtotta pályázatát, a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 má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öbbé nem módosíthat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ályázat hiánypótlása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ódosíthatja azokat a pályázatokat, amelyeket a JTS kiegészítés vagy módosítás céljából visszaküldött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"/>
          <p:cNvPicPr/>
          <p:nvPr/>
        </p:nvPicPr>
        <p:blipFill>
          <a:blip r:embed="rId1"/>
          <a:stretch/>
        </p:blipFill>
        <p:spPr>
          <a:xfrm>
            <a:off x="142920" y="1785960"/>
            <a:ext cx="5192640" cy="40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zövegdoboz 7"/>
          <p:cNvSpPr/>
          <p:nvPr/>
        </p:nvSpPr>
        <p:spPr>
          <a:xfrm>
            <a:off x="5429160" y="1285920"/>
            <a:ext cx="3571920" cy="45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ejléc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lapbeállítás szerint üres, inaktí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Később, automatikusan töltődik 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Gombok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ÖRL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z egész pályázatot törli, és teljes adatvesztéshez vez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ELLENŐRZ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- a rendszer előre meghatározott, beépített algoritmusok és szabályok alapján ellenőrzi a pályázat tartalmá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TOVÁBB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sikeres ellenőrzés után a benyújtás folyta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BENYÚJTÁS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az ellenőrzött és megfelelően kitöltött pályázat benyújtás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KILÉPÉS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 – a képernyő elhagyása (valamennyi adat automatikusan mentésre kerü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5" descr=""/>
          <p:cNvPicPr/>
          <p:nvPr/>
        </p:nvPicPr>
        <p:blipFill>
          <a:blip r:embed="rId1"/>
          <a:stretch/>
        </p:blipFill>
        <p:spPr>
          <a:xfrm>
            <a:off x="142920" y="127008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zövegdoboz 5"/>
          <p:cNvSpPr/>
          <p:nvPr/>
        </p:nvSpPr>
        <p:spPr>
          <a:xfrm>
            <a:off x="2857680" y="35712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A pályázat adatainak feltölté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zövegdoboz 7"/>
          <p:cNvSpPr/>
          <p:nvPr/>
        </p:nvSpPr>
        <p:spPr>
          <a:xfrm>
            <a:off x="5429160" y="1285920"/>
            <a:ext cx="3571920" cy="43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ÁTTEKINTÉ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gjeleníti a pályázat legfontosabb általános és pénzügyi adatait. Valamennyi mező inaktív, adatbevitelre itt nincs lehetősé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ŰRLAP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Leírja és részletezi a tervezett projektet. A táblázat soraihoz ún. alképernyők tartoznak, amelyek a projekt különböző részeire vonatkozna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400" spc="-1" strike="noStrike">
                <a:solidFill>
                  <a:srgbClr val="000000"/>
                </a:solidFill>
                <a:latin typeface="Arial"/>
              </a:rPr>
              <a:t>DOKUMENTUM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okumentumok feltöltésére és létrehozására szolgá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Szövegdoboz 5"/>
          <p:cNvSpPr/>
          <p:nvPr/>
        </p:nvSpPr>
        <p:spPr>
          <a:xfrm>
            <a:off x="3000240" y="428760"/>
            <a:ext cx="52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Calibri"/>
              </a:rPr>
              <a:t>Űrlap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zövegdoboz 7"/>
          <p:cNvSpPr/>
          <p:nvPr/>
        </p:nvSpPr>
        <p:spPr>
          <a:xfrm>
            <a:off x="5429160" y="1285920"/>
            <a:ext cx="357192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FÜLE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ÉSZLETE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áttekintésé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ÓDOSÍ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z adatok szerkesztését, módosítását teszi lehetőv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142920" y="1285920"/>
            <a:ext cx="521496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25T13:22:11Z</dcterms:created>
  <dc:creator>holopszilveszter</dc:creator>
  <dc:description/>
  <dc:language>en-US</dc:language>
  <cp:lastModifiedBy>holopszilveszter</cp:lastModifiedBy>
  <dcterms:modified xsi:type="dcterms:W3CDTF">2011-08-30T15:05:53Z</dcterms:modified>
  <cp:revision>52</cp:revision>
  <dc:subject/>
  <dc:title>1. dia</dc:title>
</cp:coreProperties>
</file>