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6F39-1A28-4638-998B-1050067D4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DFE7-CB54-4108-9F20-8B8AE32F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13DE3-0D3D-44E1-BBF8-0D7BF022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B30B-ACEB-4F12-90ED-DCE5DCB6F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9CFC-F3D9-42F3-A774-D6B518B84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56025-4C1C-41AF-B898-FC519A602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435B-E830-4C91-B1C4-E48175B7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DDF49-E33C-44E9-B67A-218433E7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D2B7F-B887-40DE-B60B-91F1DF08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40B4A-17B0-4F0A-9C7E-E5F615F0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D4D2-47BC-418A-9F4F-0C62EDC1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E285-0559-445D-8C4B-48F2629B2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EDD94-611C-4373-93EA-6BB504D9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D276-51F5-45F8-A70A-4810EDAF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83A84-74FA-41C4-8C2F-EEE1CDA7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53ED0-2960-4B4D-942F-892D842E6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E5D39-4D72-4398-9C79-34A819B8D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EE21-6846-4B90-9580-190445E75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20C0-D692-4277-B9B1-A1AB0F01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FED-BC89-40AE-B0EC-965FF6251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57480" y="274320"/>
            <a:ext cx="5400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038D-E7C9-479E-9ED8-A5BAC96B5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4391-8E79-4635-975D-FA434B964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5A4DE-2350-415E-A04F-1F424EC7E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6AB1-EC6D-4854-9AB0-69DD8689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0A84-E27A-4320-A477-BCE6BC0CD0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7D09A-D886-498C-9D5E-EB2435E837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abiriki@husk-cbc.eu" TargetMode="External"/><Relationship Id="rId3" Type="http://schemas.openxmlformats.org/officeDocument/2006/relationships/hyperlink" Target="mailto:abiriki@husk-cbc.eu" TargetMode="External"/><Relationship Id="rId4" Type="http://schemas.openxmlformats.org/officeDocument/2006/relationships/hyperlink" Target="mailto:abiriki@husk-cbc.eu" TargetMode="External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husk-cbc.eu/" TargetMode="External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HUSK 4. pályázati felhívás</a:t>
            </a:r>
            <a:br>
              <a:rPr sz="3500"/>
            </a:br>
            <a:br>
              <a:rPr sz="3500"/>
            </a:br>
            <a:r>
              <a:rPr b="1" lang="en-US" sz="3500" spc="-1" strike="noStrike">
                <a:solidFill>
                  <a:srgbClr val="333333"/>
                </a:solidFill>
                <a:latin typeface="Arial"/>
              </a:rPr>
              <a:t>Információs nap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4797000"/>
            <a:ext cx="6400800" cy="8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333333"/>
                </a:solidFill>
                <a:latin typeface="Arial"/>
              </a:rPr>
              <a:t>Biriki Arian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HU-SK JTS, Budapes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333333"/>
                </a:solidFill>
                <a:latin typeface="Arial"/>
              </a:rPr>
              <a:t>Balassagyarmat, 2011.09.2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partnerek közösen kiválasztanak egy vezetőt maguk közül, ak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ámogatási szerződé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 nevében a szerződéskötő hatóságg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artnerségi megállapodá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ír alá a partnerekkel a projekt végrehajtását érintő feladatokról, felelőségekről, határidőkrő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ogadja az uniós támogatást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s felel a partnerek közötti elosztásáér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lel a projekt teljes végrehajtásáért az illetékes programirányító hatóság előt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K – együttműködési kritériumo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ejleszt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végrehajtá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alkalmazottak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Közös finanszírozá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539640" y="5013360"/>
            <a:ext cx="8209080" cy="79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Négy feltétel közül 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legalább kettőt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 bizonyíthatóan teljesíteni kell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Költségv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jogosult területen kívül megvalósítandó tevékenységek elszámolható költsége nem haladhatja meg a projekt elszámolható összköltségének 10%-á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Előkészítő költségek (1. költségvetési sor) - Az adott partner költségvetésének max.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ban jogosult. A szerződéskötésig felmerült költség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A 6.1 és 6.2 sorok projekt szintű összege nem haladhatja meg a projekt jogosult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10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7.3-7.5 (rezsi) sorok összege nem haladhatja meg az adott partner személyi költségeinek </a:t>
            </a:r>
            <a:r>
              <a:rPr b="0" lang="hu-HU" sz="2000" spc="-1" strike="noStrike">
                <a:solidFill>
                  <a:srgbClr val="ff3300"/>
                </a:solidFill>
                <a:latin typeface="Arial"/>
              </a:rPr>
              <a:t>25%-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ojekt megszabott min.-max. méretei = </a:t>
            </a:r>
            <a:r>
              <a:rPr b="0" lang="sk-SK" sz="2000" spc="-1" strike="noStrike">
                <a:solidFill>
                  <a:srgbClr val="ff3300"/>
                </a:solidFill>
                <a:latin typeface="Arial"/>
              </a:rPr>
              <a:t>85%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(ERF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Beadandók</a:t>
            </a: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1 eredeti+1 másol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, lepecsételve és aláír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</a:t>
            </a:r>
            <a:r>
              <a:rPr b="0" lang="hu-H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500" spc="-1" strike="noStrike">
                <a:solidFill>
                  <a:srgbClr val="cc0000"/>
                </a:solidFill>
                <a:latin typeface="Calibri"/>
              </a:rPr>
              <a:t>Vezető Partner nyilatkoza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(a nyomtatvány elérhető magyar VP-nek magyarul, szlovák VP-nek szlovákul) - nyomtatva, törvényes képviselő által aláírva és lepecsételve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500" spc="-1" strike="noStrike">
                <a:solidFill>
                  <a:srgbClr val="cc0000"/>
                </a:solidFill>
                <a:latin typeface="Calibri"/>
              </a:rPr>
              <a:t>Partnerségi nyilatkozat</a:t>
            </a: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 (az összes támogatásban részesülő partner törvényes képviselője által aláírva)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nyomtatva, törvényes képviselő által aláírva és lepecsételve - 1 db dokumentu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1" lang="hu-HU" sz="1600" spc="-1" strike="noStrike">
                <a:solidFill>
                  <a:srgbClr val="cc0000"/>
                </a:solidFill>
                <a:latin typeface="Calibri"/>
              </a:rPr>
              <a:t>nyomtatva</a:t>
            </a:r>
            <a:r>
              <a:rPr b="1" lang="hu-HU" sz="1600" spc="-1" strike="noStrike">
                <a:solidFill>
                  <a:srgbClr val="000000"/>
                </a:solidFill>
                <a:latin typeface="Calibri"/>
              </a:rPr>
              <a:t> beküldendő dokumentumok a következők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500" spc="-1" strike="noStrike">
                <a:solidFill>
                  <a:srgbClr val="000000"/>
                </a:solidFill>
                <a:latin typeface="Calibri"/>
              </a:rPr>
              <a:t>1. melléklet - 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Amennyiben a partnerek az együttműködési kritériumok közül a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„Közös fejlesztés”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feltételét választják, a megfelelőség igazolására szükséges az előkészítő tárgyalásokra szóló meghívók, jelenléti ívek, valamint a megbeszélések során készült jegyzőkönyvek pályázathoz való csatolása – </a:t>
            </a:r>
            <a:r>
              <a:rPr b="0" lang="hu-HU" sz="1500" spc="-1" strike="noStrike">
                <a:solidFill>
                  <a:srgbClr val="ff0000"/>
                </a:solidFill>
                <a:latin typeface="Calibri"/>
              </a:rPr>
              <a:t>nem hiánypótolható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, de nem is eredményez automatikus kizárást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2. melléklet - A projekt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fenntarthatóságá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3. melléklet - Az </a:t>
            </a:r>
            <a:r>
              <a:rPr b="0" lang="hu-HU" sz="1500" spc="-1" strike="noStrike">
                <a:solidFill>
                  <a:srgbClr val="cc0000"/>
                </a:solidFill>
                <a:latin typeface="Calibri"/>
              </a:rPr>
              <a:t>esélyegyenlőséget</a:t>
            </a:r>
            <a:r>
              <a:rPr b="0" lang="hu-HU" sz="1500" spc="-1" strike="noStrike">
                <a:solidFill>
                  <a:srgbClr val="000000"/>
                </a:solidFill>
                <a:latin typeface="Calibri"/>
              </a:rPr>
              <a:t> biztosító intézkedések (a formátum adott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Calibri"/>
              </a:rPr>
              <a:t>Beruházási projektek esetében (ahol a 6. költségvetési soron “Építés/Investície” költséget kívánnak elszámoln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4. melléklet -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Megvalósíthatósági tanulmány</a:t>
            </a: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 költség-haszon számítással (CBA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5. melléklet -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Engedélyezési tervdokumentáció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csak másolat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6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beruházással érintett helyszín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fényképdokumentációja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papíron (60 napnál nem régebbi állapotot ábrázoló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7. melléklet – Eredeti vagy hitelesített </a:t>
            </a:r>
            <a:r>
              <a:rPr b="0" lang="hu-HU" sz="1800" spc="-1" strike="noStrike">
                <a:solidFill>
                  <a:srgbClr val="cc0000"/>
                </a:solidFill>
                <a:latin typeface="Calibri"/>
              </a:rPr>
              <a:t>k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örnyezeti hatásvizsgál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(EIA), amennyiben a nemzeti jogszabályok előírják. Amennyiben nem írják elő, úgy egy eredeti (aláírt, lepecsételt) nyilatkozat csatolása szükséges errő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Calibri"/>
              </a:rPr>
              <a:t>8. melléklet -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A területileg illetékes Nemzeti Park eredeti vagy hitelesített elvi hozzájárulása a projekthez (azaz a </a:t>
            </a:r>
            <a:r>
              <a:rPr b="0" lang="sk-SK" sz="1800" spc="-1" strike="noStrike">
                <a:solidFill>
                  <a:srgbClr val="cc0000"/>
                </a:solidFill>
                <a:latin typeface="Calibri"/>
              </a:rPr>
              <a:t>Nemzeti Park Igazgatósága által írt hivatalos levél vagy nyilatkozat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 becsatolása szükséges). Amennyiben a projekt partnerek tevékenységei nem érintenek védett és/vagy NATURA 2000 területet, akkor elegendő a támogatásban részesülő Partnerek eredeti (aláírt, lepecsételt) nyilatkozata, amely szerint a partnerek projekt tevékenységei nem érintenek védett és/vagy NATURA 2000 területet, és nem lesznek negatív hatással az adott területr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Értékelés mene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900000" y="1773360"/>
            <a:ext cx="6551280" cy="4347720"/>
            <a:chOff x="900000" y="1773360"/>
            <a:chExt cx="6551280" cy="4347720"/>
          </a:xfrm>
        </p:grpSpPr>
        <p:sp>
          <p:nvSpPr>
            <p:cNvPr id="116" name=""/>
            <p:cNvSpPr/>
            <p:nvPr/>
          </p:nvSpPr>
          <p:spPr>
            <a:xfrm>
              <a:off x="900000" y="1773360"/>
              <a:ext cx="1540800" cy="65880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ó, a KSZT és a RIP támogatásáv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00000" y="361764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 RI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00000" y="4935240"/>
              <a:ext cx="1540800" cy="5266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SZT és/vagy külső szakértő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900000" y="5725800"/>
              <a:ext cx="1540800" cy="395280"/>
            </a:xfrm>
            <a:prstGeom prst="rect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KMB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41360" y="190512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 kidolgoz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25520" y="3299400"/>
              <a:ext cx="25218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 benyújtása/befogadás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125520" y="4047480"/>
              <a:ext cx="25218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Formai és jogosultsági ellenőrz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3600" y="2968200"/>
              <a:ext cx="1147680" cy="91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ánypótlás (az értékelési táblában rögzített, előre meghatározott esetekben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803200" y="3749760"/>
              <a:ext cx="9806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6784200" y="2168280"/>
              <a:ext cx="1440" cy="658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6504120" y="2168640"/>
              <a:ext cx="280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822560" y="2432160"/>
              <a:ext cx="14806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ismétel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23120" y="2300040"/>
              <a:ext cx="2160" cy="1317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21800" y="2432160"/>
              <a:ext cx="1293480" cy="53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ályázat benyújtása, Vezető Partn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141360" y="5067360"/>
              <a:ext cx="3362400" cy="39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Pályázatok szakmai értékelés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001320" y="2959200"/>
              <a:ext cx="2801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01320" y="4671720"/>
              <a:ext cx="280188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03200" y="295920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01320" y="2986560"/>
              <a:ext cx="0" cy="17125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822560" y="4671720"/>
              <a:ext cx="1440" cy="3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141360" y="5725800"/>
              <a:ext cx="3362400" cy="39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 Narrow"/>
                </a:rPr>
                <a:t>A pályázatok kiválasztása, támogatási dönté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822560" y="5462280"/>
              <a:ext cx="1440" cy="29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7240" y="31417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ff3300"/>
                </a:solidFill>
                <a:latin typeface="Arial"/>
              </a:rPr>
              <a:t>14</a:t>
            </a:r>
            <a:r>
              <a:rPr b="0" lang="sk-SK" sz="1600" spc="-1" strike="noStrike">
                <a:solidFill>
                  <a:srgbClr val="ff3300"/>
                </a:solidFill>
                <a:latin typeface="Arial"/>
              </a:rPr>
              <a:t> naptári n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564000" y="2599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MIR 2007-2013 Monitoring és Információs rends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Pályázati modul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Application module) HU-SK nyelven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Nemzeti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National module) – magyar  partnerek részére – ENG</a:t>
            </a:r>
            <a:br>
              <a:rPr sz="2800"/>
            </a:b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IMIR 2007-2013 </a:t>
            </a:r>
            <a:r>
              <a:rPr b="1" i="1" lang="hu-HU" sz="2800" spc="-1" strike="noStrike">
                <a:solidFill>
                  <a:srgbClr val="c00000"/>
                </a:solidFill>
                <a:latin typeface="Arial"/>
              </a:rPr>
              <a:t>Közös modul</a:t>
            </a:r>
            <a:r>
              <a:rPr b="1" lang="hu-HU" sz="2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(Joint module) – Vezető Partnerek számára – E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Végül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A pályázati felhívással kapcsolatos minden információ és dokumentum megtalálható a honlapunkon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www.husk-cbc.eu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elhív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útmutat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és melléklete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ályázati formanyomtatvány kitöltési útmutató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Útmutató a költségek elszámolhatóságáho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Értékelő táblázato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Megvalósíthatósági tanulmány szerkezet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Arial"/>
                <a:ea typeface="Arial"/>
              </a:rPr>
              <a:t>Projektvégrehajtási kézikönyv (PIH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Köszönöm a figyelmüket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Sikeres pályázást kívánunk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Biriki Ariann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abiriki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@</a:t>
            </a:r>
            <a:r>
              <a:rPr b="0" lang="hu-HU" sz="18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usk-cbc.eu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vezeté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A HUSK 1101 pályázati felhívá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IMIR 2007-2013 pályázati modu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Kérdések és válaszok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USK 110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Lendületben a magyar-szlovák határmenti fejlesztése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0000"/>
                </a:solidFill>
                <a:latin typeface="Arial"/>
              </a:rPr>
              <a:t>2011. június 23. – 2011. október 21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Elektronikus beadási határidő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1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z IMIR 2007-2013 Monitoring és Információs Rendszer erre szolgáló elektronikus pályázati felületén (IMIR 2007-2013 Front Office) – elérhető a </a:t>
            </a:r>
            <a:r>
              <a:rPr b="0" lang="hu-HU" sz="14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husk-cbc.eu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oldalról</a:t>
            </a:r>
            <a:r>
              <a:rPr b="0" lang="hu-H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 kért papír alapú dokumentumok beadási határidej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23.59.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postai bélyegző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0000"/>
                </a:solidFill>
                <a:latin typeface="Arial"/>
              </a:rPr>
              <a:t>2011. október 28. 12.00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(személyesen vagy meghatalmazott útján a 1016 Budapest, Gellérthegy u. 30-32. Iratkezelés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6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100" spc="-1" strike="noStrike">
                <a:solidFill>
                  <a:srgbClr val="ff0000"/>
                </a:solidFill>
                <a:latin typeface="Arial"/>
              </a:rPr>
              <a:t>NE felejtsék el a „BENYÚJT” gombot lenyomni!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4732200" y="0"/>
            <a:ext cx="44118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395280" y="1557360"/>
            <a:ext cx="410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rioritások és beavatkozási területe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468360" y="2492280"/>
            <a:ext cx="36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– Gazdaság és társadal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5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7 357 498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PRIORITÁ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- Környezet- és természetvédelem, elérhetőség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~45%</a:t>
            </a: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ff3300"/>
                </a:solidFill>
                <a:latin typeface="Arial"/>
              </a:rPr>
              <a:t>(22 498 083 EU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395280" y="4869000"/>
            <a:ext cx="4103640" cy="116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HUSK 1101 felhívás keretösszeg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9 855 581 EU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RIORITÁSI TENGELY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1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Üzleti infrastruktúra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fejlesztése  - 7 545 672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2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TF és innováció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infrastruktúra közös fejlesztése és határon átnyúló kutatási együttműködés - 5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3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Turisztika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termékek és vonzerők fejlesztése, desztináció-menedzsment szervezetek és kapcsolódó infrastruktúra felállítása - 7 477 401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4.1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Egészségügy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kockázatkezelési kapacitások közös fejlesztése és összehangolt használata - 1 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5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hálózati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, partnerségi, program- és projekttervezési és -irányítási kapacitások fejlesztése - 1 5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1</a:t>
            </a: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Közös 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képzés, oktatás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és hálózatépítés - 1 234 425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6.2</a:t>
            </a:r>
            <a:r>
              <a:rPr b="0" lang="hu-HU" sz="20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Munkaerő-piaci kezdeményezések - 2 0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03360" indent="-603360">
              <a:lnSpc>
                <a:spcPct val="80000"/>
              </a:lnSpc>
              <a:spcBef>
                <a:spcPts val="499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1.7.1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 Emberek közötti (</a:t>
            </a:r>
            <a:r>
              <a:rPr b="1" lang="hu-HU" sz="2000" spc="-1" strike="noStrike">
                <a:solidFill>
                  <a:srgbClr val="336600"/>
                </a:solidFill>
                <a:latin typeface="Arial"/>
              </a:rPr>
              <a:t>People to people</a:t>
            </a:r>
            <a:r>
              <a:rPr b="0" lang="hu-HU" sz="2000" spc="-1" strike="noStrike">
                <a:solidFill>
                  <a:srgbClr val="000000"/>
                </a:solidFill>
                <a:latin typeface="Arial"/>
              </a:rPr>
              <a:t>) kapcsolatépítés - 800 000 E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lérhető intézkedése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 PRIORITÁSI TENGELY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1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Víz-, és hulladékgazdálkodás, megújuló energia - 10 813 699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2.1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 Közös természetvédelmi tevékenységek - 3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1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Kisléptékű útépítés, kerékpárutak  - 4 728 517 EUR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3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A tömegközlekedés fejlesztése  - 1 000 000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200" spc="-1" strike="noStrike">
                <a:solidFill>
                  <a:srgbClr val="336600"/>
                </a:solidFill>
                <a:latin typeface="Arial"/>
              </a:rPr>
              <a:t>2.4.2</a:t>
            </a:r>
            <a:r>
              <a:rPr b="0" lang="hu-HU" sz="22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Tanulmányok és tervek  (</a:t>
            </a: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Jobb határátkelési lehetőségek biztosítása a határfolyókon)</a:t>
            </a:r>
            <a:r>
              <a:rPr b="0" lang="hu-H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u-HU" sz="2200" spc="-1" strike="noStrike">
                <a:solidFill>
                  <a:srgbClr val="000000"/>
                </a:solidFill>
                <a:latin typeface="Arial"/>
              </a:rPr>
              <a:t>- 2 955 868  EU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észletesebben 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ályázati útmutató 1.3 fejeztéb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lvashatnak az elérhető intézkedésekről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mum elváráso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For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Határon túli partn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 u="sng">
                <a:solidFill>
                  <a:srgbClr val="000000"/>
                </a:solidFill>
                <a:uFillTx/>
                <a:latin typeface="Arial"/>
              </a:rPr>
              <a:t>Szakmai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Innovatív, életképes/fenntartható projekt ötlet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Esélyegyenlősé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enntartható fejlődé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öltséghatékonysá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Határon átnyúló hatá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Vezető partner el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2000" spc="-1" strike="noStrike">
                <a:solidFill>
                  <a:srgbClr val="000000"/>
                </a:solidFill>
                <a:latin typeface="Arial"/>
              </a:rPr>
              <a:t>4K kritéri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Kétnyelvűség – DE: hivatalos kommunikációs nyelv az </a:t>
            </a:r>
            <a:r>
              <a:rPr b="0" lang="sk-SK" sz="2000" spc="-1" strike="noStrike">
                <a:solidFill>
                  <a:srgbClr val="ff0000"/>
                </a:solidFill>
                <a:latin typeface="Arial"/>
              </a:rPr>
              <a:t>ango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7480" y="274320"/>
            <a:ext cx="540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További elvárások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rojekt elképzel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novatív, ötletes, hozzáadott értéket, CB hatást képviselő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Finanszírozás</a:t>
            </a:r>
            <a:r>
              <a:rPr b="0" lang="sk-SK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– saját vs külső források, a kötelező önerő valójában többszöröse az előírt % összegnek, mivel utófinanszírozás kerül alkalmazás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Partnerség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Életképes partnerség, kölcsönös bizalom (horizontális, vertikális szinten), kellő kapacitásokkal rendelkező (HR, tőke, szakmai, EUs ismeretek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Feladatkörök, tevékenységek kellő szintű </a:t>
            </a: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delegálás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partnerek között, de az adott partner szervezeti keretein belül i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Reális költségveté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megalapozott, összhangban a tevékenységekkel, indikátorokk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Indikátorok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partner és projekt szinten– kimenet (rövidtávú) és eredmény (hosszútávú) mutató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5 éves fenntartási kötelezettsé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336600"/>
                </a:solidFill>
                <a:latin typeface="Arial"/>
              </a:rPr>
              <a:t>Archiválá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– 2022-ig megőrizni a kapcsolódó dokumentumok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1T08:38:13Z</dcterms:created>
  <dc:creator>birikiarianna</dc:creator>
  <dc:description/>
  <dc:language>en-US</dc:language>
  <cp:lastModifiedBy>birikiarianna</cp:lastModifiedBy>
  <dcterms:modified xsi:type="dcterms:W3CDTF">2011-09-20T13:41:03Z</dcterms:modified>
  <cp:revision>106</cp:revision>
  <dc:subject/>
  <dc:title>Luh o</dc:title>
</cp:coreProperties>
</file>