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F927E-A4A5-41FC-AB66-CFDD06CAE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897F5-C5A6-4159-8E2D-FA06FB4C3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1F730-54EF-4C6F-8E7D-57D9BCF02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D1409-F9A5-48FD-93D5-79F6960A7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88B04-94FB-45B2-8B52-9DBD6A7CC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6D9FB-F078-4A54-B592-5102B8045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7F623-4A8D-438E-9A11-7AB3F6EA1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4DF4E-2071-497E-907C-5BC088178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C8AC6-A1E3-499C-8665-2B519B794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957480" y="274320"/>
            <a:ext cx="5400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5BB08-5E84-46EA-9FFC-7EB95626F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710BA-EE25-4352-B008-C3F8FEBD2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ED17A-A594-4CB4-9A67-9A5191F83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B8DA0-7D4E-49AD-A773-3E3BE1905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EF548-54A0-4A53-937C-02BB93C7F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B40B9-244F-4E56-88CC-6030DD68B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79AF8-C758-4900-A2BA-6E3FE94F5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77445-442C-4F47-9ECE-D5FD93613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8ECBD-6970-41E1-B230-3A6F08020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75321-9DA4-4394-AFFD-A6FC9B58B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BAF43-192B-490E-8D9F-54DAA832D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957480" y="274320"/>
            <a:ext cx="5400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04823-0041-4B47-AD95-1A3A5ACFA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FB082-430B-4F58-AF65-3B31C7920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0FFFF-9ACC-43C4-BD06-DBA2F5E27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D93BF-BEE6-49F2-A00B-49849E684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942E0-BA52-4815-BC26-71C1DB7385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4CB9A-3FA4-41BB-B0E9-AB32720D40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husk-cbc.eu/" TargetMode="External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mailto:abiriki@husk-cbc.eu" TargetMode="External"/><Relationship Id="rId3" Type="http://schemas.openxmlformats.org/officeDocument/2006/relationships/hyperlink" Target="mailto:abiriki@husk-cbc.eu" TargetMode="External"/><Relationship Id="rId4" Type="http://schemas.openxmlformats.org/officeDocument/2006/relationships/hyperlink" Target="mailto:abiriki@husk-cbc.eu" TargetMode="External"/><Relationship Id="rId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husk-cbc.eu/" TargetMode="External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3333"/>
                </a:solidFill>
                <a:latin typeface="Arial"/>
              </a:rPr>
              <a:t>HUSK 4. pályázati felhívás</a:t>
            </a:r>
            <a:br>
              <a:rPr sz="3500"/>
            </a:br>
            <a:br>
              <a:rPr sz="3500"/>
            </a:br>
            <a:r>
              <a:rPr b="1" lang="en-US" sz="3500" spc="-1" strike="noStrike">
                <a:solidFill>
                  <a:srgbClr val="333333"/>
                </a:solidFill>
                <a:latin typeface="Arial"/>
              </a:rPr>
              <a:t>Információs nap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4797000"/>
            <a:ext cx="6400800" cy="84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333333"/>
                </a:solidFill>
                <a:latin typeface="Arial"/>
              </a:rPr>
              <a:t>Biriki Ariann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333333"/>
                </a:solidFill>
                <a:latin typeface="Arial"/>
              </a:rPr>
              <a:t>HU-SK JTS, Budapes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333333"/>
                </a:solidFill>
                <a:latin typeface="Arial"/>
              </a:rPr>
              <a:t>Balassagyarmat, 2011.09.2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Vezető partner elv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partnerek közösen kiválasztanak egy vezetőt maguk közül, aki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támogatási szerződé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ír alá a partnerek nevében a szerződéskötő hatóságg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partnerségi megállapodá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ír alá a partnerekkel a projekt végrehajtását érintő feladatokról, felelőségekről, határidőkről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fogadja az uniós támogatást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és felel a partnerek közötti elosztásáér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lel a projekt teljes végrehajtásáért az illetékes programirányító hatóság előtt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K – együttműködési kritériumo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Közös fejleszté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Közös végrehajtá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Közös alkalmazottak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Közös finanszírozá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539640" y="5013360"/>
            <a:ext cx="8209080" cy="794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Négy feltétel közül </a:t>
            </a:r>
            <a:r>
              <a:rPr b="1" i="1" lang="en-US" sz="2300" spc="-1" strike="noStrike">
                <a:solidFill>
                  <a:srgbClr val="000000"/>
                </a:solidFill>
                <a:latin typeface="Arial"/>
              </a:rPr>
              <a:t>legalább kettőt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bizonyíthatóan teljesíteni kell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Költségveté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jogosult területen kívül megvalósítandó tevékenységek elszámolható költsége nem haladhatja meg a projekt elszámolható összköltségének 10%-át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Előkészítő költségek (1. költségvetési sor) - Az adott partner költségvetésének max. </a:t>
            </a:r>
            <a:r>
              <a:rPr b="0" lang="hu-HU" sz="2000" spc="-1" strike="noStrike">
                <a:solidFill>
                  <a:srgbClr val="ff3300"/>
                </a:solidFill>
                <a:latin typeface="Arial"/>
              </a:rPr>
              <a:t>10%-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ban jogosult. A szerződéskötésig felmerült költségek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6.1 és 6.2 sorok projekt szintű összege nem haladhatja meg a projekt jogosult költségeinek </a:t>
            </a:r>
            <a:r>
              <a:rPr b="0" lang="hu-HU" sz="2000" spc="-1" strike="noStrike">
                <a:solidFill>
                  <a:srgbClr val="ff3300"/>
                </a:solidFill>
                <a:latin typeface="Arial"/>
              </a:rPr>
              <a:t>10%-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7.3-7.5 (rezsi) sorok összege nem haladhatja meg az adott partner személyi költségeinek </a:t>
            </a:r>
            <a:r>
              <a:rPr b="0" lang="hu-HU" sz="2000" spc="-1" strike="noStrike">
                <a:solidFill>
                  <a:srgbClr val="ff3300"/>
                </a:solidFill>
                <a:latin typeface="Arial"/>
              </a:rPr>
              <a:t>25%-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t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Projekt megszabott min.-max. méretei = </a:t>
            </a:r>
            <a:r>
              <a:rPr b="0" lang="sk-SK" sz="2000" spc="-1" strike="noStrike">
                <a:solidFill>
                  <a:srgbClr val="ff3300"/>
                </a:solidFill>
                <a:latin typeface="Arial"/>
              </a:rPr>
              <a:t>85%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(ERFA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Beadandók</a:t>
            </a:r>
            <a:br>
              <a:rPr sz="3200"/>
            </a:b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1 eredeti+1 másol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hu-HU" sz="1600" spc="-1" strike="noStrike">
                <a:solidFill>
                  <a:srgbClr val="cc0000"/>
                </a:solidFill>
                <a:latin typeface="Calibri"/>
              </a:rPr>
              <a:t>nyomtatva, lepecsételve és aláírva</a:t>
            </a:r>
            <a:r>
              <a:rPr b="1" lang="hu-HU" sz="1600" spc="-1" strike="noStrike">
                <a:solidFill>
                  <a:srgbClr val="000000"/>
                </a:solidFill>
                <a:latin typeface="Calibri"/>
              </a:rPr>
              <a:t> beküldendő dokumentumok a következők:</a:t>
            </a:r>
            <a:r>
              <a:rPr b="0" lang="hu-HU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500" spc="-1" strike="noStrike">
                <a:solidFill>
                  <a:srgbClr val="cc0000"/>
                </a:solidFill>
                <a:latin typeface="Calibri"/>
              </a:rPr>
              <a:t>Vezető Partner nyilatkozat</a:t>
            </a:r>
            <a:r>
              <a:rPr b="0" lang="hu-HU" sz="1500" spc="-1" strike="noStrike">
                <a:solidFill>
                  <a:srgbClr val="000000"/>
                </a:solidFill>
                <a:latin typeface="Calibri"/>
              </a:rPr>
              <a:t> (a nyomtatvány elérhető magyar VP-nek magyarul, szlovák VP-nek szlovákul) - nyomtatva, törvényes képviselő által aláírva és lepecsételve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500" spc="-1" strike="noStrike">
                <a:solidFill>
                  <a:srgbClr val="cc0000"/>
                </a:solidFill>
                <a:latin typeface="Calibri"/>
              </a:rPr>
              <a:t>Partnerségi nyilatkozat</a:t>
            </a:r>
            <a:r>
              <a:rPr b="0" lang="sk-SK" sz="1500" spc="-1" strike="noStrike">
                <a:solidFill>
                  <a:srgbClr val="000000"/>
                </a:solidFill>
                <a:latin typeface="Calibri"/>
              </a:rPr>
              <a:t> (az összes támogatásban részesülő partner törvényes képviselője által aláírva) - </a:t>
            </a:r>
            <a:r>
              <a:rPr b="0" lang="hu-HU" sz="1500" spc="-1" strike="noStrike">
                <a:solidFill>
                  <a:srgbClr val="000000"/>
                </a:solidFill>
                <a:latin typeface="Calibri"/>
              </a:rPr>
              <a:t>nyomtatva, törvényes képviselő által aláírva és lepecsételve - 1 db dokumentu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hu-HU" sz="1600" spc="-1" strike="noStrike">
                <a:solidFill>
                  <a:srgbClr val="cc0000"/>
                </a:solidFill>
                <a:latin typeface="Calibri"/>
              </a:rPr>
              <a:t>nyomtatva</a:t>
            </a:r>
            <a:r>
              <a:rPr b="1" lang="hu-HU" sz="1600" spc="-1" strike="noStrike">
                <a:solidFill>
                  <a:srgbClr val="000000"/>
                </a:solidFill>
                <a:latin typeface="Calibri"/>
              </a:rPr>
              <a:t> beküldendő dokumentumok a következők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500" spc="-1" strike="noStrike">
                <a:solidFill>
                  <a:srgbClr val="000000"/>
                </a:solidFill>
                <a:latin typeface="Calibri"/>
              </a:rPr>
              <a:t>1. melléklet - </a:t>
            </a:r>
            <a:r>
              <a:rPr b="0" lang="hu-HU" sz="1500" spc="-1" strike="noStrike">
                <a:solidFill>
                  <a:srgbClr val="000000"/>
                </a:solidFill>
                <a:latin typeface="Calibri"/>
              </a:rPr>
              <a:t>Amennyiben a partnerek az együttműködési kritériumok közül a </a:t>
            </a:r>
            <a:r>
              <a:rPr b="0" lang="hu-HU" sz="1500" spc="-1" strike="noStrike">
                <a:solidFill>
                  <a:srgbClr val="cc0000"/>
                </a:solidFill>
                <a:latin typeface="Calibri"/>
              </a:rPr>
              <a:t>„Közös fejlesztés”</a:t>
            </a:r>
            <a:r>
              <a:rPr b="0" lang="hu-HU" sz="1500" spc="-1" strike="noStrike">
                <a:solidFill>
                  <a:srgbClr val="000000"/>
                </a:solidFill>
                <a:latin typeface="Calibri"/>
              </a:rPr>
              <a:t> feltételét választják, a megfelelőség igazolására szükséges az előkészítő tárgyalásokra szóló meghívók, jelenléti ívek, valamint a megbeszélések során készült jegyzőkönyvek pályázathoz való csatolása – </a:t>
            </a:r>
            <a:r>
              <a:rPr b="0" lang="hu-HU" sz="1500" spc="-1" strike="noStrike">
                <a:solidFill>
                  <a:srgbClr val="ff0000"/>
                </a:solidFill>
                <a:latin typeface="Calibri"/>
              </a:rPr>
              <a:t>nem hiánypótolható</a:t>
            </a:r>
            <a:r>
              <a:rPr b="0" lang="hu-HU" sz="1500" spc="-1" strike="noStrike">
                <a:solidFill>
                  <a:srgbClr val="000000"/>
                </a:solidFill>
                <a:latin typeface="Calibri"/>
              </a:rPr>
              <a:t>, de nem is eredményez automatikus kizárást.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500" spc="-1" strike="noStrike">
                <a:solidFill>
                  <a:srgbClr val="000000"/>
                </a:solidFill>
                <a:latin typeface="Calibri"/>
              </a:rPr>
              <a:t>2. melléklet - A projekt </a:t>
            </a:r>
            <a:r>
              <a:rPr b="0" lang="hu-HU" sz="1500" spc="-1" strike="noStrike">
                <a:solidFill>
                  <a:srgbClr val="cc0000"/>
                </a:solidFill>
                <a:latin typeface="Calibri"/>
              </a:rPr>
              <a:t>fenntarthatóságát</a:t>
            </a:r>
            <a:r>
              <a:rPr b="0" lang="hu-HU" sz="1500" spc="-1" strike="noStrike">
                <a:solidFill>
                  <a:srgbClr val="000000"/>
                </a:solidFill>
                <a:latin typeface="Calibri"/>
              </a:rPr>
              <a:t> biztosító intézkedések (a formátum adott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500" spc="-1" strike="noStrike">
                <a:solidFill>
                  <a:srgbClr val="000000"/>
                </a:solidFill>
                <a:latin typeface="Calibri"/>
              </a:rPr>
              <a:t>3. melléklet - Az </a:t>
            </a:r>
            <a:r>
              <a:rPr b="0" lang="hu-HU" sz="1500" spc="-1" strike="noStrike">
                <a:solidFill>
                  <a:srgbClr val="cc0000"/>
                </a:solidFill>
                <a:latin typeface="Calibri"/>
              </a:rPr>
              <a:t>esélyegyenlőséget</a:t>
            </a:r>
            <a:r>
              <a:rPr b="0" lang="hu-HU" sz="1500" spc="-1" strike="noStrike">
                <a:solidFill>
                  <a:srgbClr val="000000"/>
                </a:solidFill>
                <a:latin typeface="Calibri"/>
              </a:rPr>
              <a:t> biztosító intézkedések (a formátum adott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Calibri"/>
              </a:rPr>
              <a:t>Beruházási projektek esetében (ahol a 6. költségvetési soron “Építés/Investície” költséget kívánnak elszámolni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4. melléklet - </a:t>
            </a:r>
            <a:r>
              <a:rPr b="0" lang="hu-HU" sz="1800" spc="-1" strike="noStrike">
                <a:solidFill>
                  <a:srgbClr val="cc0000"/>
                </a:solidFill>
                <a:latin typeface="Calibri"/>
              </a:rPr>
              <a:t>Megvalósíthatósági tanulmány</a:t>
            </a: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 költség-haszon számítással (CBA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5. melléklet - </a:t>
            </a:r>
            <a:r>
              <a:rPr b="0" lang="sk-SK" sz="1800" spc="-1" strike="noStrike">
                <a:solidFill>
                  <a:srgbClr val="cc0000"/>
                </a:solidFill>
                <a:latin typeface="Calibri"/>
              </a:rPr>
              <a:t>Engedélyezési tervdokumentáció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 (csak másolat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6. melléklet -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A beruházással érintett helyszín </a:t>
            </a:r>
            <a:r>
              <a:rPr b="0" lang="sk-SK" sz="1800" spc="-1" strike="noStrike">
                <a:solidFill>
                  <a:srgbClr val="cc0000"/>
                </a:solidFill>
                <a:latin typeface="Calibri"/>
              </a:rPr>
              <a:t>fényképdokumentációja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 papíron (60 napnál nem régebbi állapotot ábrázoló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7. melléklet – Eredeti vagy hitelesített </a:t>
            </a:r>
            <a:r>
              <a:rPr b="0" lang="hu-HU" sz="1800" spc="-1" strike="noStrike">
                <a:solidFill>
                  <a:srgbClr val="cc0000"/>
                </a:solidFill>
                <a:latin typeface="Calibri"/>
              </a:rPr>
              <a:t>k</a:t>
            </a:r>
            <a:r>
              <a:rPr b="0" lang="sk-SK" sz="1800" spc="-1" strike="noStrike">
                <a:solidFill>
                  <a:srgbClr val="cc0000"/>
                </a:solidFill>
                <a:latin typeface="Calibri"/>
              </a:rPr>
              <a:t>örnyezeti hatásvizsgálat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 (EIA), amennyiben a nemzeti jogszabályok előírják. Amennyiben nem írják elő, úgy egy eredeti (aláírt, lepecsételt) nyilatkozat csatolása szükséges erről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8. melléklet -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A területileg illetékes Nemzeti Park eredeti vagy hitelesített elvi hozzájárulása a projekthez (azaz a </a:t>
            </a:r>
            <a:r>
              <a:rPr b="0" lang="sk-SK" sz="1800" spc="-1" strike="noStrike">
                <a:solidFill>
                  <a:srgbClr val="cc0000"/>
                </a:solidFill>
                <a:latin typeface="Calibri"/>
              </a:rPr>
              <a:t>Nemzeti Park Igazgatósága által írt hivatalos levél vagy nyilatkozat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 becsatolása szükséges). Amennyiben a projekt partnerek tevékenységei nem érintenek védett és/vagy NATURA 2000 területet, akkor elegendő a támogatásban részesülő Partnerek eredeti (aláírt, lepecsételt) nyilatkozata, amely szerint a partnerek projekt tevékenységei nem érintenek védett és/vagy NATURA 2000 területet, és nem lesznek negatív hatással az adott területr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Értékelés menet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900000" y="1773360"/>
            <a:ext cx="6551280" cy="4347720"/>
            <a:chOff x="900000" y="1773360"/>
            <a:chExt cx="6551280" cy="4347720"/>
          </a:xfrm>
        </p:grpSpPr>
        <p:sp>
          <p:nvSpPr>
            <p:cNvPr id="116" name=""/>
            <p:cNvSpPr/>
            <p:nvPr/>
          </p:nvSpPr>
          <p:spPr>
            <a:xfrm>
              <a:off x="900000" y="1773360"/>
              <a:ext cx="1540800" cy="65880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Pályázó, a KSZT és a RIP támogatásáva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900000" y="3617640"/>
              <a:ext cx="1540800" cy="39528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KSZT és RIP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00000" y="4935240"/>
              <a:ext cx="1540800" cy="52668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KSZT és/vagy külső szakértő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900000" y="5725800"/>
              <a:ext cx="1540800" cy="39528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KMB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141360" y="1905120"/>
              <a:ext cx="3362400" cy="39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A pályázat kidolgozás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125520" y="3299400"/>
              <a:ext cx="2521800" cy="39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Pályázat benyújtása/befogadás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125520" y="4047480"/>
              <a:ext cx="2521800" cy="39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Formai és jogosultsági ellenőrzé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03600" y="2968200"/>
              <a:ext cx="1147680" cy="91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iánypótlás (az értékelési táblában rögzített, előre meghatározott esetekben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803200" y="3749760"/>
              <a:ext cx="98064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 flipV="1">
              <a:off x="6784200" y="2168280"/>
              <a:ext cx="1440" cy="658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 flipH="1">
              <a:off x="6504120" y="2168640"/>
              <a:ext cx="2800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822560" y="2432160"/>
              <a:ext cx="1480680" cy="536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ályázat ismételt benyújtása, Vezető Partn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523120" y="2300040"/>
              <a:ext cx="2160" cy="1317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421800" y="2432160"/>
              <a:ext cx="1293480" cy="536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ályázat benyújtása, Vezető Partn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141360" y="5067360"/>
              <a:ext cx="3362400" cy="39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Pályázatok szakmai értékelés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001320" y="2959200"/>
              <a:ext cx="28018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001320" y="4671720"/>
              <a:ext cx="280188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803200" y="2959200"/>
              <a:ext cx="0" cy="17125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001320" y="2986560"/>
              <a:ext cx="0" cy="17125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822560" y="4671720"/>
              <a:ext cx="1440" cy="3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141360" y="5725800"/>
              <a:ext cx="3362400" cy="39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A pályázatok kiválasztása, támogatási dönté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822560" y="5462280"/>
              <a:ext cx="1440" cy="29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527240" y="314172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ff3300"/>
                </a:solidFill>
                <a:latin typeface="Arial"/>
              </a:rPr>
              <a:t>14</a:t>
            </a:r>
            <a:r>
              <a:rPr b="0" lang="sk-SK" sz="1600" spc="-1" strike="noStrike">
                <a:solidFill>
                  <a:srgbClr val="ff3300"/>
                </a:solidFill>
                <a:latin typeface="Arial"/>
              </a:rPr>
              <a:t> naptári n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564000" y="2599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MIR 2007-2013 Monitoring és Információs rendsz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IMIR 2007-2013 </a:t>
            </a:r>
            <a:r>
              <a:rPr b="1" i="1" lang="hu-HU" sz="2800" spc="-1" strike="noStrike">
                <a:solidFill>
                  <a:srgbClr val="c00000"/>
                </a:solidFill>
                <a:latin typeface="Arial"/>
              </a:rPr>
              <a:t>Pályázati modul 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(Application module) HU-SK nyelven</a:t>
            </a:r>
            <a:br>
              <a:rPr sz="2800"/>
            </a:b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IMIR 2007-2013 </a:t>
            </a:r>
            <a:r>
              <a:rPr b="1" i="1" lang="hu-HU" sz="2800" spc="-1" strike="noStrike">
                <a:solidFill>
                  <a:srgbClr val="c00000"/>
                </a:solidFill>
                <a:latin typeface="Arial"/>
              </a:rPr>
              <a:t>Nemzeti modul</a:t>
            </a:r>
            <a:r>
              <a:rPr b="1" lang="hu-HU" sz="2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(National module) – magyar  partnerek részére – ENG</a:t>
            </a:r>
            <a:br>
              <a:rPr sz="2800"/>
            </a:b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IMIR 2007-2013 </a:t>
            </a:r>
            <a:r>
              <a:rPr b="1" i="1" lang="hu-HU" sz="2800" spc="-1" strike="noStrike">
                <a:solidFill>
                  <a:srgbClr val="c00000"/>
                </a:solidFill>
                <a:latin typeface="Arial"/>
              </a:rPr>
              <a:t>Közös modul</a:t>
            </a:r>
            <a:r>
              <a:rPr b="1" lang="hu-HU" sz="2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(Joint module) – Vezető Partnerek számára – E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Végül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Arial"/>
              </a:rPr>
              <a:t>A pályázati felhívással kapcsolatos minden információ és dokumentum megtalálható a honlapunkon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2"/>
              </a:rPr>
              <a:t>www.husk-cbc.eu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Arial"/>
              </a:rPr>
              <a:t>Pályázati felhívá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Arial"/>
              </a:rPr>
              <a:t>Pályázati útmutató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Arial"/>
              </a:rPr>
              <a:t>Pályázati formanyomtatvány és mellékletei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Arial"/>
              </a:rPr>
              <a:t>Pályázati formanyomtatvány kitöltési útmutató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Arial"/>
              </a:rPr>
              <a:t>Útmutató a költségek elszámolhatóságához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Arial"/>
              </a:rPr>
              <a:t>Értékelő táblázato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Arial"/>
              </a:rPr>
              <a:t>Megvalósíthatósági tanulmány szerkezet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Arial"/>
              </a:rPr>
              <a:t>Projektvégrehajtási kézikönyv (PIH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Köszönöm a figyelmüket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Sikeres pályázást kívánunk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Biriki Ariann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abiriki</a:t>
            </a:r>
            <a:r>
              <a:rPr b="0" lang="hu-HU" sz="18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@</a:t>
            </a:r>
            <a:r>
              <a:rPr b="0" lang="hu-HU" sz="18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husk-cbc.eu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vezeté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A HUSK 1101 pályázati felhívás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IMIR 2007-2013 pályázati modu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Kérdések és válaszok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USK 1101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Lendületben a magyar-szlovák határmenti fejlesztése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0000"/>
                </a:solidFill>
                <a:latin typeface="Arial"/>
              </a:rPr>
              <a:t>2011. június 23. – 2011. október 21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Elektronikus beadási határidő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0000"/>
                </a:solidFill>
                <a:latin typeface="Arial"/>
              </a:rPr>
              <a:t>2011. október 21. 23.59.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 IMIR 2007-2013 Monitoring és Információs Rendszer erre szolgáló elektronikus pályázati felületén (IMIR 2007-2013 Front Office) – elérhető a </a:t>
            </a:r>
            <a:r>
              <a:rPr b="0" lang="hu-HU" sz="14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www.husk-cbc.eu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oldalról</a:t>
            </a:r>
            <a:r>
              <a:rPr b="0" lang="hu-H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 kért papír alapú dokumentumok beadási határidej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0000"/>
                </a:solidFill>
                <a:latin typeface="Arial"/>
              </a:rPr>
              <a:t>2011. október 28. 23.59.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(postai bélyegző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0000"/>
                </a:solidFill>
                <a:latin typeface="Arial"/>
              </a:rPr>
              <a:t>2011. október 28. 12.00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(személyesen vagy meghatalmazott útján a 1016 Budapest, Gellérthegy u. 30-32. Iratkezelés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6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ff0000"/>
                </a:solidFill>
                <a:latin typeface="Arial"/>
              </a:rPr>
              <a:t>NE felejtsék el a „BENYÚJT” gombot lenyomni!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4" descr=""/>
          <p:cNvPicPr/>
          <p:nvPr/>
        </p:nvPicPr>
        <p:blipFill>
          <a:blip r:embed="rId2"/>
          <a:stretch/>
        </p:blipFill>
        <p:spPr>
          <a:xfrm>
            <a:off x="4732200" y="0"/>
            <a:ext cx="44118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Text Box 5"/>
          <p:cNvSpPr/>
          <p:nvPr/>
        </p:nvSpPr>
        <p:spPr>
          <a:xfrm>
            <a:off x="395280" y="1557360"/>
            <a:ext cx="410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rioritások és beavatkozási területe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6"/>
          <p:cNvSpPr/>
          <p:nvPr/>
        </p:nvSpPr>
        <p:spPr>
          <a:xfrm>
            <a:off x="468360" y="2492280"/>
            <a:ext cx="3672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PRIORITÁS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– Gazdaság és társadal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3300"/>
                </a:solidFill>
                <a:latin typeface="Arial"/>
              </a:rPr>
              <a:t>~55%</a:t>
            </a:r>
            <a:r>
              <a:rPr b="0" lang="sk-SK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sk-SK" sz="1800" spc="-1" strike="noStrike">
                <a:solidFill>
                  <a:srgbClr val="ff3300"/>
                </a:solidFill>
                <a:latin typeface="Arial"/>
              </a:rPr>
              <a:t>(27 357 498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1800" spc="-1" strike="noStrike">
                <a:solidFill>
                  <a:srgbClr val="ff3300"/>
                </a:solidFill>
                <a:latin typeface="Arial"/>
              </a:rPr>
              <a:t>EU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PRIORITÁS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- Környezet- és természetvédelem, elérhetőség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3300"/>
                </a:solidFill>
                <a:latin typeface="Arial"/>
              </a:rPr>
              <a:t>~45%</a:t>
            </a:r>
            <a:r>
              <a:rPr b="0" lang="sk-SK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sk-SK" sz="1800" spc="-1" strike="noStrike">
                <a:solidFill>
                  <a:srgbClr val="ff3300"/>
                </a:solidFill>
                <a:latin typeface="Arial"/>
              </a:rPr>
              <a:t>(22 498 083 EU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7"/>
          <p:cNvSpPr/>
          <p:nvPr/>
        </p:nvSpPr>
        <p:spPr>
          <a:xfrm>
            <a:off x="395280" y="4869000"/>
            <a:ext cx="4103640" cy="1167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HUSK 1101 felhívás keretösszege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9 855 581 EU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RF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lérhető intézkedése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33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PRIORITÁSI TENGELY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1.1.1</a:t>
            </a:r>
            <a:r>
              <a:rPr b="0" lang="hu-HU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Üzleti infrastruktúra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fejlesztése  - 7 545 672 EU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1.2.1</a:t>
            </a:r>
            <a:r>
              <a:rPr b="0" lang="hu-HU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KTF és innovációs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infrastruktúra közös fejlesztése és határon átnyúló kutatási együttműködés - 5 000 000 EU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1.3.1</a:t>
            </a:r>
            <a:r>
              <a:rPr b="0" lang="hu-HU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Turisztikai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termékek és vonzerők fejlesztése, desztináció-menedzsment szervezetek és kapcsolódó infrastruktúra felállítása - 7 477 401 EU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1.4.1</a:t>
            </a:r>
            <a:r>
              <a:rPr b="0" lang="hu-HU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Egészségügyi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és kockázatkezelési kapacitások közös fejlesztése és összehangolt használata - 1 800 000 EU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1.5.1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Közös </a:t>
            </a: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hálózati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, partnerségi, program- és projekttervezési és -irányítási kapacitások fejlesztése - 1 500 000 EU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1.6.1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Közös </a:t>
            </a: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képzés, oktatás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és hálózatépítés - 1 234 425 EU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1.6.2</a:t>
            </a:r>
            <a:r>
              <a:rPr b="0" lang="hu-HU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Munkaerő-piaci kezdeményezések - 2 000 000 EU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1.7.1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Emberek közötti (</a:t>
            </a: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People to people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) kapcsolatépítés - 800 000 EU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lérhető intézkedése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336600"/>
                </a:solidFill>
                <a:latin typeface="Arial"/>
              </a:rPr>
              <a:t>2. PRIORITÁSI TENGELY</a:t>
            </a:r>
            <a:r>
              <a:rPr b="0" lang="hu-HU" sz="2200" spc="-1" strike="noStrike">
                <a:solidFill>
                  <a:srgbClr val="336600"/>
                </a:solidFill>
                <a:latin typeface="Arial"/>
              </a:rPr>
              <a:t> 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336600"/>
                </a:solidFill>
                <a:latin typeface="Arial"/>
              </a:rPr>
              <a:t>2.1.1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 Víz-, és hulladékgazdálkodás, megújuló energia - 10 813 699 EU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336600"/>
                </a:solidFill>
                <a:latin typeface="Arial"/>
              </a:rPr>
              <a:t>2.2.1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 Közös természetvédelmi tevékenységek - 3 000 000 EU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336600"/>
                </a:solidFill>
                <a:latin typeface="Arial"/>
              </a:rPr>
              <a:t>2.3.1</a:t>
            </a:r>
            <a:r>
              <a:rPr b="0" lang="hu-HU" sz="22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Kisléptékű útépítés, kerékpárutak  - 4 728 517 EUR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336600"/>
                </a:solidFill>
                <a:latin typeface="Arial"/>
              </a:rPr>
              <a:t>2.3.2</a:t>
            </a:r>
            <a:r>
              <a:rPr b="0" lang="hu-HU" sz="22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A tömegközlekedés fejlesztése  - 1 000 000 EU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336600"/>
                </a:solidFill>
                <a:latin typeface="Arial"/>
              </a:rPr>
              <a:t>2.4.2</a:t>
            </a:r>
            <a:r>
              <a:rPr b="0" lang="hu-HU" sz="22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Tanulmányok és tervek  (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Jobb határátkelési lehetőségek biztosítása a határfolyókon)</a:t>
            </a:r>
            <a:r>
              <a:rPr b="0" lang="hu-H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- 2 955 868  EU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észletesebben 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Pályázati útmutató 1.3 fejeztéb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lvashatnak az elérhető intézkedésekről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inimum elváráso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2000" spc="-1" strike="noStrike" u="sng">
                <a:solidFill>
                  <a:srgbClr val="000000"/>
                </a:solidFill>
                <a:uFillTx/>
                <a:latin typeface="Arial"/>
              </a:rPr>
              <a:t>Formai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Határon túli partn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2000" spc="-1" strike="noStrike" u="sng">
                <a:solidFill>
                  <a:srgbClr val="000000"/>
                </a:solidFill>
                <a:uFillTx/>
                <a:latin typeface="Arial"/>
              </a:rPr>
              <a:t>Szakmai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Innovatív, életképes/fenntartható projekt ötletek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Esélyegyenlősé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Fenntartható fejlődé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Költséghatékonysá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0000"/>
                </a:solidFill>
                <a:latin typeface="Arial"/>
              </a:rPr>
              <a:t>Határon átnyúló hatá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2000" spc="-1" strike="noStrike">
                <a:solidFill>
                  <a:srgbClr val="000000"/>
                </a:solidFill>
                <a:latin typeface="Arial"/>
              </a:rPr>
              <a:t>Vezető partner elv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2000" spc="-1" strike="noStrike">
                <a:solidFill>
                  <a:srgbClr val="000000"/>
                </a:solidFill>
                <a:latin typeface="Arial"/>
              </a:rPr>
              <a:t>4K kritériu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Kétnyelvűség – DE: hivatalos kommunikációs nyelv az </a:t>
            </a:r>
            <a:r>
              <a:rPr b="0" lang="sk-SK" sz="2000" spc="-1" strike="noStrike">
                <a:solidFill>
                  <a:srgbClr val="ff0000"/>
                </a:solidFill>
                <a:latin typeface="Arial"/>
              </a:rPr>
              <a:t>ango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000000"/>
                </a:solidFill>
                <a:latin typeface="Arial"/>
              </a:rPr>
              <a:t>További elvárások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336600"/>
                </a:solidFill>
                <a:latin typeface="Arial"/>
              </a:rPr>
              <a:t>Projekt elképzelés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innovatív, ötletes, hozzáadott értéket, CB hatást képviselő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336600"/>
                </a:solidFill>
                <a:latin typeface="Arial"/>
              </a:rPr>
              <a:t>Finanszírozás</a:t>
            </a:r>
            <a:r>
              <a:rPr b="0" lang="sk-SK" sz="18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– saját vs külső források, a kötelező önerő valójában többszöröse az előírt % összegnek, mivel utófinanszírozás kerül alkalmazásr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336600"/>
                </a:solidFill>
                <a:latin typeface="Arial"/>
              </a:rPr>
              <a:t>Partnerség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– Életképes partnerség, kölcsönös bizalom (horizontális, vertikális szinten), kellő kapacitásokkal rendelkező (HR, tőke, szakmai, EUs ismeretek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Feladatkörök, tevékenységek kellő szintű </a:t>
            </a:r>
            <a:r>
              <a:rPr b="1" lang="sk-SK" sz="1800" spc="-1" strike="noStrike">
                <a:solidFill>
                  <a:srgbClr val="336600"/>
                </a:solidFill>
                <a:latin typeface="Arial"/>
              </a:rPr>
              <a:t>delegálása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– partnerek között, de az adott partner szervezeti keretein belül i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336600"/>
                </a:solidFill>
                <a:latin typeface="Arial"/>
              </a:rPr>
              <a:t>Reális költségvetés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– megalapozott, összhangban a tevékenységekkel, indikátorokk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336600"/>
                </a:solidFill>
                <a:latin typeface="Arial"/>
              </a:rPr>
              <a:t>Indikátorok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partner és projekt szinten– kimenet (rövidtávú) és eredmény (hosszútávú) mutató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336600"/>
                </a:solidFill>
                <a:latin typeface="Arial"/>
              </a:rPr>
              <a:t>5 éves fenntartási kötelezettsé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336600"/>
                </a:solidFill>
                <a:latin typeface="Arial"/>
              </a:rPr>
              <a:t>Archiválás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– 2022-ig megőrizni a kapcsolódó dokumentumok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01T08:38:13Z</dcterms:created>
  <dc:creator>birikiarianna</dc:creator>
  <dc:description/>
  <dc:language>en-US</dc:language>
  <cp:lastModifiedBy>birikiarianna</cp:lastModifiedBy>
  <dcterms:modified xsi:type="dcterms:W3CDTF">2011-09-20T13:41:03Z</dcterms:modified>
  <cp:revision>106</cp:revision>
  <dc:subject/>
  <dc:title>Luh o</dc:title>
</cp:coreProperties>
</file>