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37B-C539-4F89-9058-55B6D7AD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9F3-3877-40C5-9F70-DF48BA27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042-387F-42E2-894F-3D84E3D0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3A6-415D-4BBC-8A7D-F656690C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471A-11C8-4D3A-B219-402F08D7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8D2A-DC03-4285-B701-FC8F0262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CB19-F968-4175-BF13-6296A1F8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0A38-A99F-4711-881C-9384E6EB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AFEB-22C6-44C9-B42C-C1065EB8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1ADD-698D-45E8-A824-93F7ABD4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0B4C-D492-4D3E-B999-58BF027A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897-7900-4A79-8C60-5FCA5BC4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1E4A-74E1-4779-984E-5EB4228C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5826-1C4B-4034-9BF8-C2381432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7F7A-AD4C-4E84-828A-6524B001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C474-4163-422F-B520-893A8A4A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9A5B-00A2-4888-89DF-A9346542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2ADE-A687-405E-9646-CAA041FE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B745-9E07-4B66-978F-49F8F61B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E2D-BEDE-4667-9954-46CA460E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24E-B0E9-4FB2-9FEB-5FF243C3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594-BB87-40F5-9C82-D721A733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CE6-9859-47DE-87C0-70581A6E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DC7-7AB7-41F1-8F86-0CD95887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4B2A-EA74-4F28-9799-E81C5F7EC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988C-FF34-49F4-933C-042DCEA5F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Balassagyarmat, 2011.09.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 – </a:t>
            </a: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nem hiánypótolható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, de nem is eredményez automatikus kizárást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határátkelési lehetőségek biztosítása a határfolyókon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hosszú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9-20T13:41:03Z</dcterms:modified>
  <cp:revision>106</cp:revision>
  <dc:subject/>
  <dc:title>Luh o</dc:title>
</cp:coreProperties>
</file>