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0420-4632-43D9-A8A1-DFF48EE16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3711-F439-4CC5-8F0D-1C6D4A9F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2AE7-171D-4E6D-B4FA-FFEE958D2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7218-E812-4EB2-8D8E-5C1DAFA75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A8EC-C53A-49B5-95AF-F16FDF1A3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DE61-37B2-4651-BA74-A96ED215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E11A-39DE-454D-A713-802B2650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1DDC-ADE4-4895-B0EC-BDE5BD10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7AF4-986E-48BC-AF07-78A98B3F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91E1-5F92-4867-B8BB-55EEEB40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A84B-FB54-4D70-A315-F22D3E26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90FD-116B-48C7-9FCF-0C2C4397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A7A3-677C-481B-A404-CA311FED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CAD2-5BC4-4892-9061-6480D956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9A83-DA2A-48FD-8DE2-6273FEAF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52DB-51A3-4D35-B499-DB35CAD47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A0BB-D2B6-4315-93C2-909CEC39E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A932-386D-459D-999F-C2AC7F19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6943-A95D-4F3C-8FC5-C7C87423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8290-90A5-43E4-9DF0-C5BC7065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C198-8D44-41E6-BB03-BABC697A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343F-E3E4-4D62-8B90-27642F92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2684-9DF1-487B-8FF0-CE9FBFE5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EA2B-F64A-4D92-A362-07950CB5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0FEA-BC23-4E5A-9F1F-CD6CEB0DD1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4B0D-742D-49EA-A5C5-39A572FD2F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abiriki@husk-cbc.eu" TargetMode="External"/><Relationship Id="rId3" Type="http://schemas.openxmlformats.org/officeDocument/2006/relationships/hyperlink" Target="mailto:abiriki@husk-cbc.eu" TargetMode="External"/><Relationship Id="rId4" Type="http://schemas.openxmlformats.org/officeDocument/2006/relationships/hyperlink" Target="mailto:abiriki@husk-cbc.eu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HUSK 4. pályázati felhívás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Információs nap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333333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Balassagyarmat, 2011.09.2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an jogosult. A szerződéskötésig felmerült költség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7.3-7.5 (rezsi) sorok összege nem haladhatja meg az adott partner személyi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20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eadandók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1 eredeti+1 másol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600" spc="-1" strike="noStrike">
                <a:solidFill>
                  <a:srgbClr val="cc0000"/>
                </a:solidFill>
                <a:latin typeface="Calibri"/>
              </a:rPr>
              <a:t>nyomtatva, lepecsételve és aláírva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beküldendő dokumentumok a következők: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cc0000"/>
                </a:solidFill>
                <a:latin typeface="Calibri"/>
              </a:rPr>
              <a:t>Vezető Partner nyilatkoza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(a nyomtatvány elérhető magyar VP-nek magyarul, szlovák VP-nek szlovákul) - nyomtatva, törvényes képviselő által aláírva és lepecsételv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cc0000"/>
                </a:solidFill>
                <a:latin typeface="Calibri"/>
              </a:rPr>
              <a:t>Partnerségi nyilatkozat</a:t>
            </a:r>
            <a:r>
              <a:rPr b="0" lang="sk-SK" sz="1500" spc="-1" strike="noStrike">
                <a:solidFill>
                  <a:srgbClr val="000000"/>
                </a:solidFill>
                <a:latin typeface="Calibri"/>
              </a:rPr>
              <a:t> (az összes támogatásban részesülő partner törvényes képviselője által aláírva) - 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nyomtatva, törvényes képviselő által aláírva és lepecsételve - 1 db dokumentu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600" spc="-1" strike="noStrike">
                <a:solidFill>
                  <a:srgbClr val="cc0000"/>
                </a:solidFill>
                <a:latin typeface="Calibri"/>
              </a:rPr>
              <a:t>nyomtatva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beküldendő dokumentumok a következők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000000"/>
                </a:solidFill>
                <a:latin typeface="Calibri"/>
              </a:rPr>
              <a:t>1. melléklet - 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Amennyiben a partnerek az együttműködési kritériumok közül a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„Közös fejlesztés”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feltételét választják, a megfelelőség igazolására szükséges az előkészítő tárgyalásokra szóló meghívók, jelenléti ívek, valamint a megbeszélések során készült jegyzőkönyvek pályázathoz való csatolása – </a:t>
            </a:r>
            <a:r>
              <a:rPr b="0" lang="hu-HU" sz="1500" spc="-1" strike="noStrike">
                <a:solidFill>
                  <a:srgbClr val="ff0000"/>
                </a:solidFill>
                <a:latin typeface="Calibri"/>
              </a:rPr>
              <a:t>nem hiánypótolható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, de nem is eredményez automatikus kizárást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2. melléklet - A projekt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fenntarthatóságá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3. melléklet - Az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esélyegyenlősége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Értékelés mene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11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27240" y="3141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A pályázati felhívással kapcsolatos minden információ és dokumentum megtalálható a honlapunko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www.husk-cbc.eu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elhív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útmutat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és melléklete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kitöltési útmutat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Útmutató a költségek elszámolhatóságáho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Értékelő tábláza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Megvalósíthatósági tanulmány szerkeze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rojektvégrehajtási kézikönyv (PI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abiriki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@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 HUSK 1101 pályázati felhívá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MIR 2007-2013 pályázati modu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Kérdések és válaszok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RIORITÁSI TENGEL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1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Üzleti infrastruktúra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jlesztése  - 7 545 672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2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TF és innováció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nfrastruktúra közös fejlesztése és határon átnyúló kutatási együttműködés - 5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3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Turisztika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termékek és vonzerők fejlesztése, desztináció-menedzsment szervezetek és kapcsolódó infrastruktúra felállítása - 7 477 401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4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Egészségügy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kockázatkezelési kapacitások közös fejlesztése és összehangolt használata - 1 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5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hálózat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partnerségi, program- és projekttervezési és -irányítási kapacitások fejlesztése - 1 5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1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épzés, oktat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hálózatépítés - 1 234 425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2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Munkaerő-piaci kezdeményezések - 2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7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Emberek közötti (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eople to peopl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 kapcsolatépítés - 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 PRIORITÁSI TENGELY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1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Víz-, és hulladékgazdálkodás, megújuló energia - 10 813 699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2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Közös természetvédelmi tevékenységek - 3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1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isléptékű útépítés, kerékpárutak  - 4 728 517 EU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tömegközlekedés fejlesztése  - 1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4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anulmányok és tervek  (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obb határátkelési lehetőségek biztosítása a határfolyókon)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- 2 955 868 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zletesebben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ályázati útmutató 1.3 fejeztéb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vashatnak az elérhető intézkedésekrő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További elváráso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rojekt elképzel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Finanszírozás</a:t>
            </a:r>
            <a:r>
              <a:rPr b="0" lang="sk-SK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artnerség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</a:t>
            </a: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delegálás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Reális költségvet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Indikátoro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rtner és projekt szinten– kimenet (rövidtávú) és eredmény (hosszútávú) mutató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Archiválá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birikiarianna</cp:lastModifiedBy>
  <dcterms:modified xsi:type="dcterms:W3CDTF">2011-09-20T13:41:03Z</dcterms:modified>
  <cp:revision>106</cp:revision>
  <dc:subject/>
  <dc:title>Luh o</dc:title>
</cp:coreProperties>
</file>