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1314113" cy="8002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52720" y="-36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745920" y="771480"/>
            <a:ext cx="5305320" cy="375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06480" y="4743000"/>
            <a:ext cx="49845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37368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52720" y="937368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AB574-C95B-48AD-B501-D7CEDA09B34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852720" y="937368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9BDF2-8EEA-4C23-99D0-2B8848C87E6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852720" y="-36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768240" y="744480"/>
            <a:ext cx="5265720" cy="37227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8960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34112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808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08960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34112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49240" y="711360"/>
            <a:ext cx="96170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379520" indent="-27612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932120" indent="-2764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1680" y="3240"/>
            <a:ext cx="11284200" cy="79977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839600"/>
            <a:ext cx="11315880" cy="20876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AZ ELSŐ SZINTŰ ELLENŐRZÉS ALAPJAI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a Magyarország-Szlovákia Határon Átnyúló Együttműködés Programban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-534960" y="4216320"/>
            <a:ext cx="11315520" cy="21607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400" spc="-1" strike="noStrike">
                <a:solidFill>
                  <a:srgbClr val="006666"/>
                </a:solidFill>
                <a:latin typeface="Calibri"/>
              </a:rPr>
              <a:t>Gordos Márta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400" spc="-1" strike="noStrike">
                <a:solidFill>
                  <a:srgbClr val="006666"/>
                </a:solidFill>
                <a:latin typeface="Calibri"/>
              </a:rPr>
              <a:t>Európai Együttműködési Programok Igazgatóság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400" spc="-1" strike="noStrike">
                <a:solidFill>
                  <a:srgbClr val="006666"/>
                </a:solidFill>
                <a:latin typeface="Calibri"/>
              </a:rPr>
              <a:t>Partneri szeminárium magyar partnerek részé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400" spc="-1" strike="noStrike">
                <a:solidFill>
                  <a:srgbClr val="006666"/>
                </a:solidFill>
                <a:latin typeface="Calibri"/>
              </a:rPr>
              <a:t>Budapest, 2012. október 18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7170840" y="471600"/>
            <a:ext cx="388944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833400" y="2199960"/>
            <a:ext cx="9617040" cy="34765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lnSpc>
                <a:spcPct val="80000"/>
              </a:lnSpc>
              <a:spcBef>
                <a:spcPts val="5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8080"/>
                </a:solidFill>
                <a:latin typeface="Calibri"/>
              </a:rPr>
              <a:t>Alanya: projekt partner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5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8080"/>
                </a:solidFill>
                <a:latin typeface="Calibri"/>
              </a:rPr>
              <a:t>Dokumentum alapú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80000"/>
              </a:lnSpc>
              <a:spcBef>
                <a:spcPts val="499"/>
              </a:spcBef>
              <a:buClr>
                <a:srgbClr val="008080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8080"/>
                </a:solidFill>
                <a:latin typeface="Calibri"/>
              </a:rPr>
              <a:t>partneri jelentés + számlák + alátámasztó dokumentumo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5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8080"/>
                </a:solidFill>
                <a:latin typeface="Calibri"/>
              </a:rPr>
              <a:t>Helyszíni ellenőrzé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80000"/>
              </a:lnSpc>
              <a:spcBef>
                <a:spcPts val="499"/>
              </a:spcBef>
              <a:buClr>
                <a:srgbClr val="008080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8080"/>
                </a:solidFill>
                <a:latin typeface="Calibri"/>
              </a:rPr>
              <a:t>a projekt élettartama során legalább egyszer (de kockázat-elemzés alapján lehetséges többször 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5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8080"/>
                </a:solidFill>
                <a:latin typeface="Calibri"/>
              </a:rPr>
              <a:t>Eredménye: hitelesítési nyilatkozat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5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8080"/>
                </a:solidFill>
                <a:latin typeface="Calibri"/>
              </a:rPr>
              <a:t>Időkorlát: 45 nap = jelentés ellenőrzése + max. 2 hiánypótlá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5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8080"/>
                </a:solidFill>
                <a:latin typeface="Calibri"/>
              </a:rPr>
              <a:t>A jelentés benyújtásának NEM előfeltétele a társfinanszírozási szerződés aláírása!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7040" y="184320"/>
            <a:ext cx="10785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Jelentéstéte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"/>
          <p:cNvSpPr/>
          <p:nvPr/>
        </p:nvSpPr>
        <p:spPr>
          <a:xfrm>
            <a:off x="838080" y="1676520"/>
            <a:ext cx="961704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rmAutofit/>
          </a:bodyPr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8080"/>
                </a:solidFill>
                <a:latin typeface="Calibri"/>
              </a:rPr>
              <a:t>Első szintű ellenőrzé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8080"/>
                </a:solidFill>
                <a:latin typeface="Calibri"/>
              </a:rPr>
              <a:t>Másodszintű ellenőrzé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8080"/>
                </a:solidFill>
                <a:latin typeface="Calibri"/>
              </a:rPr>
              <a:t>Egyéb ellenőrzések (ÁSZ, NH, EU Bizottság, stb.)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257040" y="184320"/>
            <a:ext cx="10785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ELLENŐRZÉSEK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394840" y="1984320"/>
            <a:ext cx="1303200" cy="17859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7889760" y="4505400"/>
            <a:ext cx="1800360" cy="17319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4289400" y="4287960"/>
            <a:ext cx="2495520" cy="29858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5442120" y="1479600"/>
            <a:ext cx="1944360" cy="1798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1697040" y="5153040"/>
            <a:ext cx="1790640" cy="16779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049400" y="3063600"/>
            <a:ext cx="9617040" cy="811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800" spc="-1" strike="noStrike">
                <a:solidFill>
                  <a:srgbClr val="008080"/>
                </a:solidFill>
                <a:latin typeface="Calibri"/>
              </a:rPr>
              <a:t>Köszönöm megtisztelő figyelmüket!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457360" y="1598760"/>
            <a:ext cx="6400800" cy="4803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1315880" cy="80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7040" y="0"/>
            <a:ext cx="10785600" cy="9367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SZEREPLŐK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905040"/>
            <a:ext cx="4895640" cy="5876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KÖZÖS FUNKCIÓK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Irányító Hatóság 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(Managing Authority) 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/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Közös Technikai Titkárság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 (</a:t>
            </a:r>
            <a:r>
              <a:rPr b="1" lang="en-US" sz="2500" spc="-1" strike="noStrike">
                <a:solidFill>
                  <a:srgbClr val="006666"/>
                </a:solidFill>
                <a:latin typeface="Calibri"/>
              </a:rPr>
              <a:t>Joint Technical Secretariat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 – JTS)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ERFA szerződés</a:t>
            </a:r>
            <a:r>
              <a:rPr b="1" i="1" lang="hu-HU" sz="2200" spc="-1" strike="noStrike">
                <a:solidFill>
                  <a:srgbClr val="006666"/>
                </a:solidFill>
                <a:latin typeface="Calibri"/>
              </a:rPr>
              <a:t> megkötése (és módosítása) a vezető partnerrel a teljes projektre vonatkozóa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projekt szintű jelentések</a:t>
            </a:r>
            <a:r>
              <a:rPr b="1" i="1" lang="hu-HU" sz="2200" spc="-1" strike="noStrike">
                <a:solidFill>
                  <a:srgbClr val="006666"/>
                </a:solidFill>
                <a:latin typeface="Calibri"/>
              </a:rPr>
              <a:t> be- és elfogadás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ERFA forrás</a:t>
            </a:r>
            <a:r>
              <a:rPr b="1" i="1" lang="hu-HU" sz="2200" spc="-1" strike="noStrike">
                <a:solidFill>
                  <a:srgbClr val="006666"/>
                </a:solidFill>
                <a:latin typeface="Calibri"/>
              </a:rPr>
              <a:t> kifizetése (utófinanszírozás, VP felé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000" spc="-1" strike="noStrike">
                <a:solidFill>
                  <a:srgbClr val="3333cc"/>
                </a:solidFill>
                <a:latin typeface="Calibri"/>
              </a:rPr>
              <a:t>LEAD PARTNER / VEZETŐ PARTN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945040" y="905040"/>
            <a:ext cx="4896000" cy="5876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NEMZETI FUNKCIÓ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Hitelesítésre kijelölt szervezet</a:t>
            </a: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6666"/>
                </a:solidFill>
                <a:latin typeface="Calibri"/>
              </a:rPr>
              <a:t>(First Level Control Body) –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600" spc="-1" strike="noStrike">
                <a:solidFill>
                  <a:srgbClr val="006666"/>
                </a:solidFill>
                <a:latin typeface="Calibri"/>
              </a:rPr>
              <a:t>VÁTI Nonprofit </a:t>
            </a:r>
            <a:r>
              <a:rPr b="1" lang="hu-HU" sz="2600" spc="-1" strike="noStrike">
                <a:solidFill>
                  <a:srgbClr val="006666"/>
                </a:solidFill>
                <a:latin typeface="Calibri"/>
              </a:rPr>
              <a:t>Kft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társfinanszírozási szerződés</a:t>
            </a: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 megkötése (és módosítása) a hazai partnerekke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partneri jelentések</a:t>
            </a: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 be- és elfogadá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hazai társfinanszírozás</a:t>
            </a:r>
            <a:r>
              <a:rPr b="1" i="1" lang="hu-HU" sz="2200" spc="-1" strike="noStrike">
                <a:solidFill>
                  <a:srgbClr val="006666"/>
                </a:solidFill>
                <a:latin typeface="Calibri"/>
              </a:rPr>
              <a:t> kifizetése (100% előleg, hazai partner felé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200" spc="-1" strike="noStrike">
                <a:solidFill>
                  <a:srgbClr val="3333cc"/>
                </a:solidFill>
                <a:latin typeface="Calibri"/>
              </a:rPr>
              <a:t>PROJECT PARTNER / PROJEKT PARTN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7040" y="183960"/>
            <a:ext cx="10785600" cy="9363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FOLYAMATOK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1479600"/>
            <a:ext cx="4895640" cy="5302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000" spc="-1" strike="noStrike">
                <a:solidFill>
                  <a:srgbClr val="006666"/>
                </a:solidFill>
                <a:latin typeface="Calibri"/>
              </a:rPr>
              <a:t>HAZAI PARTN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alibri"/>
              </a:rPr>
              <a:t>PARTNERI JELENTÉS, </a:t>
            </a:r>
            <a:r>
              <a:rPr b="1" lang="hu-HU" sz="2400" spc="-1" strike="noStrike">
                <a:solidFill>
                  <a:srgbClr val="00cc99"/>
                </a:solidFill>
                <a:latin typeface="Calibri"/>
              </a:rPr>
              <a:t>HIÁNYPÓTLÁS(OK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alibri"/>
              </a:rPr>
              <a:t>HITELESÍTÉSI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alibri"/>
              </a:rPr>
              <a:t>NYILATKOZ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000" spc="-1" strike="noStrike">
                <a:solidFill>
                  <a:srgbClr val="006666"/>
                </a:solidFill>
                <a:latin typeface="Calibri"/>
              </a:rPr>
              <a:t>FLC (VÁTI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65400" y="1984320"/>
            <a:ext cx="1368360" cy="4680000"/>
          </a:xfrm>
          <a:custGeom>
            <a:avLst/>
            <a:gdLst>
              <a:gd name="textAreaLeft" fmla="*/ 183240 w 1368360"/>
              <a:gd name="textAreaRight" fmla="*/ 1185120 w 1368360"/>
              <a:gd name="textAreaTop" fmla="*/ 819000 h 4680000"/>
              <a:gd name="textAreaBottom" fmla="*/ 3393000 h 468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0664400">
            <a:off x="3850560" y="1839600"/>
            <a:ext cx="1368360" cy="4392720"/>
          </a:xfrm>
          <a:custGeom>
            <a:avLst/>
            <a:gdLst>
              <a:gd name="textAreaLeft" fmla="*/ 183240 w 1368360"/>
              <a:gd name="textAreaRight" fmla="*/ 1185120 w 1368360"/>
              <a:gd name="textAreaTop" fmla="*/ 768600 h 4392720"/>
              <a:gd name="textAreaBottom" fmla="*/ 3184920 h 439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73760" y="1479600"/>
            <a:ext cx="4896000" cy="5302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000" spc="-1" strike="noStrike">
                <a:solidFill>
                  <a:srgbClr val="006666"/>
                </a:solidFill>
                <a:latin typeface="Calibri"/>
              </a:rPr>
              <a:t>VEZETŐ PARTN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alibri"/>
              </a:rPr>
              <a:t>PROJEKT SZINT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alibri"/>
              </a:rPr>
              <a:t>JELENTÉS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HIÁNYPÓTLÁS(O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alibri"/>
              </a:rPr>
              <a:t>ERFA KIFIZE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000" spc="-1" strike="noStrike">
                <a:solidFill>
                  <a:srgbClr val="006666"/>
                </a:solidFill>
                <a:latin typeface="Calibri"/>
              </a:rPr>
              <a:t>J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62840" y="2055960"/>
            <a:ext cx="1368360" cy="4679640"/>
          </a:xfrm>
          <a:custGeom>
            <a:avLst/>
            <a:gdLst>
              <a:gd name="textAreaLeft" fmla="*/ 183240 w 1368360"/>
              <a:gd name="textAreaRight" fmla="*/ 1185120 w 1368360"/>
              <a:gd name="textAreaTop" fmla="*/ 819000 h 4679640"/>
              <a:gd name="textAreaBottom" fmla="*/ 3393000 h 46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0800000">
            <a:off x="9186480" y="1768320"/>
            <a:ext cx="1368360" cy="4680000"/>
          </a:xfrm>
          <a:custGeom>
            <a:avLst/>
            <a:gdLst>
              <a:gd name="textAreaLeft" fmla="*/ 183240 w 1368360"/>
              <a:gd name="textAreaRight" fmla="*/ 1185120 w 1368360"/>
              <a:gd name="textAreaTop" fmla="*/ 819000 h 4680000"/>
              <a:gd name="textAreaBottom" fmla="*/ 3393000 h 468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1400" y="1479600"/>
            <a:ext cx="2016000" cy="288720"/>
          </a:xfrm>
          <a:custGeom>
            <a:avLst/>
            <a:gdLst>
              <a:gd name="textAreaLeft" fmla="*/ 352800 w 2016000"/>
              <a:gd name="textAreaRight" fmla="*/ 1461600 w 2016000"/>
              <a:gd name="textAreaTop" fmla="*/ 38520 h 288720"/>
              <a:gd name="textAreaBottom" fmla="*/ 250200 h 288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0800000">
            <a:off x="4578480" y="1983960"/>
            <a:ext cx="2016000" cy="289080"/>
          </a:xfrm>
          <a:custGeom>
            <a:avLst/>
            <a:gdLst>
              <a:gd name="textAreaLeft" fmla="*/ 352800 w 2016000"/>
              <a:gd name="textAreaRight" fmla="*/ 1461600 w 2016000"/>
              <a:gd name="textAreaTop" fmla="*/ 38520 h 289080"/>
              <a:gd name="textAreaBottom" fmla="*/ 250560 h 289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600" spc="-1" strike="noStrike">
                <a:solidFill>
                  <a:srgbClr val="008080"/>
                </a:solidFill>
                <a:latin typeface="Calibri"/>
              </a:rPr>
              <a:t>A vezető partner (Lead Partner) kettős szerep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4073040" y="1768320"/>
            <a:ext cx="1295640" cy="792360"/>
          </a:xfrm>
          <a:prstGeom prst="line">
            <a:avLst/>
          </a:prstGeom>
          <a:ln w="7632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49280" y="1786320"/>
            <a:ext cx="1272960" cy="828000"/>
          </a:xfrm>
          <a:prstGeom prst="line">
            <a:avLst/>
          </a:prstGeom>
          <a:ln w="7632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09400" y="2847960"/>
            <a:ext cx="3529080" cy="2736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8080"/>
                </a:solidFill>
                <a:latin typeface="Calibri"/>
              </a:rPr>
              <a:t>HAZAI PARTNER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8080"/>
                </a:solidFill>
                <a:latin typeface="Arial"/>
              </a:rPr>
              <a:t>FLC (VÁTI)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21040" y="3568680"/>
            <a:ext cx="431640" cy="1152720"/>
          </a:xfrm>
          <a:prstGeom prst="upDownArrow">
            <a:avLst>
              <a:gd name="adj1" fmla="val 50000"/>
              <a:gd name="adj2" fmla="val 53164"/>
            </a:avLst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520" rIns="110520" tIns="55080" bIns="55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378480" y="2921040"/>
            <a:ext cx="3168720" cy="2663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000" spc="-1" strike="noStrike">
                <a:solidFill>
                  <a:srgbClr val="006666"/>
                </a:solidFill>
                <a:latin typeface="Calibri"/>
              </a:rPr>
              <a:t>VEZETŐ PARTN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000" spc="-1" strike="noStrike">
                <a:solidFill>
                  <a:srgbClr val="006666"/>
                </a:solidFill>
                <a:latin typeface="Calibri"/>
              </a:rPr>
              <a:t>J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745400" y="3568680"/>
            <a:ext cx="433440" cy="1224000"/>
          </a:xfrm>
          <a:prstGeom prst="upDownArrow">
            <a:avLst>
              <a:gd name="adj1" fmla="val 50000"/>
              <a:gd name="adj2" fmla="val 5621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57040" y="184320"/>
            <a:ext cx="10785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ERFA KIFIZETÉS IDŐIGÉNY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833400" y="1479600"/>
          <a:ext cx="9628200" cy="5208480"/>
        </p:xfrm>
        <a:graphic>
          <a:graphicData uri="http://schemas.openxmlformats.org/drawingml/2006/table">
            <a:tbl>
              <a:tblPr/>
              <a:tblGrid>
                <a:gridCol w="4815000"/>
                <a:gridCol w="1954080"/>
                <a:gridCol w="2859120"/>
              </a:tblGrid>
              <a:tr h="460440"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Lépések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2808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Idő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2808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Összesen idő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576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2808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880920">
                <a:tc>
                  <a:txBody>
                    <a:bodyPr lIns="110520" rIns="110520" tIns="55080" bIns="55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jelentéstételi időszak vég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0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0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811080">
                <a:tc>
                  <a:txBody>
                    <a:bodyPr lIns="110520" rIns="110520" tIns="55080" bIns="55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partneri jelentés benyújtása a VÁTI felé (PP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15 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0,5 hó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811440">
                <a:tc>
                  <a:txBody>
                    <a:bodyPr lIns="110520" rIns="110520" tIns="55080" bIns="55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hitelesítési nyilatkozat továbbítása a VP felé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45 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2 hó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811080">
                <a:tc>
                  <a:txBody>
                    <a:bodyPr lIns="110520" rIns="110520" tIns="55080" bIns="55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projekt szintű jelentés továbbítása a JTS felé (VP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45 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3,5 hó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716040">
                <a:tc>
                  <a:txBody>
                    <a:bodyPr lIns="110520" rIns="110520" tIns="55080" bIns="55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projekt szintű jelentés jóváhagyás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60 nap (?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5,5 hó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110520" rIns="110520" tIns="55080" bIns="55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ERFA utalás elindítása VP felé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2808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30 nap (?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2808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6,5 hó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28080">
                      <a:solidFill>
                        <a:srgbClr val="0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3400" y="25524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9999"/>
                </a:solidFill>
                <a:latin typeface="Calibri"/>
              </a:rPr>
              <a:t>Első szintű ellenőrzés – jogszabályi alap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7400" y="1768320"/>
            <a:ext cx="1008072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cc"/>
                </a:solidFill>
                <a:latin typeface="Calibri"/>
              </a:rPr>
              <a:t> </a:t>
            </a:r>
            <a:r>
              <a:rPr b="1" i="1" lang="hu-HU" sz="2400" spc="-1" strike="noStrike">
                <a:solidFill>
                  <a:srgbClr val="3333cc"/>
                </a:solidFill>
                <a:latin typeface="Calibri"/>
              </a:rPr>
              <a:t>49/2007. (III.26.) Korm. rendelet </a:t>
            </a:r>
            <a:r>
              <a:rPr b="0" i="1" lang="hu-HU" sz="2000" spc="-1" strike="noStrike">
                <a:solidFill>
                  <a:srgbClr val="008080"/>
                </a:solidFill>
                <a:latin typeface="Calibri"/>
              </a:rPr>
              <a:t>a 2007-2013 programozási időszakban az Európai Regionális Fejlesztési Alap, valamint az Előcsatlakozási Támogatási Eszköz és az Európai Szomszédsági és Partnerségi Eszköz pénzügyi alapok egyes, a területi együttműködéshez kapcsolódó programjaiból származó támogatások hazai felhasználásának intézményeiről</a:t>
            </a:r>
            <a:r>
              <a:rPr b="1" i="1" lang="hu-HU" sz="2000" spc="-1" strike="noStrike">
                <a:solidFill>
                  <a:srgbClr val="00808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3333cc"/>
                </a:solidFill>
                <a:latin typeface="Calibri"/>
              </a:rPr>
              <a:t>– </a:t>
            </a:r>
            <a:r>
              <a:rPr b="0" i="1" lang="hu-HU" sz="2400" spc="-1" strike="noStrike" u="sng">
                <a:solidFill>
                  <a:srgbClr val="3333cc"/>
                </a:solidFill>
                <a:uFillTx/>
                <a:latin typeface="Calibri"/>
              </a:rPr>
              <a:t>„</a:t>
            </a:r>
            <a:r>
              <a:rPr b="0" i="1" lang="hu-HU" sz="2400" spc="-1" strike="noStrike" u="sng">
                <a:solidFill>
                  <a:srgbClr val="3333cc"/>
                </a:solidFill>
                <a:uFillTx/>
                <a:latin typeface="Calibri"/>
              </a:rPr>
              <a:t>kijelölő rendelet”</a:t>
            </a:r>
            <a:r>
              <a:rPr b="0" i="1" lang="hu-HU" sz="2400" spc="-1" strike="noStrike">
                <a:solidFill>
                  <a:srgbClr val="3333cc"/>
                </a:solidFill>
                <a:latin typeface="Calibri"/>
              </a:rPr>
              <a:t> VÁTI, mint hitelesítésre kijelölt szervezet Kormányrendelet : </a:t>
            </a:r>
            <a:r>
              <a:rPr b="0" i="1" lang="hu-HU" sz="2000" spc="-1" strike="noStrike">
                <a:solidFill>
                  <a:srgbClr val="008080"/>
                </a:solidFill>
                <a:latin typeface="Calibri"/>
              </a:rPr>
              <a:t>„az 1080/2006/EK rendelet 16. cikkében foglalt feladat ellátásával megbízott szerv: a VÁTI Magyar Regionális Fejlesztési és Urbanisztikai Közhasznú Társaság (a továbbiakban: VÁTI Kht.)”</a:t>
            </a:r>
            <a:r>
              <a:rPr b="0" lang="hu-HU" sz="2000" spc="-1" strike="noStrike">
                <a:solidFill>
                  <a:srgbClr val="008080"/>
                </a:solidFill>
                <a:latin typeface="Calibri"/>
              </a:rPr>
              <a:t> (</a:t>
            </a:r>
            <a:r>
              <a:rPr b="0" i="1" lang="hu-HU" sz="2000" spc="-1" strike="noStrike">
                <a:solidFill>
                  <a:srgbClr val="008080"/>
                </a:solidFill>
                <a:latin typeface="Calibri"/>
              </a:rPr>
              <a:t>3. b))</a:t>
            </a:r>
            <a:r>
              <a:rPr b="0" i="1" lang="hu-H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3333cc"/>
                </a:solidFill>
                <a:latin typeface="Calibri"/>
              </a:rPr>
              <a:t> </a:t>
            </a:r>
            <a:r>
              <a:rPr b="1" i="1" lang="hu-HU" sz="2400" spc="-1" strike="noStrike">
                <a:solidFill>
                  <a:srgbClr val="3333cc"/>
                </a:solidFill>
                <a:latin typeface="Calibri"/>
              </a:rPr>
              <a:t>160/2009. (VIII.3.) Korm. rendelet  </a:t>
            </a:r>
            <a:r>
              <a:rPr b="0" i="1" lang="hu-HU" sz="2000" spc="-1" strike="noStrike">
                <a:solidFill>
                  <a:srgbClr val="008080"/>
                </a:solidFill>
                <a:latin typeface="Calibri"/>
              </a:rPr>
              <a:t>a 2007-2013 programozási időszakban az Európai Regionális Fejlesztési Alap, valamint az Előcsatlakozási Támogatási Eszköz pénzügyi alapok egyes, a területi együttműködéshez kapcsolódó programjainak végrehajtásáró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 u="sng">
                <a:solidFill>
                  <a:srgbClr val="3333cc"/>
                </a:solidFill>
                <a:uFillTx/>
                <a:latin typeface="Calibri"/>
              </a:rPr>
              <a:t>„</a:t>
            </a:r>
            <a:r>
              <a:rPr b="0" i="1" lang="hu-HU" sz="2400" spc="-1" strike="noStrike" u="sng">
                <a:solidFill>
                  <a:srgbClr val="3333cc"/>
                </a:solidFill>
                <a:uFillTx/>
                <a:latin typeface="Calibri"/>
              </a:rPr>
              <a:t>lebonyolítási rendelet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1800" spc="-1" strike="noStrike">
                <a:solidFill>
                  <a:srgbClr val="009999"/>
                </a:solidFill>
                <a:latin typeface="Calibri"/>
              </a:rPr>
              <a:t>160/2009. (VIII.3.) Korm. rendelet IV. fejezet: A hazai szintű lebonyolítás részletes szabályai – ezen belül: Hitelesítés (20-22. pont)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1800" spc="-1" strike="noStrike">
                <a:solidFill>
                  <a:srgbClr val="009999"/>
                </a:solidFill>
                <a:latin typeface="Calibri"/>
              </a:rPr>
              <a:t>20. §</a:t>
            </a:r>
            <a:r>
              <a:rPr b="0" i="1" lang="hu-HU" sz="1800" spc="-1" strike="noStrike">
                <a:solidFill>
                  <a:srgbClr val="009999"/>
                </a:solidFill>
                <a:latin typeface="Calibri"/>
              </a:rPr>
              <a:t> A programok keretében megítélt közösségi támogatások és a hazai társfinanszírozás felhasználásának hitelesítése </a:t>
            </a:r>
            <a:r>
              <a:rPr b="1" i="1" lang="hu-HU" sz="1800" spc="-1" strike="noStrike">
                <a:solidFill>
                  <a:srgbClr val="009999"/>
                </a:solidFill>
                <a:latin typeface="Calibri"/>
              </a:rPr>
              <a:t>a hitelesítési tevékenységre jogszabály által kijelölt szervezet feladata</a:t>
            </a:r>
            <a:r>
              <a:rPr b="0" i="1" lang="hu-HU" sz="1800" spc="-1" strike="noStrike">
                <a:solidFill>
                  <a:srgbClr val="009999"/>
                </a:solidFill>
                <a:latin typeface="Calibri"/>
              </a:rPr>
              <a:t>.</a:t>
            </a: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800" spc="-1" strike="noStrike">
                <a:solidFill>
                  <a:srgbClr val="009999"/>
                </a:solidFill>
                <a:latin typeface="Calibri"/>
              </a:rPr>
              <a:t>21. §</a:t>
            </a: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 (1) A hitelesítés részeként a hitelesítési tevékenységre kijelölt szervezetnek gondoskodnia kell </a:t>
            </a:r>
            <a:r>
              <a:rPr b="1" lang="hu-HU" sz="1800" spc="-1" strike="noStrike">
                <a:solidFill>
                  <a:srgbClr val="009999"/>
                </a:solidFill>
                <a:latin typeface="Calibri"/>
              </a:rPr>
              <a:t>a hazai partner által benyújtott valamennyi, a felmerült és a partner által kifizetett költséget alátámasztó dokumentum formai és tartalmi ellenőrzésének lefolytatásáról</a:t>
            </a: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(2) A dokumentum alapú ellenőrzés keretében különösen a következőket kell ellenőrizni: (a) – m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A hitelesítés részeként a hitelesítési tevékenységre kijelölt szervezet köteles gondoskodni a közbeszerzésekről szóló 2003. évi CXXIX. törvény (a továbbiakban: Kbt.) és a </a:t>
            </a:r>
            <a:r>
              <a:rPr b="1" lang="hu-HU" sz="1800" spc="-1" strike="noStrike">
                <a:solidFill>
                  <a:srgbClr val="009999"/>
                </a:solidFill>
                <a:latin typeface="Calibri"/>
              </a:rPr>
              <a:t>közbeszerzésekre vonatkozó</a:t>
            </a: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 közösségi rendelkezések </a:t>
            </a:r>
            <a:r>
              <a:rPr b="1" lang="hu-HU" sz="1800" spc="-1" strike="noStrike">
                <a:solidFill>
                  <a:srgbClr val="009999"/>
                </a:solidFill>
                <a:latin typeface="Calibri"/>
              </a:rPr>
              <a:t>előírásai teljesülésének ellenőrzésérő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(5) A hitelesítés részeként a hitelesítési tevékenységre kijelölt szervezetnek gondoskodnia kell a projektrészek megvalósításának</a:t>
            </a:r>
            <a:r>
              <a:rPr b="1" lang="hu-HU" sz="1800" spc="-1" strike="noStrike">
                <a:solidFill>
                  <a:srgbClr val="009999"/>
                </a:solidFill>
                <a:latin typeface="Calibri"/>
              </a:rPr>
              <a:t> helyszíni ellenőrzésérő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833400" y="25524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9999"/>
                </a:solidFill>
                <a:latin typeface="Calibri"/>
              </a:rPr>
              <a:t>Első szintű ellenőrzés – jogszabályi alap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544680" y="1336320"/>
            <a:ext cx="10153440" cy="5445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a) a hazai partner által benyújtott jelentésben szereplő 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költségek kifizetésre kerültek és számlákkal vagy egyéb, a gazdasági eseményt hitelesen dokumentáló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bizonylattal megfelelően alátámasztottak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b) a benyújtott számlák vagy egyéb, a gazdasági eseményt hitelesen dokumentáló bizonylatok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valós költségeken alapulnak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, és a programok keretében jóváhagyott projekt kapcsán merültek fel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c) a benyújtott számlán vagy egyéb, a gazdasági eseményt hitelesen dokumentáló bizonylaton szereplő teljesítés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összhangban van a pályázatra vonatkozó döntéssel és a támogatási szerződéssel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d)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a költségek elszámolhatók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 a programok keretében meghatározott elszámolhatósági szabályoknak megfelelően, a közösségi és hazai jogszabályokkal összhangban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e) a költségeket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alátámasztó dokumentumok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 teljes körűek, formai és tartalmi szempontból megfelelőek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f) a hazai partner az összes projekttevékenységre vonatkozóan megfelelő és megbízható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nyilvántartási rendszerrel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 rendelkezik, azaz a szükséges ellenőrzési nyomvonal létezik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g) az Alapokból származó támogatás, illetve a hazai társfinanszírozás felhasználása során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nem történt szabálytalanság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h)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kettős finanszírozás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 nem valósul meg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i) a benyújtott bizonylatok, dokumentumok alapján megállapítható, hogy az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állami támogatásokkal, a környezetvédelemmel, az esélyegyenlőséggel és a fenntartható fejlődéssel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 kapcsolatos követelményeket betartották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j) a benyújtott bizonylatok, dokumentumok alapján megállapítható, hogy a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nyilvánosságra és tájékoztatásra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 vonatkozó szabályokat betartották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k) a benyújtott bizonylatok, dokumentumok alapján megállapítható, hogy a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közbeszerzésekre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 vonatkozó közösségi és nemzeti szabályokat betartották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l) a projektek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támogatási szerződéseknek megfelelő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 fizikai és pénzügyi előrehaladását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m) a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teljesítés igazolását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.</a:t>
            </a:r>
            <a:r>
              <a:rPr b="1" lang="hu-H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833400" y="25524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900" spc="-1" strike="noStrike">
                <a:solidFill>
                  <a:srgbClr val="009999"/>
                </a:solidFill>
                <a:latin typeface="Calibri"/>
              </a:rPr>
              <a:t>Első szintű ellenőrzés – jogszabályi alapok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7T13:57:28Z</dcterms:created>
  <dc:creator>vati user</dc:creator>
  <dc:description/>
  <dc:language>en-US</dc:language>
  <cp:lastModifiedBy>SzucsJulia</cp:lastModifiedBy>
  <dcterms:modified xsi:type="dcterms:W3CDTF">2012-10-18T07:07:10Z</dcterms:modified>
  <cp:revision>190</cp:revision>
  <dc:subject/>
  <dc:title>1. dia</dc:title>
</cp:coreProperties>
</file>