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908-9717-47BB-A2B5-C49B1622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3BC-FE30-4D1F-AC5D-692E74ED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7F78-8CD3-4CE4-B36F-3D5BD207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6B63-1DEA-42CA-B6C8-D88349A7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962E-59E1-44C0-906C-A2FE9CC6C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1D5E-3C3B-47A2-8ED2-0C2B8215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11D0-8F4E-466D-9677-E70D8125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A018-6EED-4147-AACD-885736C0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5848-9F38-456B-8F23-157995A6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5057-9BE7-4DEE-B8DC-B51C31E6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6E57D-32DB-48AC-AC1A-B3A16B23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688F-F12A-4723-A5F0-0C75A510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8DF3-FA6A-4816-89D0-B20BE0A6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BD3C-D899-4280-B249-E0E1560C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7EE9-6B48-4959-8C08-8894DDF8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137F-A771-48B8-B5E7-BA259289D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B54D-E570-48E5-BA58-8CC03A10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54594-74A0-4ED3-AE62-BD96859B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A36AD-0435-48F8-9E88-81603DCC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D48F0-8CEE-4DAE-A380-7BC294C0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AA3BC-F5E5-42A5-8046-400B2315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3DA6E-6514-46D3-B531-30C293D6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E381-0F59-42BF-B1A2-86BC03D1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0C7D3-6C5A-4506-A558-B7EF0682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BEEAC-0B42-470A-8006-F73324B3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F6037-794F-4DF7-9151-D9B0BBCD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E93F7-9516-4EA3-BB4C-771F74E0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0D174-8F61-4994-818B-B7EA687F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40013-7695-4C72-AD7C-3A239A36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9E0BA-CE55-4B80-A684-8C9A7EE6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2E13-9CD8-4D17-9816-951A31F0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EF7-CB6F-45DF-A19B-08DCF0BF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786C-04B5-403B-868C-3752734C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2EDD-B148-4E64-999A-03437CC4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31B7-A4FF-4ABE-A135-03E8F1B4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D05-BD89-4A2C-A685-34F12073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513F-2CF6-4BD8-953A-85E171BA9CF5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5063-CBFB-4474-BF4D-832E8EC3CBC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B658-20B7-409E-B194-F0D16E5806F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08000" y="1557360"/>
            <a:ext cx="5328000" cy="2448000"/>
          </a:xfrm>
          <a:prstGeom prst="rect">
            <a:avLst/>
          </a:prstGeom>
        </p:spPr>
        <p:txBody>
          <a:bodyPr wrap="none" lIns="110160" rIns="110160" tIns="55080" bIns="55080" anchor="t" anchorCtr="1">
            <a:prstTxWarp prst="textPlain">
              <a:avLst>
                <a:gd name="adj" fmla="val 52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gram cezhraničnej spoluprác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ďarská republika- Slovenská republik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07-201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35400" y="4508640"/>
            <a:ext cx="6009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chválenie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. december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Identifikačné číslo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07CB163PO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1960" y="5495760"/>
            <a:ext cx="19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g. Zsolt Törö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Bratislava, 28.0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19700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bezpečená finančná alokácia za prísne definovaných podmien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dborné pozadie, transfer know-how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Ne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, posilnenie nových/existujúcich partnerstie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/posilnenie komunikácie na úrovni vertikálnej a horizontál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ácia „zdola“ (bottom-up) vychádzajúcich rozvojových zámer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silnenie konkurencieschopnosti regiónov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35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nos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2200" y="981000"/>
          <a:ext cx="8353440" cy="5106960"/>
        </p:xfrm>
        <a:graphic>
          <a:graphicData uri="http://schemas.openxmlformats.org/drawingml/2006/table">
            <a:tbl>
              <a:tblPr/>
              <a:tblGrid>
                <a:gridCol w="2089080"/>
                <a:gridCol w="2089440"/>
                <a:gridCol w="2085840"/>
                <a:gridCol w="2089080"/>
              </a:tblGrid>
              <a:tr h="10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re CBC (Cross-border Co-operation) 2001-2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nd mal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susedstva HUSKUA 2004-20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cezhraničnej spolupráce HUSK 2007-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čná aloká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372 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372 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8 522 875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5 548 000 EU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014 05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y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Zrkadlový, - Doplňujú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exemplár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7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5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2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odporen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 program (HU0109): 9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program (2002/000-604): 11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akávania progra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zhraničný dop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valá udržateľ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vnosť šanc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kritéri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íp vedúceho partn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7094160" y="32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volúcia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11970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..... prebieha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3.výzv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na prekladanie projektov,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do 28.02.2011, 23.59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5280" y="3510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mentáln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5394" t="21474" r="13619" b="28986"/>
          <a:stretch/>
        </p:blipFill>
        <p:spPr>
          <a:xfrm>
            <a:off x="539640" y="1844640"/>
            <a:ext cx="7704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56360" y="3510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merujem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552680"/>
            <a:ext cx="88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..... k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.výzv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na prekladanie projekt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ý termín zverejnen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2.štvrťrok 2011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á alokác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cca.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8 M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lasti podpory: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 ?, predmetom rokovania S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1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45 009 737,12 EUR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246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6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2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64 635 978,32 EUR, (270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7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edp. finančná alokácia 3. výzvy (EUR)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10 500 000,00 (?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 rot="10800000">
            <a:off x="5586480" y="1051560"/>
            <a:ext cx="32400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ioritné osy a oblast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565360"/>
            <a:ext cx="399924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1 </a:t>
            </a:r>
            <a:br>
              <a:rPr sz="1700"/>
            </a:b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Hospodárstvo a spoločnosť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41% (85 133 59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ŽP, ochrana prírody a dostupnos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53% (110 050 746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echnická asist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6% (12 458 57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16000" y="1773360"/>
            <a:ext cx="647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-27000"/>
            <a:ext cx="4629240" cy="6867360"/>
            <a:chOff x="0" y="-27000"/>
            <a:chExt cx="4629240" cy="6867360"/>
          </a:xfrm>
        </p:grpSpPr>
        <p:sp>
          <p:nvSpPr>
            <p:cNvPr id="139" name=""/>
            <p:cNvSpPr/>
            <p:nvPr/>
          </p:nvSpPr>
          <p:spPr>
            <a:xfrm>
              <a:off x="0" y="-27000"/>
              <a:ext cx="4629240" cy="6867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7680" y="161280"/>
              <a:ext cx="2296440" cy="7221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ogram cezhraničnej spoluprá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Maďarsko -Slovens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2007 -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4440" y="864360"/>
              <a:ext cx="0" cy="54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6480" y="1026720"/>
              <a:ext cx="16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8824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8888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480" y="1135080"/>
              <a:ext cx="156744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Hospodárstvo a spoloč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1832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680" y="1730160"/>
              <a:ext cx="0" cy="42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440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210200" y="1730160"/>
              <a:ext cx="11520" cy="362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8480" y="1135080"/>
              <a:ext cx="156780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ŽP,</a:t>
              </a: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chrana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 dostup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4480" y="189252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upráce     v oblasti hospodárstva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480" y="254124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upráca v oblasti V&amp;V a inováci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8480" y="189252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             na podporu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8480" y="27579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680" y="2216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8680" y="28652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4400" y="2270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7000" y="6326280"/>
              <a:ext cx="2236320" cy="3776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Technická asist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480" y="319068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očného rozvoja turizm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4480" y="3785760"/>
              <a:ext cx="1555920" cy="64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ý rozvoj a koordinované využívanie zdravotníckych zariaden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480" y="4542480"/>
              <a:ext cx="1555920" cy="48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Rozvoj sieťovania,partnerstva,  prog. &amp; proj. kapacít manažm.</a:t>
              </a: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480" y="513756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využívanie a rozvoj ľudských zdroj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480" y="5786280"/>
              <a:ext cx="1555920" cy="38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ktivity Ľudia ľuď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8680" y="3459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680" y="41637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680" y="47588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8680" y="52999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680" y="60022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8480" y="340668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Výstavba maloplošných komunikácií, cyklistických trás, verejná doprav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8480" y="4272120"/>
              <a:ext cx="1549440" cy="708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abezpečenie lepších hraničných prechodov cez prihraničné rie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8480" y="51375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lepšenie komunikačných kanál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64400" y="3135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400" y="383940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4400" y="45424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0" y="53535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Szöveg helye 2"/>
          <p:cNvGraphicFramePr/>
          <p:nvPr/>
        </p:nvGraphicFramePr>
        <p:xfrm>
          <a:off x="2211480" y="115920"/>
          <a:ext cx="4592520" cy="61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7" name="Szöveg hely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1480" y="115920"/>
                    <a:ext cx="45925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42920" y="1989000"/>
            <a:ext cx="889308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76500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vostupňová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artner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MPaRV 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72000" y="1125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328464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ruhostupňová 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rojek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STS Progra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0+30 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372000" y="3789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360" y="1076400"/>
            <a:ext cx="150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ždý part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 s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440" y="3387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edúci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1484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364500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56360" y="351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kúsenosti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268280"/>
            <a:ext cx="8856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MIS (podávanie ŽoNFP, monitorovacia správa na úrovni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ľúbené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menej obľúbené oblasti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pružné/nasilu vytvorené partnerstvá (počet partnerov, hodnotenie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implementá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ostatočná komunikácia (vertikálna, horizontál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sotatočné finančné zázemie (finančná kríz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únosné množstvo žiadostí o zmenu projektu (realokácia financií, zmena manažérov, predĺženie projektu,.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dstúpenie od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+3/2 parv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ízka kvalita predložených monitorovacích s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adhotnotené indiká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ublicity guide (striktné predpisy),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84464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 a v mene 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ám prajem veľa úspech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implementáci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abúdajte: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ak máte pochybnos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pýtajte sa!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y sme tu pre Vás a Vy ste tu pre nás </a:t>
            </a:r>
            <a:r>
              <a:rPr b="0" lang="sk-SK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9:42:45Z</dcterms:created>
  <dc:creator>thomas</dc:creator>
  <dc:description/>
  <dc:language>en-US</dc:language>
  <cp:lastModifiedBy>TorokZsolt</cp:lastModifiedBy>
  <dcterms:modified xsi:type="dcterms:W3CDTF">2011-02-25T11:03:08Z</dcterms:modified>
  <cp:revision>39</cp:revision>
  <dc:subject/>
  <dc:title>1. dia</dc:title>
</cp:coreProperties>
</file>