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EE7F-0785-41DF-B804-E3335404B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7F48-7FD5-41A6-AC29-16DF62512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3774-48A5-4CE6-BCD2-2A289551C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AEDA-EC84-4C3E-B03E-0C938324D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E6F43-F7E2-444C-939B-804B3DCC8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74BDF-84AD-4A69-9D7B-BD1BFF399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8BC63-987C-438C-A82B-57F303A67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8DE7B-A395-4244-9ED9-816F61DF7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26BE4-ABB2-4F2E-ABD4-97C1F2C69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EEA86-AC2F-44DD-92DF-6B48DFAA6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4E37A-02B5-43FD-8BE8-4EDF6B74E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91DE-697C-4E3F-8BB3-8287A789A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F88A1-BDBF-4483-8454-0ACDA512F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91D14-ECF1-42FF-8277-A446E953D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F73A9-133E-411F-96AD-40A616B63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75F11-98B4-48A4-971B-0AD9E4AA4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819E9-A5CC-4523-AB96-99E09770A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26393C-0B40-4254-B9DE-927970316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A71F11-1C57-44FF-859A-24FAE570F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009363-EC14-4499-BDC8-CBB8448B6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2045B6-7FD5-433C-B8C6-29EC243E9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60476D-F27B-4BDF-AF72-036717E04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AF82-64B1-4887-BB9D-CE808363D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B7C77B-E2FF-4975-AF25-E112ACE44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FFA4CB-A737-4944-8D46-A93C23CAB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94FEC1-94BB-43F4-B0EE-328C6AEC1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246CB9-ADC4-4700-8882-1E76AA91F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C821E9-B2A7-4FF6-B6D7-0CA183D58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14C135-4B76-4CAB-BA7D-9AFD130D2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854C37-75A4-4285-896A-9B1A27E59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C0E0-5AC6-4EB4-8ADB-6B7B9D87B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1EBB-E1DF-4356-8FA4-30805DADE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3C92-EF45-4F4C-BAD4-67D58A654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02E1-5846-4E71-BED1-7457F2F44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D394-21C5-47B7-828B-6FBA2E0CC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756D-1F64-47DD-AE89-C9379B23F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76E4E-2505-4A24-BF99-375F082BBD45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A732C-2254-45F6-9300-03960112A04F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076D2-756E-4C2F-917F-D952B1DF6433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ppt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1908000" y="1557360"/>
            <a:ext cx="5328000" cy="2448000"/>
          </a:xfrm>
          <a:prstGeom prst="rect">
            <a:avLst/>
          </a:prstGeom>
        </p:spPr>
        <p:txBody>
          <a:bodyPr wrap="none" lIns="110160" rIns="110160" tIns="55080" bIns="55080" anchor="t" anchorCtr="1">
            <a:prstTxWarp prst="textPlain">
              <a:avLst>
                <a:gd name="adj" fmla="val 5228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cc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Program cezhraničnej spolupráce 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cc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cc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Maďarská republika- Slovenská republika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cc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cc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cc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007-2013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cc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4" name=""/>
          <p:cNvSpPr/>
          <p:nvPr/>
        </p:nvSpPr>
        <p:spPr>
          <a:xfrm>
            <a:off x="1535400" y="4508640"/>
            <a:ext cx="600984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0520" rIns="110520" tIns="55080" bIns="55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Schválenie: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20. december 2007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– Identifikačné číslo: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2007CB163PO06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131960" y="5495760"/>
            <a:ext cx="1959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Ing. Zsolt Török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Bratislava, 28.02.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79280" y="1197000"/>
            <a:ext cx="86425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 u="sng">
                <a:solidFill>
                  <a:srgbClr val="000000"/>
                </a:solidFill>
                <a:uFillTx/>
                <a:latin typeface="Calibri"/>
              </a:rPr>
              <a:t>Priamy prín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Zabezpečená finančná alokácia za prísne definovaných podmienok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Odborné pozadie, transfer know-how, 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 u="sng">
                <a:solidFill>
                  <a:srgbClr val="000000"/>
                </a:solidFill>
                <a:uFillTx/>
                <a:latin typeface="Calibri"/>
              </a:rPr>
              <a:t>Nepriamy prín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vytvorenie, posilnenie nových/existujúcich partnerstiev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vytvorenie/posilnenie komunikácie na úrovni vertikálnej a horizontálnej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realizácia „zdola“ (bottom-up) vychádzajúcich rozvojových zámerov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posilnenie konkurencieschopnosti regiónov, 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157800" y="351000"/>
            <a:ext cx="26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Prínos Progra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"/>
          <p:cNvGraphicFramePr/>
          <p:nvPr/>
        </p:nvGraphicFramePr>
        <p:xfrm>
          <a:off x="322200" y="981000"/>
          <a:ext cx="8353440" cy="5106960"/>
        </p:xfrm>
        <a:graphic>
          <a:graphicData uri="http://schemas.openxmlformats.org/drawingml/2006/table">
            <a:tbl>
              <a:tblPr/>
              <a:tblGrid>
                <a:gridCol w="2089080"/>
                <a:gridCol w="2089440"/>
                <a:gridCol w="2085840"/>
                <a:gridCol w="2089080"/>
              </a:tblGrid>
              <a:tr h="1073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hare CBC (Cross-border Co-operation) 2001-200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Fond malých projektov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gram susedstva HUSKUA 2004-2006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 </a:t>
                      </a:r>
                      <a:r>
                        <a:rPr b="1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 výzv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gram cezhraničnej spolupráce HUSK 2007-20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– </a:t>
                      </a:r>
                      <a:r>
                        <a:rPr b="1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 výzv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nančná alokáci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U: 372 000 EU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K: 372 000 EU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U: 8 522 875 EU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K: 5 548 000 EUR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1 014 050 EU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ypy projektov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dividuáln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oločný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Zrkadlový, - Doplňujúci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Individuáln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oločný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čet exemplárov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originál+ 7 kópií + elektronický nosi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originál+ 5 kópií + elektronický nosi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originál+ 2 kópií + elektronický nosi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čet podporených projektov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1 program (HU0109): 9 k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2 program (2002/000-604): 11 k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7 k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6 k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9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čakávania programu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ezhraničný dopad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Cezhraničný dopad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ospodárnosť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Cezhraničný dopad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ospodárnosť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Trvalá udržateľnosť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ovnosť šancí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sk-SK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 kritériá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sk-SK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cíp vedúceho partner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" name=""/>
          <p:cNvSpPr/>
          <p:nvPr/>
        </p:nvSpPr>
        <p:spPr>
          <a:xfrm>
            <a:off x="7094160" y="324000"/>
            <a:ext cx="172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Evolúcia?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79280" y="1197000"/>
            <a:ext cx="88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..... prebieha </a:t>
            </a:r>
            <a:r>
              <a:rPr b="0" lang="sk-SK" sz="2400" spc="-1" strike="noStrike">
                <a:solidFill>
                  <a:srgbClr val="ff3300"/>
                </a:solidFill>
                <a:latin typeface="Calibri"/>
              </a:rPr>
              <a:t>3.výzva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 na prekladanie projektov, </a:t>
            </a:r>
            <a:r>
              <a:rPr b="0" lang="sk-SK" sz="2400" spc="-1" strike="noStrike">
                <a:solidFill>
                  <a:srgbClr val="ff3300"/>
                </a:solidFill>
                <a:latin typeface="Calibri"/>
              </a:rPr>
              <a:t>do 28.02.2011, 23.59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155280" y="351000"/>
            <a:ext cx="230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Momentálne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rcRect l="15394" t="21474" r="13619" b="28986"/>
          <a:stretch/>
        </p:blipFill>
        <p:spPr>
          <a:xfrm>
            <a:off x="539640" y="1844640"/>
            <a:ext cx="7704360" cy="43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6156360" y="351000"/>
            <a:ext cx="21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Smerujeme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79280" y="1552680"/>
            <a:ext cx="88567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..... k </a:t>
            </a:r>
            <a:r>
              <a:rPr b="0" lang="sk-SK" sz="2200" spc="-1" strike="noStrike">
                <a:solidFill>
                  <a:srgbClr val="ff3300"/>
                </a:solidFill>
                <a:latin typeface="Arial"/>
              </a:rPr>
              <a:t>4.výzve</a:t>
            </a: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 na prekladanie projektov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Predpokladaný termín zverejnenia: </a:t>
            </a:r>
            <a:r>
              <a:rPr b="0" lang="sk-SK" sz="2200" spc="-1" strike="noStrike">
                <a:solidFill>
                  <a:srgbClr val="ff3300"/>
                </a:solidFill>
                <a:latin typeface="Arial"/>
              </a:rPr>
              <a:t>2.štvrťrok 2011</a:t>
            </a: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Predpokladaná alokácia: </a:t>
            </a:r>
            <a:r>
              <a:rPr b="0" lang="sk-SK" sz="2200" spc="-1" strike="noStrike">
                <a:solidFill>
                  <a:srgbClr val="ff3300"/>
                </a:solidFill>
                <a:latin typeface="Arial"/>
              </a:rPr>
              <a:t>cca.</a:t>
            </a: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200" spc="-1" strike="noStrike">
                <a:solidFill>
                  <a:srgbClr val="ff3300"/>
                </a:solidFill>
                <a:latin typeface="Arial"/>
              </a:rPr>
              <a:t>48 MEU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Oblasti podpory:</a:t>
            </a:r>
            <a:r>
              <a:rPr b="0" lang="sk-SK" sz="2200" spc="-1" strike="noStrike">
                <a:solidFill>
                  <a:srgbClr val="ff3300"/>
                </a:solidFill>
                <a:latin typeface="Arial"/>
              </a:rPr>
              <a:t> ?, predmetom rokovania SMV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Finančná alokácia 1. výzvy:</a:t>
            </a:r>
            <a:r>
              <a:rPr b="1" lang="hu-H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45 009 737,12 EUR,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(246/</a:t>
            </a:r>
            <a:r>
              <a:rPr b="0" lang="hu-HU" sz="2200" spc="-1" strike="noStrike">
                <a:solidFill>
                  <a:srgbClr val="ff3300"/>
                </a:solidFill>
                <a:latin typeface="Arial"/>
              </a:rPr>
              <a:t>106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 projektov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Finančná alokácia 2. výzvy:</a:t>
            </a:r>
            <a:r>
              <a:rPr b="1" lang="hu-H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64 635 978,32 EUR, (270/</a:t>
            </a:r>
            <a:r>
              <a:rPr b="0" lang="hu-HU" sz="2200" spc="-1" strike="noStrike">
                <a:solidFill>
                  <a:srgbClr val="ff3300"/>
                </a:solidFill>
                <a:latin typeface="Arial"/>
              </a:rPr>
              <a:t>107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 projektov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Predp. finančná alokácia 3. výzvy (EUR):</a:t>
            </a:r>
            <a:r>
              <a:rPr b="1" lang="hu-HU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10 500 000,00 (?/</a:t>
            </a:r>
            <a:r>
              <a:rPr b="0" lang="hu-HU" sz="2200" spc="-1" strike="noStrike">
                <a:solidFill>
                  <a:srgbClr val="ff3300"/>
                </a:solidFill>
                <a:latin typeface="Arial"/>
              </a:rPr>
              <a:t>?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 flipV="1" rot="10800000">
            <a:off x="5586480" y="1051560"/>
            <a:ext cx="3240000" cy="8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 u="sng">
                <a:solidFill>
                  <a:srgbClr val="000000"/>
                </a:solidFill>
                <a:uFillTx/>
                <a:latin typeface="Arial"/>
              </a:rPr>
              <a:t>Prioritné osy a oblasti podp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003640" y="2565360"/>
            <a:ext cx="3999240" cy="348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PRIORIT</a:t>
            </a:r>
            <a:r>
              <a:rPr b="1" lang="sk-SK" sz="17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1" lang="sk-SK" sz="1700" spc="-1" strike="noStrike">
                <a:solidFill>
                  <a:srgbClr val="000000"/>
                </a:solidFill>
                <a:latin typeface="Arial"/>
              </a:rPr>
              <a:t> O</a:t>
            </a: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1" lang="sk-SK" sz="1700" spc="-1" strike="noStrike">
                <a:solidFill>
                  <a:srgbClr val="000000"/>
                </a:solidFill>
                <a:latin typeface="Arial"/>
              </a:rPr>
              <a:t>1 </a:t>
            </a:r>
            <a:br>
              <a:rPr sz="1700"/>
            </a:br>
            <a:r>
              <a:rPr b="1" lang="sk-SK" sz="1700" spc="-1" strike="noStrike">
                <a:solidFill>
                  <a:srgbClr val="000000"/>
                </a:solidFill>
                <a:latin typeface="Arial"/>
              </a:rPr>
              <a:t>Hospodárstvo a spoločnosť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7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sk-SK" sz="1700" spc="-1" strike="noStrike">
                <a:solidFill>
                  <a:srgbClr val="ff3300"/>
                </a:solidFill>
                <a:latin typeface="Arial"/>
              </a:rPr>
              <a:t>41% (85 133 595 EUR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PRIORIT</a:t>
            </a:r>
            <a:r>
              <a:rPr b="1" lang="sk-SK" sz="17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1" lang="sk-SK" sz="1700" spc="-1" strike="noStrike">
                <a:solidFill>
                  <a:srgbClr val="000000"/>
                </a:solidFill>
                <a:latin typeface="Arial"/>
              </a:rPr>
              <a:t> O</a:t>
            </a: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1" lang="sk-SK" sz="1700" spc="-1" strike="noStrike">
                <a:solidFill>
                  <a:srgbClr val="000000"/>
                </a:solidFill>
                <a:latin typeface="Arial"/>
              </a:rPr>
              <a:t>2</a:t>
            </a:r>
            <a:br>
              <a:rPr sz="1700"/>
            </a:br>
            <a:r>
              <a:rPr b="1" lang="pl-PL" sz="1700" spc="-1" strike="noStrike">
                <a:solidFill>
                  <a:srgbClr val="000000"/>
                </a:solidFill>
                <a:latin typeface="Arial"/>
              </a:rPr>
              <a:t>ŽP, ochrana prírody a dostupnosť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700" spc="-1" strike="noStrike">
                <a:solidFill>
                  <a:srgbClr val="ff3300"/>
                </a:solidFill>
                <a:latin typeface="Arial"/>
              </a:rPr>
              <a:t>53% (110 050 746 EUR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PRIORIT</a:t>
            </a:r>
            <a:r>
              <a:rPr b="1" lang="sk-SK" sz="17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1" lang="sk-SK" sz="1700" spc="-1" strike="noStrike">
                <a:solidFill>
                  <a:srgbClr val="000000"/>
                </a:solidFill>
                <a:latin typeface="Arial"/>
              </a:rPr>
              <a:t> O</a:t>
            </a: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1" lang="sk-SK" sz="1700" spc="-1" strike="noStrike">
                <a:solidFill>
                  <a:srgbClr val="000000"/>
                </a:solidFill>
                <a:latin typeface="Arial"/>
              </a:rPr>
              <a:t>3</a:t>
            </a:r>
            <a:br>
              <a:rPr sz="1700"/>
            </a:br>
            <a:r>
              <a:rPr b="1" lang="hu-HU" sz="1700" spc="-1" strike="noStrike">
                <a:solidFill>
                  <a:srgbClr val="000000"/>
                </a:solidFill>
                <a:latin typeface="Arial"/>
              </a:rPr>
              <a:t>Technická asistenci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700" spc="-1" strike="noStrike">
                <a:solidFill>
                  <a:srgbClr val="ff3300"/>
                </a:solidFill>
                <a:latin typeface="Arial"/>
              </a:rPr>
              <a:t>6% (12 458 575 EUR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4716000" y="1773360"/>
            <a:ext cx="647640" cy="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0160" rIns="110160" tIns="-55080" bIns="-55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0" y="-27000"/>
            <a:ext cx="4629240" cy="6867360"/>
            <a:chOff x="0" y="-27000"/>
            <a:chExt cx="4629240" cy="6867360"/>
          </a:xfrm>
        </p:grpSpPr>
        <p:sp>
          <p:nvSpPr>
            <p:cNvPr id="139" name=""/>
            <p:cNvSpPr/>
            <p:nvPr/>
          </p:nvSpPr>
          <p:spPr>
            <a:xfrm>
              <a:off x="0" y="-27000"/>
              <a:ext cx="4629240" cy="68673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147680" y="161280"/>
              <a:ext cx="2296440" cy="72216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Program cezhraničnej spoluprác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Maďarsko -Slovensk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2007 - 201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314440" y="864360"/>
              <a:ext cx="0" cy="5461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536480" y="1026720"/>
              <a:ext cx="167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1488240" y="1026720"/>
              <a:ext cx="48240" cy="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188880" y="1026720"/>
              <a:ext cx="48240" cy="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64480" y="1135080"/>
              <a:ext cx="1567440" cy="64836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PRIORITNÁ OS 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Hospodárstvo a spoločnosť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418320" y="1730160"/>
              <a:ext cx="1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18680" y="1730160"/>
              <a:ext cx="0" cy="427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064400" y="1730160"/>
              <a:ext cx="1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4210200" y="1730160"/>
              <a:ext cx="11520" cy="362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508480" y="1135080"/>
              <a:ext cx="1567800" cy="64836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PRIORITNÁ OS 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ŽP,</a:t>
              </a: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 </a:t>
              </a:r>
              <a:r>
                <a:rPr b="0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ochrana prírod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a dostupnosť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64480" y="1892520"/>
              <a:ext cx="1555920" cy="548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Oblasť podpory 1.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Podpora spolupráce     v oblasti hospodárstva   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64480" y="2541240"/>
              <a:ext cx="1555920" cy="548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Oblasť podpory 1.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Spolupráca v oblasti V&amp;V a inovácií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08480" y="1892520"/>
              <a:ext cx="1549440" cy="70776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Oblasť podpory 2.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Spoločné aktivity              na podporu ochrany prírod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508480" y="2757960"/>
              <a:ext cx="1549440" cy="54828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Oblasť podpory 2.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Spoločné aktivity ochrany prírod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18680" y="2216520"/>
              <a:ext cx="1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18680" y="2865240"/>
              <a:ext cx="1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064400" y="2270520"/>
              <a:ext cx="1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197000" y="6326280"/>
              <a:ext cx="2236320" cy="37764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PRIORITNÁ OS 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Technická asistenci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64480" y="3190680"/>
              <a:ext cx="1555920" cy="548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Oblasť podpory 1.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Podpora spoločného rozvoja turizmu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64480" y="3785760"/>
              <a:ext cx="1555920" cy="640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Oblasť podpory 1.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Spoločný rozvoj a koordinované využívanie zdravotníckych zariadení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64480" y="4542480"/>
              <a:ext cx="1555920" cy="480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Oblasť podpory 1.5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Rozvoj sieťovania,partnerstva,  prog. &amp; proj. kapacít manažm.</a:t>
              </a:r>
              <a:r>
                <a:rPr b="0" lang="en-GB" sz="9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64480" y="5137560"/>
              <a:ext cx="1555920" cy="548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Oblasť podpory 1.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Spoločné využívanie a rozvoj ľudských zdrojov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64480" y="5786280"/>
              <a:ext cx="1555920" cy="388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Oblasť podpory 1.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Aktivity Ľudia ľuďo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18680" y="3459960"/>
              <a:ext cx="1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8680" y="4163760"/>
              <a:ext cx="1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18680" y="4758840"/>
              <a:ext cx="1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18680" y="5299920"/>
              <a:ext cx="1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18680" y="6002280"/>
              <a:ext cx="1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508480" y="3406680"/>
              <a:ext cx="1549440" cy="70776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Oblasť podpory 2.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Výstavba maloplošných komunikácií, cyklistických trás, verejná doprav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508480" y="4272120"/>
              <a:ext cx="1549440" cy="70812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Oblasť podpory 2.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Zabezpečenie lepších hraničných prechodov cez prihraničné riek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508480" y="5137560"/>
              <a:ext cx="1549440" cy="54828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Oblasť podpory 2.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Zlepšenie komunikačných kanálov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64400" y="3135960"/>
              <a:ext cx="1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64400" y="3839400"/>
              <a:ext cx="1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064400" y="4542480"/>
              <a:ext cx="1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064400" y="5353560"/>
              <a:ext cx="1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6" name="Szöveg helye 2"/>
          <p:cNvGraphicFramePr/>
          <p:nvPr/>
        </p:nvGraphicFramePr>
        <p:xfrm>
          <a:off x="2211480" y="115920"/>
          <a:ext cx="4592520" cy="612144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177" name="Szöveg helye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11480" y="115920"/>
                    <a:ext cx="4592520" cy="612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"/>
          <p:cNvSpPr/>
          <p:nvPr/>
        </p:nvSpPr>
        <p:spPr>
          <a:xfrm>
            <a:off x="142920" y="1989000"/>
            <a:ext cx="8893080" cy="0"/>
          </a:xfrm>
          <a:prstGeom prst="line">
            <a:avLst/>
          </a:prstGeom>
          <a:ln w="22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804000" y="765000"/>
            <a:ext cx="2160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rvostupňová kontrola </a:t>
            </a:r>
            <a:r>
              <a:rPr b="0" lang="sk-SK" sz="1600" spc="-1" strike="noStrike">
                <a:solidFill>
                  <a:srgbClr val="ff3300"/>
                </a:solidFill>
                <a:latin typeface="Arial"/>
              </a:rPr>
              <a:t>na úrovni partnera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(MPaRV S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6372000" y="1125360"/>
            <a:ext cx="4330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877080" y="3284640"/>
            <a:ext cx="2160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Druhostupňová  kontrola </a:t>
            </a:r>
            <a:r>
              <a:rPr b="0" lang="sk-SK" sz="1600" spc="-1" strike="noStrike">
                <a:solidFill>
                  <a:srgbClr val="ff3300"/>
                </a:solidFill>
                <a:latin typeface="Arial"/>
              </a:rPr>
              <a:t>na úrovni projekt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(STS Programu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30+30 dn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6372000" y="3789360"/>
            <a:ext cx="4330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90360" y="1076400"/>
            <a:ext cx="1500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 u="sng">
                <a:solidFill>
                  <a:srgbClr val="000000"/>
                </a:solidFill>
                <a:uFillTx/>
                <a:latin typeface="Arial"/>
              </a:rPr>
              <a:t>Zodpovedný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Každý partn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za seb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81440" y="3387600"/>
            <a:ext cx="1500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 u="sng">
                <a:solidFill>
                  <a:srgbClr val="000000"/>
                </a:solidFill>
                <a:uFillTx/>
                <a:latin typeface="Arial"/>
              </a:rPr>
              <a:t>Zodpovedný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Vedúci partn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763640" y="1484280"/>
            <a:ext cx="6476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763640" y="3645000"/>
            <a:ext cx="6476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6156360" y="35100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Skúsenosti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79280" y="1268280"/>
            <a:ext cx="885672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MIS (podávanie ŽoNFP, monitorovacia správa na úrovni projekt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Obľúbené </a:t>
            </a:r>
            <a:r>
              <a:rPr b="0" lang="sk-SK" sz="2200" spc="-1" strike="noStrike">
                <a:solidFill>
                  <a:srgbClr val="ff3300"/>
                </a:solidFill>
                <a:latin typeface="Arial"/>
              </a:rPr>
              <a:t>versus</a:t>
            </a: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 menej obľúbené oblasti podp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Nepružné/nasilu vytvorené partnerstvá (počet partnerov, hodnotenie </a:t>
            </a:r>
            <a:r>
              <a:rPr b="0" lang="sk-SK" sz="2200" spc="-1" strike="noStrike">
                <a:solidFill>
                  <a:srgbClr val="ff3300"/>
                </a:solidFill>
                <a:latin typeface="Arial"/>
              </a:rPr>
              <a:t>versus</a:t>
            </a: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 implementáci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Nedostatočná komunikácia (vertikálna, horizontáln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Nedsotatočné finančné zázemie (finančná kríz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Neúnosné množstvo žiadostí o zmenu projektu (realokácia financií, zmena manažérov, predĺženie projektu,...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Odstúpenie od projekt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N+3/2 parvidl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Nízka kvalita predložených monitorovacích správ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Nadhotnotené indikát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Publicity guide (striktné predpisy),..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179280" y="1844640"/>
            <a:ext cx="8856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Ďakujem za pozornosť a v mene S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ám prajem veľa úspechov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i implementácii projekt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Nezabúdajte: </a:t>
            </a:r>
            <a:r>
              <a:rPr b="0" lang="sk-SK" sz="2400" spc="-1" strike="noStrike">
                <a:solidFill>
                  <a:srgbClr val="ff3300"/>
                </a:solidFill>
                <a:latin typeface="Arial"/>
              </a:rPr>
              <a:t>ak máte pochybnosti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ff3300"/>
                </a:solidFill>
                <a:latin typeface="Arial"/>
              </a:rPr>
              <a:t>pýtajte sa!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My sme tu pre Vás a Vy ste tu pre nás </a:t>
            </a:r>
            <a:r>
              <a:rPr b="0" lang="sk-SK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6T09:42:45Z</dcterms:created>
  <dc:creator>thomas</dc:creator>
  <dc:description/>
  <dc:language>en-US</dc:language>
  <cp:lastModifiedBy>TorokZsolt</cp:lastModifiedBy>
  <dcterms:modified xsi:type="dcterms:W3CDTF">2011-02-25T11:03:08Z</dcterms:modified>
  <cp:revision>39</cp:revision>
  <dc:subject/>
  <dc:title>1. dia</dc:title>
</cp:coreProperties>
</file>