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DE93-2753-4C40-A65A-5FE5B70F866D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Dia számának hely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CDE5-A386-4C87-8255-F34993208E77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9B74-BDD5-4E4E-9056-FC9327C1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67C4-A0C4-42EE-8F9C-82787BC1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F147-62BB-4CEA-98E0-B61F7D96C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6401-F88A-456D-A205-F4AD8AD1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2603-BC53-4D97-ACAF-7C0ED320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4FBA-FD6F-4FB4-9069-18D25F14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35F6-AB13-4C78-AB42-89197E1C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B9C4-6AE6-4DB5-904B-2360068C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75E2-9BBF-40E6-BA47-AF8022AB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B46A-76C2-431D-8EE1-C3C15B22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AEE3-1987-49D8-B5E4-F0B10183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84EA-3136-468F-A0D6-E4832B43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4ED3-433A-48BA-A583-95B74D1DCD7C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545080" y="5013000"/>
            <a:ext cx="3635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od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Banská Bys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. 04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071800" y="5000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 cezhraničnej spolupráce Maďarsko-Sloven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Rectangle 15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6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7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Cím 1"/>
          <p:cNvSpPr/>
          <p:nvPr/>
        </p:nvSpPr>
        <p:spPr>
          <a:xfrm>
            <a:off x="714240" y="2459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MIS 2007-201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ystém na predkladani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Szövegdoboz 6"/>
          <p:cNvSpPr/>
          <p:nvPr/>
        </p:nvSpPr>
        <p:spPr>
          <a:xfrm>
            <a:off x="71280" y="32400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5429160" y="135720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hlad do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dať nov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TYP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Vybrať typ partnera (Vedúci partner, Záhraničný partner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mena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998640" y="257184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8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églalap 6"/>
          <p:cNvSpPr/>
          <p:nvPr/>
        </p:nvSpPr>
        <p:spPr>
          <a:xfrm>
            <a:off x="214200" y="97632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zvolení typu partnera sa objaví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ARTNERSHIP (PARTNERSTVO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toré má tri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dentifikácia (Identification) | Predstavitelia (Representatives) | Obchodné údaje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zövegdoboz 7"/>
          <p:cNvSpPr/>
          <p:nvPr/>
        </p:nvSpPr>
        <p:spPr>
          <a:xfrm>
            <a:off x="142920" y="142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ntification - Identif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6357960" y="1746360"/>
            <a:ext cx="2571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Typ, názov, adresa, dič, konta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  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rávna forma (verejný subjekt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rgán štátnej správy</a:t>
            </a: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úkromn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dresa pobočky(či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42920" y="1571760"/>
            <a:ext cx="607212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2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Szövegdoboz 5"/>
          <p:cNvSpPr/>
          <p:nvPr/>
        </p:nvSpPr>
        <p:spPr>
          <a:xfrm>
            <a:off x="142920" y="18108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 Representatives - Predstavit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zövegdoboz 7"/>
          <p:cNvSpPr/>
          <p:nvPr/>
        </p:nvSpPr>
        <p:spPr>
          <a:xfrm>
            <a:off x="6572160" y="1103400"/>
            <a:ext cx="25005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 Kontaktná os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 Právný zástup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OUNDER ORGANISATION Zakladateľská organ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á sa to vypĺňať v prípade, ak je partner priamo riade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ou organizáciou, ako napríklad v prípade strednej školy, ktorá je riadená regiónom a 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3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Szövegdoboz 7"/>
          <p:cNvSpPr/>
          <p:nvPr/>
        </p:nvSpPr>
        <p:spPr>
          <a:xfrm>
            <a:off x="71280" y="71280"/>
            <a:ext cx="6000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Business Data – Obchodné úda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zövegdoboz 7"/>
          <p:cNvSpPr/>
          <p:nvPr/>
        </p:nvSpPr>
        <p:spPr>
          <a:xfrm>
            <a:off x="6000840" y="1071720"/>
            <a:ext cx="3000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/Kapa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informácie o predchádzajúcich skúsenostiach partnera s riadením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Názov projektu, rozpočet, typ účasti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Posledný uzavretý rozpočtový 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ťe obrat, náklady, výsled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– Mi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u všetky miesta, kde sa váš projekt alebo niektoré jeho časti budú realizov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čty v ba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ie účty v banke, ktoré sú pre realizáciu projektu relevant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87480" y="107172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Szövegdoboz 6"/>
          <p:cNvSpPr/>
          <p:nvPr/>
        </p:nvSpPr>
        <p:spPr>
          <a:xfrm>
            <a:off x="71280" y="339840"/>
            <a:ext cx="7429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ritériá pre spoluprá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zövegdoboz 7"/>
          <p:cNvSpPr/>
          <p:nvPr/>
        </p:nvSpPr>
        <p:spPr>
          <a:xfrm>
            <a:off x="5929200" y="1643040"/>
            <a:ext cx="30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si jedno z kritérií kliknutím na neho, potom si vyberte prvok z rozbaľovacieho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líčk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alue (Hodnot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 pravej strane, potom uveďte zdôvodnenie alebo vysvetl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šho výberu v políč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proces opakujte pre každé kritér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3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Szövegdoboz 6"/>
          <p:cNvSpPr/>
          <p:nvPr/>
        </p:nvSpPr>
        <p:spPr>
          <a:xfrm>
            <a:off x="71280" y="357120"/>
            <a:ext cx="70725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opis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zövegdoboz 7"/>
          <p:cNvSpPr/>
          <p:nvPr/>
        </p:nvSpPr>
        <p:spPr>
          <a:xfrm>
            <a:off x="5643720" y="1357200"/>
            <a:ext cx="3214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ROJECT DESCRIPTIONS (POPIS PROJEKTU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usíte podrobne slovne popísať každ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ému uvedenú na ľavej stra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vybraní si danej témy sa tento popis vkladá do políčok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odľa jednotliv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e povinné uviesť popis všetk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371920" cy="2233800"/>
          </a:xfrm>
          <a:prstGeom prst="rect">
            <a:avLst/>
          </a:prstGeom>
          <a:ln w="0">
            <a:noFill/>
          </a:ln>
        </p:spPr>
      </p:pic>
      <p:pic>
        <p:nvPicPr>
          <p:cNvPr id="153" name="Szövegdoboz 9" descr=""/>
          <p:cNvPicPr/>
          <p:nvPr/>
        </p:nvPicPr>
        <p:blipFill>
          <a:blip r:embed="rId4"/>
          <a:stretch/>
        </p:blipFill>
        <p:spPr>
          <a:xfrm>
            <a:off x="133200" y="3992400"/>
            <a:ext cx="88776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zövegdoboz 6"/>
          <p:cNvSpPr/>
          <p:nvPr/>
        </p:nvSpPr>
        <p:spPr>
          <a:xfrm>
            <a:off x="71280" y="142920"/>
            <a:ext cx="721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Ciele a ak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142920" y="242892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61" name="Szövegdoboz 9"/>
          <p:cNvSpPr/>
          <p:nvPr/>
        </p:nvSpPr>
        <p:spPr>
          <a:xfrm>
            <a:off x="5500800" y="1071720"/>
            <a:ext cx="3214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lánovaný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ových aktivít. Ohladne jednotlivých aktivít je potrebné zadať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odpoved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statní zapoje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izik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íslušné obdo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dhadované náklady na aktiv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Szövegdoboz 8"/>
          <p:cNvSpPr/>
          <p:nvPr/>
        </p:nvSpPr>
        <p:spPr>
          <a:xfrm>
            <a:off x="142920" y="142920"/>
            <a:ext cx="5286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zövegdoboz 9"/>
          <p:cNvSpPr/>
          <p:nvPr/>
        </p:nvSpPr>
        <p:spPr>
          <a:xfrm>
            <a:off x="6286680" y="785880"/>
            <a:ext cx="271440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orná ča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olná čas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ozpočet na úrovni partne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lavo: tabulka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pravo: 3 rozpočtové tabul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3 rozpočtové tabuľ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droj spolufinancovania vybra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drobná rozpočtová tabuľka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elkové náklady predpokladané za určité obdobia (pre vybraného partne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6075360" cy="3143160"/>
          </a:xfrm>
          <a:prstGeom prst="rect">
            <a:avLst/>
          </a:prstGeom>
          <a:ln w="0">
            <a:noFill/>
          </a:ln>
        </p:spPr>
      </p:pic>
      <p:sp>
        <p:nvSpPr>
          <p:cNvPr id="169" name="Téglalap 13"/>
          <p:cNvSpPr/>
          <p:nvPr/>
        </p:nvSpPr>
        <p:spPr>
          <a:xfrm>
            <a:off x="214200" y="4187880"/>
            <a:ext cx="600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partnera vľa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tailed partner budget table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odrobnú rozpočtovú tabuľku partnera) - Tu môžete zaznamenať plánované výdaje do rozpočtových položi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rozpočtovú položku - napr.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stovné a ubytovacie náklad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a následne kliknite na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1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Szövegdoboz 6"/>
          <p:cNvSpPr/>
          <p:nvPr/>
        </p:nvSpPr>
        <p:spPr>
          <a:xfrm>
            <a:off x="142920" y="214200"/>
            <a:ext cx="6715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estovné a ubytov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142920" y="143208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1071720" y="2932200"/>
            <a:ext cx="3071520" cy="2068560"/>
          </a:xfrm>
          <a:prstGeom prst="rect">
            <a:avLst/>
          </a:prstGeom>
          <a:ln w="0">
            <a:noFill/>
          </a:ln>
        </p:spPr>
      </p:pic>
      <p:sp>
        <p:nvSpPr>
          <p:cNvPr id="177" name="Téglalap 11"/>
          <p:cNvSpPr/>
          <p:nvPr/>
        </p:nvSpPr>
        <p:spPr>
          <a:xfrm>
            <a:off x="6215040" y="135720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tvorí sa nové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 podrobnejšími rozpočtovými položkami  (Cestovné, diéty, ubytovac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églalap 12"/>
          <p:cNvSpPr/>
          <p:nvPr/>
        </p:nvSpPr>
        <p:spPr>
          <a:xfrm>
            <a:off x="6286680" y="2357280"/>
            <a:ext cx="2714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podrobnejšiu rozpočtovú položku a opäť stlačte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bjaví sa ďalšie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de je nutné uviesť plánovanú sumu výdavkov a doplniť PODROBNÝ popis príslušného výdav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Descrip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zavrite okno tlačidlom 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Szövegdoboz 6"/>
          <p:cNvSpPr/>
          <p:nvPr/>
        </p:nvSpPr>
        <p:spPr>
          <a:xfrm>
            <a:off x="71280" y="208080"/>
            <a:ext cx="678672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Odhad celkových výdavkov za dané obdo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zövegdoboz 10"/>
          <p:cNvSpPr/>
          <p:nvPr/>
        </p:nvSpPr>
        <p:spPr>
          <a:xfrm>
            <a:off x="6286680" y="102564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odhad je požadovaný z dôvodu plánovania časového harmonogramu plat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 rozpočtu program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dané sumy sú indikatívne, ale v prípade závažnej odchýlky od plánovaného harmonogramu čerpania výdavkov by mohlo  dôjsť k zníženiu výšky príspevku z ER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i vyplňovaní tohto odhadu buďte realistickí. Tento program má dvojúrovňový proces  refundácie, pričom môže trvať až 4-5 mesiacov od predloženia zaplatených faktúr kontrolným úradom do vyplatenia príspev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108000" y="1071720"/>
            <a:ext cx="61070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6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Szövegdoboz 6"/>
          <p:cNvSpPr/>
          <p:nvPr/>
        </p:nvSpPr>
        <p:spPr>
          <a:xfrm>
            <a:off x="285840" y="357120"/>
            <a:ext cx="835812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kladné inform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užívateľský manuál pr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MIS 2007-2013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ájdete na našej webovej stránke medzi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okumenty na stiahnutie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 slovenskom jazy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systému je anglick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všetkého materiálu (výzva, príručky, manuáli atď.) je slovenská a maďarská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jazyk podania žiadosti je slovenský a maďarský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žiadosti v tretej výzve sa podávajú cez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MIS Aplikačný mod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 papieri treba poslať iba tie dokumenty ktoré musia byť podpísaný vedúcím partnerom (napr. Deklarácia vedúceho partnera, Prehlásenie o partnerstve, opatrenia na zabezpečenie princípu udržateľného rozvoja a 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žiadosť nemusí byť vytlačená a taktiež kópie príloh alebo podporných dokumentov, ktoré existujú v elektronickej forme sa môžu natiahnuť do tohto IMIS systému cez upload funkc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ístup k IMIS systému - </a:t>
            </a:r>
            <a:r>
              <a:rPr b="0" lang="sk-SK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Szövegdoboz 7"/>
          <p:cNvSpPr/>
          <p:nvPr/>
        </p:nvSpPr>
        <p:spPr>
          <a:xfrm>
            <a:off x="142920" y="28584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zövegdoboz 10"/>
          <p:cNvSpPr/>
          <p:nvPr/>
        </p:nvSpPr>
        <p:spPr>
          <a:xfrm>
            <a:off x="6286680" y="928800"/>
            <a:ext cx="271440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dikátori sú na meranie efektivitu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va typy indikáto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efinované program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še indikátory špecifické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Kliknutím na tlačidlo Modify (Upraviť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môžete nastaviť ich východziu hodnotu, môžete nastaviť ich cieľovú hodnotu, a môžete vybrať obdobie, za ktoré budú sledovan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94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Szövegdoboz 6"/>
          <p:cNvSpPr/>
          <p:nvPr/>
        </p:nvSpPr>
        <p:spPr>
          <a:xfrm>
            <a:off x="142920" y="142920"/>
            <a:ext cx="6643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Komunikačné prostriedk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3197160" cy="3214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3357720" y="3357720"/>
            <a:ext cx="5643360" cy="2533320"/>
          </a:xfrm>
          <a:prstGeom prst="rect">
            <a:avLst/>
          </a:prstGeom>
          <a:ln w="0">
            <a:noFill/>
          </a:ln>
        </p:spPr>
      </p:pic>
      <p:sp>
        <p:nvSpPr>
          <p:cNvPr id="200" name="Téglalap 10"/>
          <p:cNvSpPr/>
          <p:nvPr/>
        </p:nvSpPr>
        <p:spPr>
          <a:xfrm>
            <a:off x="4357800" y="125424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EANS OF COMMUNICATION TOOLS (Komunikačné prostriedk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áte dve úloh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rať z preddefinovaného zoznamu tie komunikačné prostriedky, ktoré plánujete v priebehu realizácie projektu použiť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písať akékoľvek iné komunikačné prostriedky, ktoré plánujete použiť v políčku Other tools (Iné nástroj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2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Szövegdoboz 6"/>
          <p:cNvSpPr/>
          <p:nvPr/>
        </p:nvSpPr>
        <p:spPr>
          <a:xfrm>
            <a:off x="142920" y="214200"/>
            <a:ext cx="6143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ERMITS - Povol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596592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Szövegdoboz 9"/>
          <p:cNvSpPr/>
          <p:nvPr/>
        </p:nvSpPr>
        <p:spPr>
          <a:xfrm>
            <a:off x="6215040" y="1687680"/>
            <a:ext cx="2714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ERMITS (POVOLENIA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ovolení, ktoré potrebujete na úspešnú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áciu projektu (ak je to relevantné pre váš projek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9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Szövegdoboz 6"/>
          <p:cNvSpPr/>
          <p:nvPr/>
        </p:nvSpPr>
        <p:spPr>
          <a:xfrm>
            <a:off x="214200" y="285840"/>
            <a:ext cx="8286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HECKLIST- Kontrolný zozn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zövegdoboz 7"/>
          <p:cNvSpPr/>
          <p:nvPr/>
        </p:nvSpPr>
        <p:spPr>
          <a:xfrm>
            <a:off x="4500720" y="1000080"/>
            <a:ext cx="421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HECK LIST (KONTROLNÝ ZOZNAM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kontrolný zoznam vo formáte tabuľk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ktorej sú otázky vyplnené automaticky a musíte zadať odpovede typu Yes/No (Áno/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škrtnutím políč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1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Szövegdoboz 6"/>
          <p:cNvSpPr/>
          <p:nvPr/>
        </p:nvSpPr>
        <p:spPr>
          <a:xfrm>
            <a:off x="142920" y="21420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ANNEXES –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zövegdoboz 10"/>
          <p:cNvSpPr/>
          <p:nvPr/>
        </p:nvSpPr>
        <p:spPr>
          <a:xfrm>
            <a:off x="6215040" y="857160"/>
            <a:ext cx="278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NNEXES (PRÍLOH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zoznam tých príloh, ktoré musia byť odovzdané spolu so žiadosť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idíte názov prílohy, a zároveň je možné vidieť, či je d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íloha povinná alebo nie, resp. akým spôsobom ju máte poslať (viac info v Príručke pre žiadateľ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2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Szövegdoboz 6"/>
          <p:cNvSpPr/>
          <p:nvPr/>
        </p:nvSpPr>
        <p:spPr>
          <a:xfrm>
            <a:off x="142920" y="428760"/>
            <a:ext cx="5000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TTACHMENTS – Záložka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zövegdoboz 7"/>
          <p:cNvSpPr/>
          <p:nvPr/>
        </p:nvSpPr>
        <p:spPr>
          <a:xfrm>
            <a:off x="5429160" y="1027080"/>
            <a:ext cx="35719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 (Nahra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ôžete priložiť potrebné doklady k žiadosti. Funguje a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hrávanie príloh do e-mail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 (Vygenerovať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ôžete nechať systém vygenerovať 4 dokumen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jektová žiadosť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laration on Partnershi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ehlásenie o partnerst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P Statement HU or LP Statement S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ehlásenie Vedúceho partnera) - podľa krajiny pôvodu hlav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okumenty systém automaticky uloží a budú zapísané v tabuľke. Vytvorený dokument sa dá stiahnuť zo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ttachments (Prílohy) kedykoľv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142920" y="1071720"/>
            <a:ext cx="51433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Szövegdoboz 6"/>
          <p:cNvSpPr/>
          <p:nvPr/>
        </p:nvSpPr>
        <p:spPr>
          <a:xfrm>
            <a:off x="1500120" y="35712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STUP predloženia žia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églalap 7"/>
          <p:cNvSpPr/>
          <p:nvPr/>
        </p:nvSpPr>
        <p:spPr>
          <a:xfrm>
            <a:off x="214200" y="1052640"/>
            <a:ext cx="87156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trácia a prihlásenie sa do systé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loženie požadovaných údaj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ontorla žiadosti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Dopĺňanie údajov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ustenie finálnej kontroly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výsledok Úspešná kontr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hranie dokument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Upload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K žiadosti môžete priložiť akékoľvek potrebné prílo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generovanie konečného dokument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adosti a príloh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loženie žiadosti na JTS elektronicky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Kontrola žiadosti 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skontrolovať chýbajúce 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Vygenerovanie dokumentov (Report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vygenerovať a prezrieť s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jekt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714680"/>
            <a:ext cx="777240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0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7" name="Rectangle 11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2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3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1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10"/>
          <p:cNvSpPr/>
          <p:nvPr/>
        </p:nvSpPr>
        <p:spPr>
          <a:xfrm>
            <a:off x="611280" y="405360"/>
            <a:ext cx="744516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1160" rIns="90000" tIns="228600" bIns="76320" anchor="ctr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in. technické požiadavky na PC pre 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ipojenie k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n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ačný systém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statné IT nást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Office 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jnovšia verzia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Môžete si ju stiahnuť tu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dobe Reader/Pdf rea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ternetový prehliadač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napr. Internet Explorer 6.0 alebo novšia verzia/ Mozilla Firefox 3.0 alebo novšia verzi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6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Szövegdoboz 8"/>
          <p:cNvSpPr/>
          <p:nvPr/>
        </p:nvSpPr>
        <p:spPr>
          <a:xfrm>
            <a:off x="214200" y="14292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ihlásenie sa do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214200" y="714240"/>
            <a:ext cx="460872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Szövegdoboz 10"/>
          <p:cNvSpPr/>
          <p:nvPr/>
        </p:nvSpPr>
        <p:spPr>
          <a:xfrm>
            <a:off x="214200" y="26100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gist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4"/>
          <a:srcRect l="31169" t="41029" r="31278" b="40959"/>
          <a:stretch/>
        </p:blipFill>
        <p:spPr>
          <a:xfrm>
            <a:off x="214200" y="321480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73" name="Szövegdoboz 7"/>
          <p:cNvSpPr/>
          <p:nvPr/>
        </p:nvSpPr>
        <p:spPr>
          <a:xfrm>
            <a:off x="4929120" y="722160"/>
            <a:ext cx="3929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 byť čokoľvek (napr. názov organizác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ystém po 5-10 min. vám pošle heslo ktoré je platné jednu ho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 prvom prihlásení musíťe zmeňiť he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ové heslo musí mať minimálne 8 znakov a malo by obsahovať malé, veľké písmená, a čísl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Szövegdoboz 7"/>
          <p:cNvSpPr/>
          <p:nvPr/>
        </p:nvSpPr>
        <p:spPr>
          <a:xfrm>
            <a:off x="142920" y="214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odná strá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zövegdoboz 8"/>
          <p:cNvSpPr/>
          <p:nvPr/>
        </p:nvSpPr>
        <p:spPr>
          <a:xfrm>
            <a:off x="5715000" y="247680"/>
            <a:ext cx="321480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 - Vytvoriť novú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Vždy si skontrolujte v menu v položke View Applications (Náhľad žiadosti), či ste už nezačali žiadosť pripravovať, resp. či už vaša žiadosť nie je medzi vytvorenými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 - Pokračovať v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te pokračovať v proc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kladania údajov do vašej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môžete kedykoľvek prerušiť proces vkladania údajov – zaznamenané údaje sú uložen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 – Upraviť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ožné upravovať tie žiadosti, ktoré sú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slané späť od STS na doplnenie alebo úpr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2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Szövegdoboz 6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zövegdoboz 7"/>
          <p:cNvSpPr/>
          <p:nvPr/>
        </p:nvSpPr>
        <p:spPr>
          <a:xfrm>
            <a:off x="5429160" y="785880"/>
            <a:ext cx="357192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lavič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edvolenom nastavení je hlavička prázdna, neaktí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plní sa automaticky podla vyplnených údaj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Tlačidl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celej žiadosť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– kontroluje sa obsah žiad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/SUBMIT – pokračovať v procese podávania žiad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opustíte obrazovku (ale všetky zaznamenané údaje sú uložené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9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Szövegdoboz 7"/>
          <p:cNvSpPr/>
          <p:nvPr/>
        </p:nvSpPr>
        <p:spPr>
          <a:xfrm>
            <a:off x="5429160" y="928800"/>
            <a:ext cx="357192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Zálož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VERVIEW  (Prehlad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zobrazuje najdôležitejšie ekonomické údaje žiadosti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rozumiteľnej štruktúre. Všetky políčka sú neaktívne, zadávanie údajov tu nie je povolen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HEETS TO FILL IN (Listy na vypĺňa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ôžete podrobne popísať svoj plánovaný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TTACHMETS (Prílohy) 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môžete vytvoriť a nahrať vaše dokume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5214960" cy="4367160"/>
          </a:xfrm>
          <a:prstGeom prst="rect">
            <a:avLst/>
          </a:prstGeom>
          <a:ln w="0">
            <a:noFill/>
          </a:ln>
        </p:spPr>
      </p:pic>
      <p:sp>
        <p:nvSpPr>
          <p:cNvPr id="94" name="Szövegdoboz 10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Szövegdoboz 6"/>
          <p:cNvSpPr/>
          <p:nvPr/>
        </p:nvSpPr>
        <p:spPr>
          <a:xfrm>
            <a:off x="142920" y="28584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zövegdoboz 7"/>
          <p:cNvSpPr/>
          <p:nvPr/>
        </p:nvSpPr>
        <p:spPr>
          <a:xfrm>
            <a:off x="5214960" y="928800"/>
            <a:ext cx="35719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iadky v tabuľke pokrývajú takzvané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od-obrazovk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 odkazom na rôzne čast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IEW (Náhľad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skytuje možnosť prehliadať údaj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  (Upravi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umožňuje editovať alebo upravovať  úd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47862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Szövegdoboz 6"/>
          <p:cNvSpPr/>
          <p:nvPr/>
        </p:nvSpPr>
        <p:spPr>
          <a:xfrm>
            <a:off x="142920" y="39528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214280"/>
            <a:ext cx="357192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kráten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ý názov (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&lt;25 karak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, AREA,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sa vyberie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priorita, oblasť a opatr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preštudujte si Príručku pre Žiadateľ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lánované trvanie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TorokZsolt</cp:lastModifiedBy>
  <dcterms:modified xsi:type="dcterms:W3CDTF">2013-04-17T07:45:42Z</dcterms:modified>
  <cp:revision>120</cp:revision>
  <dc:subject/>
  <dc:title>1. dia</dc:title>
</cp:coreProperties>
</file>