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7B58853-43DE-45E0-B090-450B3756B39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60097EF-A4C7-47FD-90EB-12E0F18BCC7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68D0-010E-4862-ABB7-BFCFD6345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AA97-E988-417D-B60F-4A2AEB6C3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DFC0-B52D-46BF-9C17-8847104EA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E5DB-F899-4E02-A4AB-87FA33DE5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0E64-92E5-4048-AB36-979BD564C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D225-4773-4B62-AFFE-166036929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E30A-5691-46C1-B9EA-92EE0E10F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47A3-FC4E-44C3-85C1-DF1071343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06B5-79E8-4F2F-992C-06AE8C4F7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BDD7-E702-44B7-8914-5A1205575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ABD5-E285-4823-8131-3F0B9BFD3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D2A6-6B5D-454D-9E04-64B69AD69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EBC32-BA0C-4384-A4DB-BFFA57B13A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mailto:katarina.mihalova@husk-cbc.eu" TargetMode="External"/><Relationship Id="rId2" Type="http://schemas.openxmlformats.org/officeDocument/2006/relationships/hyperlink" Target="mailto:katarina.mihalova@husk-cbc.eu" TargetMode="External"/><Relationship Id="rId3" Type="http://schemas.openxmlformats.org/officeDocument/2006/relationships/hyperlink" Target="mailto:katarina.mihalova@husk-cbc.eu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476360" y="3860640"/>
            <a:ext cx="64008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Katarína Mihaľov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HU-SK J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čný seminár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, Banská Bystrica</a:t>
            </a:r>
            <a:br>
              <a:rPr sz="1800"/>
            </a:b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dňa 18. apríla 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61128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hu-HU" sz="3600" spc="-1" strike="noStrike">
                <a:solidFill>
                  <a:srgbClr val="ffffff"/>
                </a:solidFill>
                <a:latin typeface="Arial"/>
              </a:rPr>
              <a:t>. VÝZVA NA PREDKLADANIE PROJEKTOV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ÝCH ŽIADOSTÍ</a:t>
            </a:r>
            <a:br>
              <a:rPr sz="12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51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KRITÉRIÁ SPOLUPRÁ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odpora spoločných projekt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špeciálne pravidlá na realizáciu OP cezhraničnej spoluprá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-  povinnosť splniť 2 zo 4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poločná príprava (proj. nápady, stretnuti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poločná realizácia (aspoň 1 hlavná aktivi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poločný personál (aspoň 1 kmeň.zam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poločné financovanie (aspoň 5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04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5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ŠTRUKTÚRA PROGRAM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57120" y="1125360"/>
          <a:ext cx="8229600" cy="4932720"/>
        </p:xfrm>
        <a:graphic>
          <a:graphicData uri="http://schemas.openxmlformats.org/drawingml/2006/table">
            <a:tbl>
              <a:tblPr/>
              <a:tblGrid>
                <a:gridCol w="1428840"/>
                <a:gridCol w="1428840"/>
                <a:gridCol w="1571400"/>
                <a:gridCol w="3800520"/>
              </a:tblGrid>
              <a:tr h="79092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 R I O R I T NÁ OS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BLASŤ PODPORY – </a:t>
                      </a: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1</a:t>
                      </a: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br>
                        <a:rPr sz="2400"/>
                      </a:br>
                      <a:r>
                        <a:rPr b="1" i="1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oločné aktivity na podporu ochrany prírodného prostred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ATRENIE – </a:t>
                      </a:r>
                      <a:r>
                        <a:rPr b="1" lang="hu-H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1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1" i="1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odné a odpadové hospodárstvo a obnoviteľné zdroje energ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1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KTIVITA </a:t>
                      </a: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k-SK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štalácia zariadení zvyšujúcich energetickú účinnosť s využitím obnoviteľných zdrojov energie  na verejných budovách (školy, nemocnice, obecné úrady atď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09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10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1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HODNOTENIE </a:t>
            </a:r>
            <a:br>
              <a:rPr sz="3600"/>
            </a:b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kritériá, subjek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395280" y="1989000"/>
          <a:ext cx="8229600" cy="3864240"/>
        </p:xfrm>
        <a:graphic>
          <a:graphicData uri="http://schemas.openxmlformats.org/drawingml/2006/table">
            <a:tbl>
              <a:tblPr/>
              <a:tblGrid>
                <a:gridCol w="3024360"/>
                <a:gridCol w="2462040"/>
                <a:gridCol w="2743200"/>
              </a:tblGrid>
              <a:tr h="103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dnotenie/ Kritéri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odpovedný orgá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olupracujúci orgán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a) FORMÁLNE</a:t>
                      </a:r>
                      <a:br>
                        <a:rPr sz="1800"/>
                      </a:b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kritéria podania ŽoF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formálne kritéri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b)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IMÁL</a:t>
                      </a: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kritériá spoluprá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ritériá oprávnenos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) </a:t>
                      </a: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VALITATÍV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S; externí hodnotitel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15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16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7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3"/>
          <p:cNvSpPr/>
          <p:nvPr/>
        </p:nvSpPr>
        <p:spPr>
          <a:xfrm>
            <a:off x="1116000" y="620640"/>
            <a:ext cx="6985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a) HODNOTENIE FORMÁLNYCH KRITÉRI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219600" y="1571760"/>
            <a:ext cx="592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KRITÉRIA PODANIA ŽIADOSTI O F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odaná v termíne elektronicky + papierová verzia príloh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rehlásenie VP a Deklarácia o partnerst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4857840" y="2643120"/>
            <a:ext cx="4286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FORMÁLNE KRITÉ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ovinné prílohy podané v predpísanej forme (soft projekty A1,2,3/investičné projekty A1-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2615760" y="3219480"/>
            <a:ext cx="111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ff"/>
                </a:solidFill>
                <a:latin typeface="Arial"/>
              </a:rPr>
              <a:t>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82880" y="3213000"/>
            <a:ext cx="137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Ne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8"/>
          <p:cNvSpPr/>
          <p:nvPr/>
        </p:nvSpPr>
        <p:spPr>
          <a:xfrm flipH="1">
            <a:off x="755640" y="2781360"/>
            <a:ext cx="122400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9"/>
          <p:cNvSpPr/>
          <p:nvPr/>
        </p:nvSpPr>
        <p:spPr>
          <a:xfrm>
            <a:off x="1979640" y="2781360"/>
            <a:ext cx="11523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0"/>
          <p:cNvSpPr/>
          <p:nvPr/>
        </p:nvSpPr>
        <p:spPr>
          <a:xfrm>
            <a:off x="3780000" y="3573360"/>
            <a:ext cx="936360" cy="0"/>
          </a:xfrm>
          <a:prstGeom prst="line">
            <a:avLst/>
          </a:prstGeom>
          <a:ln w="25560">
            <a:solidFill>
              <a:srgbClr val="008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1"/>
          <p:cNvSpPr/>
          <p:nvPr/>
        </p:nvSpPr>
        <p:spPr>
          <a:xfrm>
            <a:off x="4574880" y="443700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ff"/>
                </a:solidFill>
                <a:latin typeface="Arial"/>
              </a:rPr>
              <a:t>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2"/>
          <p:cNvSpPr/>
          <p:nvPr/>
        </p:nvSpPr>
        <p:spPr>
          <a:xfrm>
            <a:off x="6450120" y="4437000"/>
            <a:ext cx="128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00"/>
                </a:solidFill>
                <a:latin typeface="Arial"/>
              </a:rPr>
              <a:t>Doplne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3"/>
          <p:cNvSpPr/>
          <p:nvPr/>
        </p:nvSpPr>
        <p:spPr>
          <a:xfrm flipH="1">
            <a:off x="5364000" y="3933720"/>
            <a:ext cx="93528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4"/>
          <p:cNvSpPr/>
          <p:nvPr/>
        </p:nvSpPr>
        <p:spPr>
          <a:xfrm>
            <a:off x="6300720" y="3933720"/>
            <a:ext cx="71928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5"/>
          <p:cNvSpPr/>
          <p:nvPr/>
        </p:nvSpPr>
        <p:spPr>
          <a:xfrm>
            <a:off x="5727240" y="566100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ff"/>
                </a:solidFill>
                <a:latin typeface="Arial"/>
              </a:rPr>
              <a:t>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6"/>
          <p:cNvSpPr/>
          <p:nvPr/>
        </p:nvSpPr>
        <p:spPr>
          <a:xfrm>
            <a:off x="7383600" y="558972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Ne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7"/>
          <p:cNvSpPr/>
          <p:nvPr/>
        </p:nvSpPr>
        <p:spPr>
          <a:xfrm flipH="1">
            <a:off x="6300360" y="4941720"/>
            <a:ext cx="792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8"/>
          <p:cNvSpPr/>
          <p:nvPr/>
        </p:nvSpPr>
        <p:spPr>
          <a:xfrm>
            <a:off x="7093080" y="4941720"/>
            <a:ext cx="936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0" y="6165720"/>
            <a:ext cx="9144000" cy="692280"/>
            <a:chOff x="0" y="6165720"/>
            <a:chExt cx="9144000" cy="692280"/>
          </a:xfrm>
        </p:grpSpPr>
        <p:sp>
          <p:nvSpPr>
            <p:cNvPr id="136" name=""/>
            <p:cNvSpPr/>
            <p:nvPr/>
          </p:nvSpPr>
          <p:spPr>
            <a:xfrm>
              <a:off x="0" y="6165720"/>
              <a:ext cx="9144000" cy="69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5867280" y="6344280"/>
              <a:ext cx="3167280" cy="42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" descr=""/>
            <p:cNvPicPr/>
            <p:nvPr/>
          </p:nvPicPr>
          <p:blipFill>
            <a:blip r:embed="rId2"/>
            <a:stretch/>
          </p:blipFill>
          <p:spPr>
            <a:xfrm>
              <a:off x="179280" y="6286320"/>
              <a:ext cx="2880000" cy="571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4"/>
          <p:cNvSpPr/>
          <p:nvPr/>
        </p:nvSpPr>
        <p:spPr>
          <a:xfrm>
            <a:off x="-126360" y="1643040"/>
            <a:ext cx="3786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4 KRITÉRIÁ SPOLUPRÁ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Spoločná príprav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Spoločná realizácia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Spoločný personál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Spoločné financovanie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5003640" y="2571840"/>
            <a:ext cx="414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KRITÉRIA</a:t>
            </a:r>
            <a:r>
              <a:rPr b="1" lang="hu-HU" sz="1800" spc="-1" strike="noStrike" u="sng">
                <a:solidFill>
                  <a:srgbClr val="000000"/>
                </a:solidFill>
                <a:uFillTx/>
                <a:latin typeface="Arial"/>
              </a:rPr>
              <a:t> OPRÁVNE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oprávnenosť žiadateľov, </a:t>
            </a:r>
            <a:br>
              <a:rPr sz="1800"/>
            </a:b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min. 1 oprávnený partner z druhej strany hranice, sídlo v oprávnenom území, aktivity a štruktúr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ú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v súlade </a:t>
            </a:r>
            <a:br>
              <a:rPr sz="1800"/>
            </a:b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s Príručkou pre opatre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2615760" y="379584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ff"/>
                </a:solidFill>
                <a:latin typeface="Arial"/>
              </a:rPr>
              <a:t>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182880" y="379584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Ne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8"/>
          <p:cNvSpPr/>
          <p:nvPr/>
        </p:nvSpPr>
        <p:spPr>
          <a:xfrm flipH="1">
            <a:off x="755280" y="3213000"/>
            <a:ext cx="115236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9"/>
          <p:cNvSpPr/>
          <p:nvPr/>
        </p:nvSpPr>
        <p:spPr>
          <a:xfrm>
            <a:off x="1908000" y="3213000"/>
            <a:ext cx="115128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0"/>
          <p:cNvSpPr/>
          <p:nvPr/>
        </p:nvSpPr>
        <p:spPr>
          <a:xfrm>
            <a:off x="3995640" y="4149720"/>
            <a:ext cx="936720" cy="0"/>
          </a:xfrm>
          <a:prstGeom prst="line">
            <a:avLst/>
          </a:prstGeom>
          <a:ln w="25560">
            <a:solidFill>
              <a:srgbClr val="008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1"/>
          <p:cNvSpPr/>
          <p:nvPr/>
        </p:nvSpPr>
        <p:spPr>
          <a:xfrm>
            <a:off x="5151240" y="544500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ff"/>
                </a:solidFill>
                <a:latin typeface="Arial"/>
              </a:rPr>
              <a:t>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2"/>
          <p:cNvSpPr/>
          <p:nvPr/>
        </p:nvSpPr>
        <p:spPr>
          <a:xfrm>
            <a:off x="7167960" y="54450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Ne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3"/>
          <p:cNvSpPr/>
          <p:nvPr/>
        </p:nvSpPr>
        <p:spPr>
          <a:xfrm flipH="1">
            <a:off x="5867280" y="4653000"/>
            <a:ext cx="936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14"/>
          <p:cNvSpPr/>
          <p:nvPr/>
        </p:nvSpPr>
        <p:spPr>
          <a:xfrm>
            <a:off x="6804000" y="4653000"/>
            <a:ext cx="936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5"/>
          <p:cNvSpPr/>
          <p:nvPr/>
        </p:nvSpPr>
        <p:spPr>
          <a:xfrm>
            <a:off x="2627280" y="4508640"/>
            <a:ext cx="15829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Preukázané splnenie min. 2 zo spoločných kritérií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7"/>
          <p:cNvSpPr/>
          <p:nvPr/>
        </p:nvSpPr>
        <p:spPr>
          <a:xfrm>
            <a:off x="1116000" y="620640"/>
            <a:ext cx="6985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b) HODNOTENIE MINIMÁLNYCH KRITÉRI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8"/>
          <p:cNvSpPr/>
          <p:nvPr/>
        </p:nvSpPr>
        <p:spPr>
          <a:xfrm>
            <a:off x="250920" y="4508640"/>
            <a:ext cx="1582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Nesplnené ani 2 zo spoločných kritérií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54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5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7" name=""/>
          <p:cNvGraphicFramePr/>
          <p:nvPr/>
        </p:nvGraphicFramePr>
        <p:xfrm>
          <a:off x="214200" y="1285920"/>
          <a:ext cx="8569440" cy="5132520"/>
        </p:xfrm>
        <a:graphic>
          <a:graphicData uri="http://schemas.openxmlformats.org/drawingml/2006/table">
            <a:tbl>
              <a:tblPr/>
              <a:tblGrid>
                <a:gridCol w="6193080"/>
                <a:gridCol w="1152360"/>
                <a:gridCol w="1224000"/>
              </a:tblGrid>
              <a:tr h="3682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DNOTENIE PROJEKTOVÉHO ZÁMER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. Súlad zamerania projektu s rozvojovými stratégiami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. Relevantnos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. Kritériá cezhraničnej spoluprá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 Prínos a inovatívnosť projek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. Partnerstv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. Udržateľnos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DNOTENIE ZABEZPEČENIA REALIZÁCIE PROJEK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. Uskutočniteľnosť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. Manažment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. Financie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. Plán aktivít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. Horizontálne princípy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SIAHNUTEĽNÝ POČET BODO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sp>
        <p:nvSpPr>
          <p:cNvPr id="158" name="Text Box 67"/>
          <p:cNvSpPr/>
          <p:nvPr/>
        </p:nvSpPr>
        <p:spPr>
          <a:xfrm>
            <a:off x="6657480" y="1341360"/>
            <a:ext cx="19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ax.            M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71"/>
          <p:cNvSpPr/>
          <p:nvPr/>
        </p:nvSpPr>
        <p:spPr>
          <a:xfrm>
            <a:off x="1042920" y="404640"/>
            <a:ext cx="6985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) HODNOTENIE KVALITATÍVNYCH KRITÉRI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K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NOSTI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 Z PREDCHÁDZAJÚCICH VÝZI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opulárne opatrenia (najmä 1.3.1 CR a 1.7.1 Ľudia ľuďo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artnerstvo orientované na výsledky (optimálny počet partnerov, finančná stabilita, dôvera, ak nie – dôsledkom sú výrazné zmeny v projekte a následná zhoršená implementácia a dosahovanie indikátorov resp. odstúpenie partnero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omunikácia medzi partnermi – hierarchická a vertikál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Finančná kríza (5% vlastné spolufinancovanie, platby formou refundáci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N+3/2 – pravidlo čerpania v rámci programu – nesplnenie vedie k finančným sankciám; ust. v Zmluve            o ER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artner Progres Report/Monitorovacia správa na úrovni projektu – žiada sa dôsledné vypracovan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Indikátory (výsledky a výstupy) – precízne plánovani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ublicita – logo EÚ a programu, slogan, referencie na web a odkaz; informačná tabuľa/plaketa (nad 500.000 EUR) – pomoc a rady poskytuje komunikačný manažér 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PREŠTUDUJTE S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9528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DOKUMENTY 5. výz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Výzva na predkladanie projekt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íručka pre žiadateľ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ílohy Žiadosti o FP (opatrenia TUR a R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íručka na vypracovanie formuláru Žiadosti o FP (SK/HU verzia) –   IMIS príruč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íručka pre prijímateľa (dostupné na www.husk-cbc.eu,                       časť „Na stiahnutie“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Formuláre na hodnotenie jednotlivých kritéri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Odporúčaná štruktúra Štúdie uskutočniteľ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67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8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NEZABUDNI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Oprávnenosť aktiví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Oprávnenosť žiadateľov – zoznam v Príručke                     pre žiadateľ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Anglický jazyk – oficiálny jazyk Progra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Žiadosť o FP vyplnená </a:t>
            </a:r>
            <a:r>
              <a:rPr b="0" lang="sk-SK" sz="2400" spc="-1" strike="noStrike">
                <a:solidFill>
                  <a:srgbClr val="cc3300"/>
                </a:solidFill>
                <a:latin typeface="Arial"/>
              </a:rPr>
              <a:t>bilinguálne v HU/SK jazykoch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Rozpočet – oprávnenosť, opodstatnenosť, metóda kalkulác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lastné spolufinancovan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Refundá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ritériá podania ŽoP - nie je možné doplnenie/opr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5. VÝZVA</a:t>
            </a:r>
            <a:r>
              <a:rPr b="0" lang="sk-SK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3600" spc="-1" strike="noStrike">
                <a:solidFill>
                  <a:srgbClr val="000000"/>
                </a:solidFill>
                <a:latin typeface="Arial"/>
              </a:rPr>
              <a:t>NA PREDKLADANIE PROJEKTOV</a:t>
            </a: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ÝCH ŽIADOST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528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Zverejnená: 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3. apríla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Trvanie výzvy: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5 týždň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Finančná čiastka: 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11.816.023,06 </a:t>
            </a: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EUR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(ERD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termíny uzávierky podávania projektov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do 9. mája 2013 do 14:00 hod. 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elektro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do 15. mája 2013 (do polnoci)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 pošt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(osobne do 12.00h, poštou do 24.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57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"/>
          <p:cNvGraphicFramePr/>
          <p:nvPr/>
        </p:nvGraphicFramePr>
        <p:xfrm>
          <a:off x="468360" y="1125360"/>
          <a:ext cx="8112240" cy="4681800"/>
        </p:xfrm>
        <a:graphic>
          <a:graphicData uri="http://schemas.openxmlformats.org/drawingml/2006/table">
            <a:tbl>
              <a:tblPr/>
              <a:tblGrid>
                <a:gridCol w="4608360"/>
                <a:gridCol w="3503880"/>
              </a:tblGrid>
              <a:tr h="625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nčné strop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ákup pozemko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. 10% </a:t>
                      </a: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celkového rozpočtu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ípravné náklad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. 10% </a:t>
                      </a: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celkových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rávnených výdavkov príslušného partnera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vádzkové a režijné náklady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. 25% z personálnych nákladov </a:t>
                      </a: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íslušného partnera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7.3., 7.4., 7.5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davky vynaložené mimo oprávnené územi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. 10% </a:t>
                      </a: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celkového rozpočtu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ákup budov, personálne náklad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obmedzená su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ROZPOČ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763640" y="55166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76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7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ČASTÉ FORMÁLNE CHY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Chýba preklad do druhého jazyka - formulár ŽoFP, </a:t>
            </a:r>
            <a:br>
              <a:rPr sz="2400"/>
            </a:b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ílohy - SK/HU identick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Chýbajú povinné prílohy, resp. predložené len kópie bez overenia/podpisu – predpísaná for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Nesprávne, resp. nedostatočne vyplnený rozpočet (správnosť položiek,prepočty v HUF a kalkuláci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ojekt predložený v nesprávnom opatr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82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3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ČASTÉ OBSAHOVÉ CHY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-  Nesplnená podmienka 5% vlastných zdroj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ie sú splnené min. 2 kritériá spolupráce (zo 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artner projektu nie je z oprávneného územia, resp. nemá právnu subjektivi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edostatočne popísané aktivity a výstupy projekt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ákladové položky nie sú oprávnenými, resp. nie sú v súlade s trhovými cenami (nepodložené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Kvázi „jednostranné projekty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edostatočne skúsený projektový manaž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88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9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39640" y="314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000000"/>
                </a:solidFill>
                <a:latin typeface="Arial"/>
              </a:rPr>
              <a:t>Ďakujem za pozornosť </a:t>
            </a:r>
            <a:r>
              <a:rPr b="0" lang="sk-SK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br>
              <a:rPr sz="4000"/>
            </a:br>
            <a:br>
              <a:rPr sz="4000"/>
            </a:br>
            <a:r>
              <a:rPr b="0" lang="sk-SK" sz="2800" spc="-1" strike="noStrike" u="sng">
                <a:solidFill>
                  <a:srgbClr val="cc3300"/>
                </a:solidFill>
                <a:uFillTx/>
                <a:latin typeface="Wingdings"/>
                <a:ea typeface="Wingdings"/>
                <a:hlinkClick r:id="rId1"/>
              </a:rPr>
              <a:t>katarina.mihalova</a:t>
            </a:r>
            <a:r>
              <a:rPr b="0" lang="en-US" sz="2800" spc="-1" strike="noStrike" u="sng">
                <a:solidFill>
                  <a:srgbClr val="cc3300"/>
                </a:solidFill>
                <a:uFillTx/>
                <a:latin typeface="Wingdings"/>
                <a:ea typeface="Wingdings"/>
                <a:hlinkClick r:id="rId2"/>
              </a:rPr>
              <a:t>@</a:t>
            </a:r>
            <a:r>
              <a:rPr b="0" lang="sk-SK" sz="2800" spc="-1" strike="noStrike" u="sng">
                <a:solidFill>
                  <a:srgbClr val="cc3300"/>
                </a:solidFill>
                <a:uFillTx/>
                <a:latin typeface="Wingdings"/>
                <a:ea typeface="Wingdings"/>
                <a:hlinkClick r:id="rId3"/>
              </a:rPr>
              <a:t>husk-cbc.eu</a:t>
            </a:r>
            <a:br>
              <a:rPr sz="2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OTVORENÉ OBLASTI PODP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39280" y="836280"/>
            <a:ext cx="81471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Priorita 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2.1 Spoločné aktivity na podporu ochrany prírodného prostred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2.1.1 výlučne - Obnoviteľné zdroje energ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2.3 Budovanie malej dopravnej infraštruktúry, cyklistických trás a verejná dopr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2.3.1 Budovanie malej cezhraničnej dopravnej infraštruktúry a cyklistických trá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2.3.2 Rozvoj verejnej doprav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2.4 Zlepšenie cezhraničnej dostupnosti cez hraničné rie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2.4.1 Zlepšenie cezhraničnej dostupnosti cez hraničné rie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2.4.2 Štúdie a plá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64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TYPY/ TRVANIE PROJEKTO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1504800"/>
            <a:ext cx="8496360" cy="43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300" spc="-1" strike="noStrike">
                <a:solidFill>
                  <a:srgbClr val="cc3300"/>
                </a:solidFill>
                <a:latin typeface="Arial"/>
              </a:rPr>
              <a:t>ukončenie najneskôr </a:t>
            </a:r>
            <a:r>
              <a:rPr b="1" lang="sk-SK" sz="2300" spc="-1" strike="noStrike">
                <a:solidFill>
                  <a:srgbClr val="cc3300"/>
                </a:solidFill>
                <a:latin typeface="Arial"/>
              </a:rPr>
              <a:t>do 30.6.2015, </a:t>
            </a:r>
            <a:r>
              <a:rPr b="0" lang="sk-SK" sz="2300" spc="-1" strike="noStrike">
                <a:solidFill>
                  <a:srgbClr val="cc3300"/>
                </a:solidFill>
                <a:latin typeface="Arial"/>
              </a:rPr>
              <a:t>výnimka pre 2.1.1 (OZE)    </a:t>
            </a:r>
            <a:r>
              <a:rPr b="1" lang="sk-SK" sz="2300" spc="-1" strike="noStrike">
                <a:solidFill>
                  <a:srgbClr val="cc3300"/>
                </a:solidFill>
                <a:latin typeface="Arial"/>
              </a:rPr>
              <a:t>trvanie max. 12 me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Neinvestičné/soft projekty – odporúčanie max. 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12 mes. avšak najneskôr do 30.6.2015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inštalácia zariadení, príprava plánov a štúdií uskutočniteľnosti (2.1.1, </a:t>
            </a:r>
            <a:r>
              <a:rPr b="0" i="1" lang="sk-SK" sz="2300" spc="-1" strike="noStrike">
                <a:solidFill>
                  <a:srgbClr val="000000"/>
                </a:solidFill>
                <a:latin typeface="Arial"/>
              </a:rPr>
              <a:t>2.3.1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sk-SK" sz="2300" spc="-1" strike="noStrike">
                <a:solidFill>
                  <a:srgbClr val="000000"/>
                </a:solidFill>
                <a:latin typeface="Arial"/>
              </a:rPr>
              <a:t>2.3.2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 a 2.4.2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Investičné projekty (BL5 nad 25.000EUR a/alebo BL6) – odporúčanie max. 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24 mes. avšak najneskôr do 30.6.2015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- stavebné a rekonštrukčné práce, obnoviteľné zdroje energie, dopravná infraštruktúra (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 2.1.1, 2.3.1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2.3.2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70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1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OPRÁVNENÉ ÚZEMIE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94920" y="980640"/>
            <a:ext cx="8218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Slovensk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amosprávne kraje (5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atislavsk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navsk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itriansk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nskobystrick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šick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aďarsk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Župy (7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yőr-Moson-Sopr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márom-Eszterg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ógrá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v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sod-Abaúj-Zemplé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zabolcs-Szatmár- Bere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 mesto Budap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husk map"/>
          <p:cNvPicPr/>
          <p:nvPr/>
        </p:nvPicPr>
        <p:blipFill>
          <a:blip r:embed="rId1"/>
          <a:stretch/>
        </p:blipFill>
        <p:spPr>
          <a:xfrm>
            <a:off x="3492360" y="1413000"/>
            <a:ext cx="5461200" cy="38592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452760" y="5445000"/>
            <a:ext cx="56563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rojekty sa musia realizovať v oprávnenom území a musia mať pozitívny dopad na OÚ (výnimka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10%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mimo OÚ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78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9" name="" descr=""/>
            <p:cNvPicPr/>
            <p:nvPr/>
          </p:nvPicPr>
          <p:blipFill>
            <a:blip r:embed="rId2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" descr=""/>
            <p:cNvPicPr/>
            <p:nvPr/>
          </p:nvPicPr>
          <p:blipFill>
            <a:blip r:embed="rId3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OPRÁVNENÍ ŽIADATEL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len právnické oso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ídlo alebo pobočka v oprávnenom územ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VÚC, mestá a obce, združenia, štátne orgány a nimi založené organizác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úkromné spoločnosti s verejnou účasť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európske zoskupenia územnej spoluprá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mimovládne organizácie a in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Viac info - Príručka pre žiadateľov, príloha 1A a 1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84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5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PARTNERSTV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oprávnení partneri z oboch strán štátnej hran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ovinný minimálne 1 oprávnený partner z druhej strany štátnej hran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vyrovnané partnerstvo – rovnomerné delenie úloh, zodpovedností a aktiví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rincíp vedúceho partnera (PV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90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1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KATEGÓRIE PARTNEROV</a:t>
            </a: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500" spc="-1" strike="noStrike">
                <a:solidFill>
                  <a:srgbClr val="000000"/>
                </a:solidFill>
                <a:latin typeface="Arial"/>
              </a:rPr>
              <a:t>podľa povinností, úloh a zodpovedností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Vedúci partner - V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Projektoví partneri - P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domáci partner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cezhraniční partne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hlavný cezhraničný partner – len na 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000000"/>
                </a:solidFill>
                <a:latin typeface="Arial"/>
              </a:rPr>
              <a:t>Pridružení partneri - PD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PRINCÍP VEDÚCEHO PARTNE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6868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edkladá Žiadosť o FP, PP za všetkých partner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odpisuje Zmluvu o pridelení FP z ER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distribuuje finančný príspevok z ERDF medzi partnermi</a:t>
            </a:r>
            <a:br>
              <a:rPr sz="2400"/>
            </a:b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 z HU aj 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omunikuje s orgánmi Programu – SMV, RO, CO, </a:t>
            </a:r>
            <a:br>
              <a:rPr sz="2400"/>
            </a:b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 AA, NO, 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nesie zodpovednosť za celkovú koordináciu a realizáciu</a:t>
            </a:r>
            <a:br>
              <a:rPr sz="2400"/>
            </a:b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 projektu aj za aktivity vykonávané jednotlivými partner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edkladá súhrnné žiadosti o platbu a monitorovacie </a:t>
            </a:r>
            <a:br>
              <a:rPr sz="2400"/>
            </a:b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 správy za celé partnerstvo 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98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9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7T07:53:10Z</dcterms:created>
  <dc:creator>BakoAgnes</dc:creator>
  <dc:description/>
  <dc:language>en-US</dc:language>
  <cp:lastModifiedBy>katarinamihalova</cp:lastModifiedBy>
  <dcterms:modified xsi:type="dcterms:W3CDTF">2013-04-16T15:01:43Z</dcterms:modified>
  <cp:revision>135</cp:revision>
  <dc:subject/>
  <dc:title>1. dia</dc:title>
</cp:coreProperties>
</file>