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63B0440-B677-46DF-A2BB-82B162097087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2FFFCF4-8F58-4C3C-86DB-4129E8D4F941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CD639-C4E3-4B5F-A702-F44E8CB05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EB437-63B6-4044-87D1-DA11E36E2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A7856-6C73-459F-90F8-BDE3A3CE5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05483-837A-4386-8F98-1C08BA14D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0FE9E-6C45-4DD4-9C27-A9F8DB707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00A58-3A11-4810-8328-1C1948255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E4BDA-2681-4499-BA31-777033A44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58A67-3947-45D3-AD09-F0832168E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16FD1-6D9B-4723-B125-773019651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6E98E-3B4B-437E-A678-8439A9BB4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AA6BE-29F1-48A0-A404-81A3477CD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54C8D-75EE-41EE-9612-743ED9D5E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0F922-CCA6-4F28-BA6E-D40CB0666C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mailto:katarina.mihalova@husk-cbc.eu" TargetMode="External"/><Relationship Id="rId2" Type="http://schemas.openxmlformats.org/officeDocument/2006/relationships/hyperlink" Target="mailto:katarina.mihalova@husk-cbc.eu" TargetMode="External"/><Relationship Id="rId3" Type="http://schemas.openxmlformats.org/officeDocument/2006/relationships/hyperlink" Target="mailto:katarina.mihalova@husk-cbc.eu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476360" y="3860640"/>
            <a:ext cx="640080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Katarína Mihaľov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HU-SK J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rma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čný seminár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, Banská Bystrica</a:t>
            </a:r>
            <a:br>
              <a:rPr sz="1800"/>
            </a:b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dňa 18. apríla 20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61128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sk-SK" sz="36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hu-HU" sz="3600" spc="-1" strike="noStrike">
                <a:solidFill>
                  <a:srgbClr val="ffffff"/>
                </a:solidFill>
                <a:latin typeface="Arial"/>
              </a:rPr>
              <a:t>. VÝZVA NA PREDKLADANIE PROJEKTOV</a:t>
            </a:r>
            <a:r>
              <a:rPr b="1" lang="sk-SK" sz="3600" spc="-1" strike="noStrike">
                <a:solidFill>
                  <a:srgbClr val="ffffff"/>
                </a:solidFill>
                <a:latin typeface="Arial"/>
              </a:rPr>
              <a:t>ÝCH ŽIADOSTÍ</a:t>
            </a:r>
            <a:br>
              <a:rPr sz="12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51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2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KRITÉRIÁ SPOLUPRÁ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podpora spoločných projekt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špeciálne pravidlá na realizáciu OP cezhraničnej spoluprá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-  povinnosť splniť 2 zo 4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spoločná príprava (proj. nápady, stretnuti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spoločná realizácia (aspoň 1 hlavná aktivi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spoločný personál (aspoň 1 kmeň.zam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spoločné financovanie (aspoň 5%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04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5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ŠTRUKTÚRA PROGRAM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357120" y="1125360"/>
          <a:ext cx="8229600" cy="4932720"/>
        </p:xfrm>
        <a:graphic>
          <a:graphicData uri="http://schemas.openxmlformats.org/drawingml/2006/table">
            <a:tbl>
              <a:tblPr/>
              <a:tblGrid>
                <a:gridCol w="1428840"/>
                <a:gridCol w="1428840"/>
                <a:gridCol w="1571400"/>
                <a:gridCol w="3800520"/>
              </a:tblGrid>
              <a:tr h="79092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 R I O R I T NÁ OS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BLASŤ PODPORY – </a:t>
                      </a: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1</a:t>
                      </a: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br>
                        <a:rPr sz="2400"/>
                      </a:br>
                      <a:r>
                        <a:rPr b="1" i="1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poločné aktivity na podporu ochrany prírodného prostred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0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PATRENIE – </a:t>
                      </a:r>
                      <a:r>
                        <a:rPr b="1" lang="hu-H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1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</a:t>
                      </a:r>
                      <a:r>
                        <a:rPr b="1" i="1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odné a odpadové hospodárstvo a obnoviteľné zdroje energ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1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KTIVITA </a:t>
                      </a: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k-SK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štalácia zariadení zvyšujúcich energetickú účinnosť s využitím obnoviteľných zdrojov energie  na verejných budovách (školy, nemocnice, obecné úrady atď.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09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10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1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85840"/>
            <a:ext cx="822960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HODNOTENIE </a:t>
            </a:r>
            <a:br>
              <a:rPr sz="3600"/>
            </a:b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kritériá, subjek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395280" y="1989000"/>
          <a:ext cx="8229600" cy="3864240"/>
        </p:xfrm>
        <a:graphic>
          <a:graphicData uri="http://schemas.openxmlformats.org/drawingml/2006/table">
            <a:tbl>
              <a:tblPr/>
              <a:tblGrid>
                <a:gridCol w="3024360"/>
                <a:gridCol w="2462040"/>
                <a:gridCol w="2743200"/>
              </a:tblGrid>
              <a:tr h="103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dnotenie/ Kritéri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odpovedný orgá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olupracujúci orgán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97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a) FORMÁLNE</a:t>
                      </a:r>
                      <a:br>
                        <a:rPr sz="1800"/>
                      </a:b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kritéria podania ŽoF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formálne kritéri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b) </a:t>
                      </a: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NIMÁL</a:t>
                      </a: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kritériá spoluprá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ritériá oprávnenost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) </a:t>
                      </a: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VALITATÍV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S; externí hodnotitel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15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16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7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3"/>
          <p:cNvSpPr/>
          <p:nvPr/>
        </p:nvSpPr>
        <p:spPr>
          <a:xfrm>
            <a:off x="1116000" y="620640"/>
            <a:ext cx="69850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a) HODNOTENIE FORMÁLNYCH KRITÉRI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219600" y="1571760"/>
            <a:ext cx="592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KRITÉRIA PODANIA ŽIADOSTI O F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podaná v termíne elektronicky + papierová verzia príloh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Prehlásenie VP a Deklarácia o partnerst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4857840" y="2643120"/>
            <a:ext cx="4286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FORMÁLNE KRITÉ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povinné prílohy podané v predpísanej forme (soft projekty A1,2,3/investičné projekty A1-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2615760" y="3219480"/>
            <a:ext cx="111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ff"/>
                </a:solidFill>
                <a:latin typeface="Arial"/>
              </a:rPr>
              <a:t>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182880" y="3213000"/>
            <a:ext cx="137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3300"/>
                </a:solidFill>
                <a:latin typeface="Arial"/>
              </a:rPr>
              <a:t>Ne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8"/>
          <p:cNvSpPr/>
          <p:nvPr/>
        </p:nvSpPr>
        <p:spPr>
          <a:xfrm flipH="1">
            <a:off x="755640" y="2781360"/>
            <a:ext cx="122400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9"/>
          <p:cNvSpPr/>
          <p:nvPr/>
        </p:nvSpPr>
        <p:spPr>
          <a:xfrm>
            <a:off x="1979640" y="2781360"/>
            <a:ext cx="11523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10"/>
          <p:cNvSpPr/>
          <p:nvPr/>
        </p:nvSpPr>
        <p:spPr>
          <a:xfrm>
            <a:off x="3780000" y="3573360"/>
            <a:ext cx="936360" cy="0"/>
          </a:xfrm>
          <a:prstGeom prst="line">
            <a:avLst/>
          </a:prstGeom>
          <a:ln w="25560">
            <a:solidFill>
              <a:srgbClr val="008000"/>
            </a:solidFill>
            <a:prstDash val="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1"/>
          <p:cNvSpPr/>
          <p:nvPr/>
        </p:nvSpPr>
        <p:spPr>
          <a:xfrm>
            <a:off x="4574880" y="4437000"/>
            <a:ext cx="111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ff"/>
                </a:solidFill>
                <a:latin typeface="Arial"/>
              </a:rPr>
              <a:t>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2"/>
          <p:cNvSpPr/>
          <p:nvPr/>
        </p:nvSpPr>
        <p:spPr>
          <a:xfrm>
            <a:off x="6450120" y="4437000"/>
            <a:ext cx="128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00"/>
                </a:solidFill>
                <a:latin typeface="Arial"/>
              </a:rPr>
              <a:t>Doplnen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13"/>
          <p:cNvSpPr/>
          <p:nvPr/>
        </p:nvSpPr>
        <p:spPr>
          <a:xfrm flipH="1">
            <a:off x="5364000" y="3933720"/>
            <a:ext cx="93528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14"/>
          <p:cNvSpPr/>
          <p:nvPr/>
        </p:nvSpPr>
        <p:spPr>
          <a:xfrm>
            <a:off x="6300720" y="3933720"/>
            <a:ext cx="71928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5"/>
          <p:cNvSpPr/>
          <p:nvPr/>
        </p:nvSpPr>
        <p:spPr>
          <a:xfrm>
            <a:off x="5727240" y="5661000"/>
            <a:ext cx="111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ff"/>
                </a:solidFill>
                <a:latin typeface="Arial"/>
              </a:rPr>
              <a:t>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6"/>
          <p:cNvSpPr/>
          <p:nvPr/>
        </p:nvSpPr>
        <p:spPr>
          <a:xfrm>
            <a:off x="7383600" y="558972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3300"/>
                </a:solidFill>
                <a:latin typeface="Arial"/>
              </a:rPr>
              <a:t>Ne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7"/>
          <p:cNvSpPr/>
          <p:nvPr/>
        </p:nvSpPr>
        <p:spPr>
          <a:xfrm flipH="1">
            <a:off x="6300360" y="4941720"/>
            <a:ext cx="79236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18"/>
          <p:cNvSpPr/>
          <p:nvPr/>
        </p:nvSpPr>
        <p:spPr>
          <a:xfrm>
            <a:off x="7093080" y="4941720"/>
            <a:ext cx="93636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0" y="6165720"/>
            <a:ext cx="9144000" cy="692280"/>
            <a:chOff x="0" y="6165720"/>
            <a:chExt cx="9144000" cy="692280"/>
          </a:xfrm>
        </p:grpSpPr>
        <p:sp>
          <p:nvSpPr>
            <p:cNvPr id="136" name=""/>
            <p:cNvSpPr/>
            <p:nvPr/>
          </p:nvSpPr>
          <p:spPr>
            <a:xfrm>
              <a:off x="0" y="6165720"/>
              <a:ext cx="9144000" cy="69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5867280" y="6344280"/>
              <a:ext cx="3167280" cy="42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" name="" descr=""/>
            <p:cNvPicPr/>
            <p:nvPr/>
          </p:nvPicPr>
          <p:blipFill>
            <a:blip r:embed="rId2"/>
            <a:stretch/>
          </p:blipFill>
          <p:spPr>
            <a:xfrm>
              <a:off x="179280" y="6286320"/>
              <a:ext cx="2880000" cy="5713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4"/>
          <p:cNvSpPr/>
          <p:nvPr/>
        </p:nvSpPr>
        <p:spPr>
          <a:xfrm>
            <a:off x="-126360" y="1643040"/>
            <a:ext cx="37868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4 KRITÉRIÁ SPOLUPRÁ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Spoločná príprav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Spoločná realizácia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Spoločný personál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Spoločné financovanie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5"/>
          <p:cNvSpPr/>
          <p:nvPr/>
        </p:nvSpPr>
        <p:spPr>
          <a:xfrm>
            <a:off x="5003640" y="2571840"/>
            <a:ext cx="4140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KRITÉRIA</a:t>
            </a:r>
            <a:r>
              <a:rPr b="1" lang="hu-HU" sz="1800" spc="-1" strike="noStrike" u="sng">
                <a:solidFill>
                  <a:srgbClr val="000000"/>
                </a:solidFill>
                <a:uFillTx/>
                <a:latin typeface="Arial"/>
              </a:rPr>
              <a:t> OPRÁVNENOS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oprávnenosť žiadateľov, </a:t>
            </a:r>
            <a:br>
              <a:rPr sz="1800"/>
            </a:b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min. 1 oprávnený partner z druhej strany hranice, sídlo v oprávnenom území, aktivity a štruktúra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ú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v súlade </a:t>
            </a:r>
            <a:br>
              <a:rPr sz="1800"/>
            </a:b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s Príručkou pre opatren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6"/>
          <p:cNvSpPr/>
          <p:nvPr/>
        </p:nvSpPr>
        <p:spPr>
          <a:xfrm>
            <a:off x="2615760" y="3795840"/>
            <a:ext cx="111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ff"/>
                </a:solidFill>
                <a:latin typeface="Arial"/>
              </a:rPr>
              <a:t>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7"/>
          <p:cNvSpPr/>
          <p:nvPr/>
        </p:nvSpPr>
        <p:spPr>
          <a:xfrm>
            <a:off x="182880" y="379584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3300"/>
                </a:solidFill>
                <a:latin typeface="Arial"/>
              </a:rPr>
              <a:t>Ne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8"/>
          <p:cNvSpPr/>
          <p:nvPr/>
        </p:nvSpPr>
        <p:spPr>
          <a:xfrm flipH="1">
            <a:off x="755280" y="3213000"/>
            <a:ext cx="115236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9"/>
          <p:cNvSpPr/>
          <p:nvPr/>
        </p:nvSpPr>
        <p:spPr>
          <a:xfrm>
            <a:off x="1908000" y="3213000"/>
            <a:ext cx="115128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10"/>
          <p:cNvSpPr/>
          <p:nvPr/>
        </p:nvSpPr>
        <p:spPr>
          <a:xfrm>
            <a:off x="3995640" y="4149720"/>
            <a:ext cx="936720" cy="0"/>
          </a:xfrm>
          <a:prstGeom prst="line">
            <a:avLst/>
          </a:prstGeom>
          <a:ln w="25560">
            <a:solidFill>
              <a:srgbClr val="008000"/>
            </a:solidFill>
            <a:prstDash val="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1"/>
          <p:cNvSpPr/>
          <p:nvPr/>
        </p:nvSpPr>
        <p:spPr>
          <a:xfrm>
            <a:off x="5151240" y="5445000"/>
            <a:ext cx="111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ff"/>
                </a:solidFill>
                <a:latin typeface="Arial"/>
              </a:rPr>
              <a:t>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2"/>
          <p:cNvSpPr/>
          <p:nvPr/>
        </p:nvSpPr>
        <p:spPr>
          <a:xfrm>
            <a:off x="7167960" y="54450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3300"/>
                </a:solidFill>
                <a:latin typeface="Arial"/>
              </a:rPr>
              <a:t>Ne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13"/>
          <p:cNvSpPr/>
          <p:nvPr/>
        </p:nvSpPr>
        <p:spPr>
          <a:xfrm flipH="1">
            <a:off x="5867280" y="4653000"/>
            <a:ext cx="93672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14"/>
          <p:cNvSpPr/>
          <p:nvPr/>
        </p:nvSpPr>
        <p:spPr>
          <a:xfrm>
            <a:off x="6804000" y="4653000"/>
            <a:ext cx="93672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5"/>
          <p:cNvSpPr/>
          <p:nvPr/>
        </p:nvSpPr>
        <p:spPr>
          <a:xfrm>
            <a:off x="2627280" y="4508640"/>
            <a:ext cx="15829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Preukázané splnenie min. 2 zo spoločných kritérií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7"/>
          <p:cNvSpPr/>
          <p:nvPr/>
        </p:nvSpPr>
        <p:spPr>
          <a:xfrm>
            <a:off x="1116000" y="620640"/>
            <a:ext cx="69850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b) HODNOTENIE MINIMÁLNYCH KRITÉRI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8"/>
          <p:cNvSpPr/>
          <p:nvPr/>
        </p:nvSpPr>
        <p:spPr>
          <a:xfrm>
            <a:off x="250920" y="4508640"/>
            <a:ext cx="15825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Nesplnené ani 2 zo spoločných kritérií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54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5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7" name=""/>
          <p:cNvGraphicFramePr/>
          <p:nvPr/>
        </p:nvGraphicFramePr>
        <p:xfrm>
          <a:off x="214200" y="1285920"/>
          <a:ext cx="8569440" cy="5132520"/>
        </p:xfrm>
        <a:graphic>
          <a:graphicData uri="http://schemas.openxmlformats.org/drawingml/2006/table">
            <a:tbl>
              <a:tblPr/>
              <a:tblGrid>
                <a:gridCol w="6193080"/>
                <a:gridCol w="1152360"/>
                <a:gridCol w="1224000"/>
              </a:tblGrid>
              <a:tr h="3682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DNOTENIE PROJEKTOVÉHO ZÁMER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. Súlad zamerania projektu s rozvojovými stratégiami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. Relevantnosť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. Kritériá cezhraničnej spoluprá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. Prínos a inovatívnosť projekt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. Partnerstv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. Udržateľnosť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82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DNOTENIE ZABEZPEČENIA REALIZÁCIE PROJEKT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. Uskutočniteľnosť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. Manažment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. Financie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. Plán aktivít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. Horizontálne princípy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SIAHNUTEĽNÝ POČET BODO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</a:tbl>
          </a:graphicData>
        </a:graphic>
      </p:graphicFrame>
      <p:sp>
        <p:nvSpPr>
          <p:cNvPr id="158" name="Text Box 67"/>
          <p:cNvSpPr/>
          <p:nvPr/>
        </p:nvSpPr>
        <p:spPr>
          <a:xfrm>
            <a:off x="6657480" y="1341360"/>
            <a:ext cx="197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Max.            M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71"/>
          <p:cNvSpPr/>
          <p:nvPr/>
        </p:nvSpPr>
        <p:spPr>
          <a:xfrm>
            <a:off x="1042920" y="404640"/>
            <a:ext cx="69850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) HODNOTENIE KVALITATÍVNYCH KRITÉRI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K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NOSTI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 Z PREDCHÁDZAJÚCICH VÝZIE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opulárne opatrenia (najmä 1.3.1 CR a 1.7.1 Ľudia ľuďo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artnerstvo orientované na výsledky (optimálny počet partnerov, finančná stabilita, dôvera, ak nie – dôsledkom sú výrazné zmeny v projekte a následná zhoršená implementácia a dosahovanie indikátorov resp. odstúpenie partnerov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Komunikácia medzi partnermi – hierarchická a vertikál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Finančná kríza (5% vlastné spolufinancovanie, platby formou refundáci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N+3/2 – pravidlo čerpania v rámci programu – nesplnenie vedie k finančným sankciám; ust. v Zmluve            o ER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artner Progres Report/Monitorovacia správa na úrovni projektu – žiada sa dôsledné vypracovan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Indikátory (výsledky a výstupy) – precízne plánovani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ublicita – logo EÚ a programu, slogan, referencie na web a odkaz; informačná tabuľa/plaketa (nad 500.000 EUR) – pomoc a rady poskytuje komunikačný manažér 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PREŠTUDUJTE S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9528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DOKUMENTY 5. výzv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Výzva na predkladanie projekto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Príručka pre žiadateľo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Prílohy Žiadosti o FP (opatrenia TUR a R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Príručka na vypracovanie formuláru Žiadosti o FP (SK/HU verzia) –   IMIS príruč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Príručka pre prijímateľa (dostupné na www.husk-cbc.eu,                       časť „Na stiahnutie“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Formuláre na hodnotenie jednotlivých kritéri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Odporúčaná štruktúra Štúdie uskutočniteľ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67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8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9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NEZABUDNI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Oprávnenosť aktiví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Oprávnenosť žiadateľov – zoznam v Príručke                     pre žiadateľ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Anglický jazyk – oficiálny jazyk Progra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Žiadosť o FP vyplnená </a:t>
            </a:r>
            <a:r>
              <a:rPr b="0" lang="sk-SK" sz="2400" spc="-1" strike="noStrike">
                <a:solidFill>
                  <a:srgbClr val="cc3300"/>
                </a:solidFill>
                <a:latin typeface="Arial"/>
              </a:rPr>
              <a:t>bilinguálne v HU/SK jazykoch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Rozpočet – oprávnenosť, opodstatnenosť, metóda kalkulác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Vlastné spolufinancovan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Refundá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Kritériá podania ŽoP - nie je možné doplnenie/opra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5. VÝZVA</a:t>
            </a:r>
            <a:r>
              <a:rPr b="0" lang="sk-SK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u-HU" sz="3600" spc="-1" strike="noStrike">
                <a:solidFill>
                  <a:srgbClr val="000000"/>
                </a:solidFill>
                <a:latin typeface="Arial"/>
              </a:rPr>
              <a:t>NA PREDKLADANIE PROJEKTOV</a:t>
            </a: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ÝCH ŽIADOST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9528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Zverejnená: </a:t>
            </a: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3. apríla 20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Trvanie výzvy: 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5 týždň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Finančná čiastka: </a:t>
            </a: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11.816.023,06 </a:t>
            </a: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EUR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(ERD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termíny uzávierky podávania projektov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do 9. mája 2013 do 14:00 hod. 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elektro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do 15. mája 2013 (do polnoci)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 pošt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(osobne do 12.00h, poštou do 24.0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57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8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2" name=""/>
          <p:cNvGraphicFramePr/>
          <p:nvPr/>
        </p:nvGraphicFramePr>
        <p:xfrm>
          <a:off x="468360" y="1125360"/>
          <a:ext cx="8112240" cy="4681800"/>
        </p:xfrm>
        <a:graphic>
          <a:graphicData uri="http://schemas.openxmlformats.org/drawingml/2006/table">
            <a:tbl>
              <a:tblPr/>
              <a:tblGrid>
                <a:gridCol w="4608360"/>
                <a:gridCol w="3503880"/>
              </a:tblGrid>
              <a:tr h="625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ančné strop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ákup pozemko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. 10% </a:t>
                      </a: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celkového rozpočtu projekt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ípravné náklad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. 10% </a:t>
                      </a: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celkových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rávnených výdavkov príslušného partnera projekt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0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vádzkové a režijné náklady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. 25% z personálnych nákladov </a:t>
                      </a: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íslušného partnera projekt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7.3., 7.4., 7.5.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ýdavky vynaložené mimo oprávnené územi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. 10% </a:t>
                      </a: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celkového rozpočtu projekt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ákup budov, personálne náklad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obmedzená su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ROZPOČ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763640" y="55166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76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7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8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ČASTÉ FORMÁLNE CHYB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Chýba preklad do druhého jazyka - formulár ŽoFP, </a:t>
            </a:r>
            <a:br>
              <a:rPr sz="2400"/>
            </a:b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rílohy - SK/HU identick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Chýbajú povinné prílohy, resp. predložené len kópie bez overenia/podpisu – predpísaná for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Nesprávne, resp. nedostatočne vyplnený rozpočet (správnosť položiek,prepočty v HUF a kalkuláci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rojekt predložený v nesprávnom opatr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82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3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ČASTÉ OBSAHOVÉ CHYB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-  Nesplnená podmienka 5% vlastných zdroj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Nie sú splnené min. 2 kritériá spolupráce (zo 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Partner projektu nie je z oprávneného územia, resp. nemá právnu subjektivi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Nedostatočne popísané aktivity a výstupy projekt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Nákladové položky nie sú oprávnenými, resp. nie sú v súlade s trhovými cenami (nepodložené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Kvázi „jednostranné projekty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Nedostatočne skúsený projektový manaž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88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9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0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39640" y="314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000000"/>
                </a:solidFill>
                <a:latin typeface="Arial"/>
              </a:rPr>
              <a:t>Ďakujem za pozornosť </a:t>
            </a:r>
            <a:r>
              <a:rPr b="0" lang="sk-SK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br>
              <a:rPr sz="4000"/>
            </a:br>
            <a:br>
              <a:rPr sz="4000"/>
            </a:br>
            <a:r>
              <a:rPr b="0" lang="sk-SK" sz="2800" spc="-1" strike="noStrike" u="sng">
                <a:solidFill>
                  <a:srgbClr val="cc3300"/>
                </a:solidFill>
                <a:uFillTx/>
                <a:latin typeface="Wingdings"/>
                <a:ea typeface="Wingdings"/>
                <a:hlinkClick r:id="rId1"/>
              </a:rPr>
              <a:t>katarina.mihalova</a:t>
            </a:r>
            <a:r>
              <a:rPr b="0" lang="en-US" sz="2800" spc="-1" strike="noStrike" u="sng">
                <a:solidFill>
                  <a:srgbClr val="cc3300"/>
                </a:solidFill>
                <a:uFillTx/>
                <a:latin typeface="Wingdings"/>
                <a:ea typeface="Wingdings"/>
                <a:hlinkClick r:id="rId2"/>
              </a:rPr>
              <a:t>@</a:t>
            </a:r>
            <a:r>
              <a:rPr b="0" lang="sk-SK" sz="2800" spc="-1" strike="noStrike" u="sng">
                <a:solidFill>
                  <a:srgbClr val="cc3300"/>
                </a:solidFill>
                <a:uFillTx/>
                <a:latin typeface="Wingdings"/>
                <a:ea typeface="Wingdings"/>
                <a:hlinkClick r:id="rId3"/>
              </a:rPr>
              <a:t>husk-cbc.eu</a:t>
            </a:r>
            <a:br>
              <a:rPr sz="2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OTVORENÉ OBLASTI PODP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95280" y="9810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39280" y="836280"/>
            <a:ext cx="814716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Priorita 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2.1 Spoločné aktivity na podporu ochrany prírodného prostredi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2.1.1 výlučne - Obnoviteľné zdroje energ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2.3 Budovanie malej dopravnej infraštruktúry, cyklistických trás a verejná dopra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2.3.1 Budovanie malej cezhraničnej dopravnej infraštruktúry a cyklistických trá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2.3.2 Rozvoj verejnej doprav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2.4 Zlepšenie cezhraničnej dostupnosti cez hraničné rie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2.4.1 Zlepšenie cezhraničnej dostupnosti cez hraničné rie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2.4.2 Štúdie a plá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64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5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TYPY/ TRVANIE PROJEKTO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1504800"/>
            <a:ext cx="8496360" cy="43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300" spc="-1" strike="noStrike">
                <a:solidFill>
                  <a:srgbClr val="cc3300"/>
                </a:solidFill>
                <a:latin typeface="Arial"/>
              </a:rPr>
              <a:t>ukončenie najneskôr </a:t>
            </a:r>
            <a:r>
              <a:rPr b="1" lang="sk-SK" sz="2300" spc="-1" strike="noStrike">
                <a:solidFill>
                  <a:srgbClr val="cc3300"/>
                </a:solidFill>
                <a:latin typeface="Arial"/>
              </a:rPr>
              <a:t>do 30.6.2015, </a:t>
            </a:r>
            <a:r>
              <a:rPr b="0" lang="sk-SK" sz="2300" spc="-1" strike="noStrike">
                <a:solidFill>
                  <a:srgbClr val="cc3300"/>
                </a:solidFill>
                <a:latin typeface="Arial"/>
              </a:rPr>
              <a:t>výnimka pre 2.1.1 (OZE)    </a:t>
            </a:r>
            <a:r>
              <a:rPr b="1" lang="sk-SK" sz="2300" spc="-1" strike="noStrike">
                <a:solidFill>
                  <a:srgbClr val="cc3300"/>
                </a:solidFill>
                <a:latin typeface="Arial"/>
              </a:rPr>
              <a:t>trvanie max. 12 me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Neinvestičné/soft projekty – odporúčanie max. 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12 mes. avšak najneskôr do 30.6.2015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inštalácia zariadení, príprava plánov a štúdií uskutočniteľnosti (2.1.1, </a:t>
            </a:r>
            <a:r>
              <a:rPr b="0" i="1" lang="sk-SK" sz="2300" spc="-1" strike="noStrike">
                <a:solidFill>
                  <a:srgbClr val="000000"/>
                </a:solidFill>
                <a:latin typeface="Arial"/>
              </a:rPr>
              <a:t>2.3.1</a:t>
            </a: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sk-SK" sz="2300" spc="-1" strike="noStrike">
                <a:solidFill>
                  <a:srgbClr val="000000"/>
                </a:solidFill>
                <a:latin typeface="Arial"/>
              </a:rPr>
              <a:t>2.3.2</a:t>
            </a: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 a 2.4.2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Investičné projekty (BL5 nad 25.000EUR a/alebo BL6) – odporúčanie max. 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24 mes. avšak najneskôr do 30.6.2015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- stavebné a rekonštrukčné práce, obnoviteľné zdroje energie, dopravná infraštruktúra (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 2.1.1, 2.3.1</a:t>
            </a: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2.3.2</a:t>
            </a: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70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1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OPRÁVNENÉ ÚZEMIE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94920" y="980640"/>
            <a:ext cx="82184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Slovensk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Samosprávne kraje (5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atislavsk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navsk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itriansk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nskobystrick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ošick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Maďarsk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Župy (7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yőr-Moson-Sopr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omárom-Esztergo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ógrá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v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sod-Abaúj-Zemplé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zabolcs-Szatmár- Bere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a mesto Budap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husk map"/>
          <p:cNvPicPr/>
          <p:nvPr/>
        </p:nvPicPr>
        <p:blipFill>
          <a:blip r:embed="rId1"/>
          <a:stretch/>
        </p:blipFill>
        <p:spPr>
          <a:xfrm>
            <a:off x="3492360" y="1413000"/>
            <a:ext cx="5461200" cy="38592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452760" y="5445000"/>
            <a:ext cx="565632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Projekty sa musia realizovať v oprávnenom území a musia mať pozitívny dopad na OÚ (výnimka 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10%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mimo OÚ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78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9" name="" descr=""/>
            <p:cNvPicPr/>
            <p:nvPr/>
          </p:nvPicPr>
          <p:blipFill>
            <a:blip r:embed="rId2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" name="" descr=""/>
            <p:cNvPicPr/>
            <p:nvPr/>
          </p:nvPicPr>
          <p:blipFill>
            <a:blip r:embed="rId3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OPRÁVNENÍ ŽIADATEL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len právnické oso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sídlo alebo pobočka v oprávnenom území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VÚC, mestá a obce, združenia, štátne orgány a nimi založené organizác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súkromné spoločnosti s verejnou účasť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európske zoskupenia územnej spoluprá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mimovládne organizácie a in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Viac info - Príručka pre žiadateľov, príloha 1A a 1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84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5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PARTNERSTV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oprávnení partneri z oboch strán štátnej hran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povinný minimálne 1 oprávnený partner z druhej strany štátnej hran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vyrovnané partnerstvo – rovnomerné delenie úloh, zodpovedností a aktiví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princíp vedúceho partnera (PV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90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1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KATEGÓRIE PARTNEROV</a:t>
            </a:r>
            <a:r>
              <a:rPr b="0" lang="sk-SK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500" spc="-1" strike="noStrike">
                <a:solidFill>
                  <a:srgbClr val="000000"/>
                </a:solidFill>
                <a:latin typeface="Arial"/>
              </a:rPr>
              <a:t>podľa povinností, úloh a zodpovedností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Vedúci partner - V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Projektoví partneri - P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domáci partner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cezhraniční partne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hlavný cezhraničný partner – len na 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000000"/>
                </a:solidFill>
                <a:latin typeface="Arial"/>
              </a:rPr>
              <a:t>Pridružení partneri - PD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PRINCÍP VEDÚCEHO PARTNE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6868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redkladá Žiadosť o FP, PP za všetkých partner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odpisuje Zmluvu o pridelení FP z ER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distribuuje finančný príspevok z ERDF medzi partnermi</a:t>
            </a:r>
            <a:br>
              <a:rPr sz="2400"/>
            </a:b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 z HU aj 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komunikuje s orgánmi Programu – SMV, RO, CO, </a:t>
            </a:r>
            <a:br>
              <a:rPr sz="2400"/>
            </a:b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 AA, NO, 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nesie zodpovednosť za celkovú koordináciu a realizáciu</a:t>
            </a:r>
            <a:br>
              <a:rPr sz="2400"/>
            </a:b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 projektu aj za aktivity vykonávané jednotlivými partnerm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redkladá súhrnné žiadosti o platbu a monitorovacie </a:t>
            </a:r>
            <a:br>
              <a:rPr sz="2400"/>
            </a:b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 správy za celé partnerstvo 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98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9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7T07:53:10Z</dcterms:created>
  <dc:creator>BakoAgnes</dc:creator>
  <dc:description/>
  <dc:language>en-US</dc:language>
  <cp:lastModifiedBy>katarinamihalova</cp:lastModifiedBy>
  <dcterms:modified xsi:type="dcterms:W3CDTF">2013-04-16T15:01:43Z</dcterms:modified>
  <cp:revision>135</cp:revision>
  <dc:subject/>
  <dc:title>1. dia</dc:title>
</cp:coreProperties>
</file>