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CBE22EB-629E-4DDB-A6AB-9026DF1C8E3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E952D0C-036B-485E-AB53-C1BB85DEF9A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F0E5-4C4C-4DBC-9E1D-74C04216C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99BF-D75B-49B5-977D-1256C5FD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C7CC-C7FB-4222-B3BC-F68BA7075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45CA-F5CF-44FE-8A64-EEB989EBB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4779-9CCD-4B99-92F6-CEBBC861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338B-E015-46A9-A6BB-73CE4F5C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605D-A995-4492-983D-1A0A9F0B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8EFF-C704-4106-A2E9-F83426FE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24B4-1A79-402F-8A85-E36DCD1B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99FA-05A6-4D40-A2B0-EE204756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EF65-976D-42EC-B7F6-8C94821F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2AD7-7DC9-4AA7-B9DA-3CA27ADD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FCA4-5982-4E97-B00C-36A772C65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katarina.mihalova@husk-cbc.eu" TargetMode="External"/><Relationship Id="rId2" Type="http://schemas.openxmlformats.org/officeDocument/2006/relationships/hyperlink" Target="mailto:katarina.mihalova@husk-cbc.eu" TargetMode="External"/><Relationship Id="rId3" Type="http://schemas.openxmlformats.org/officeDocument/2006/relationships/hyperlink" Target="mailto:katarina.mihalova@husk-cbc.e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tarína Mihaľ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U-SK J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čný seminár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Banská Bystrica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ňa 18. apríla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. VÝZVA NA PREDKLADANIE PROJEKTO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ÝCH ŽIADOSTÍ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 SPOLU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dpora spoločnýc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álne pravidlá na realizáciu OP cezhranič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povinnosť splniť 2 z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príprava (proj. nápady, stretnut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realizácia (aspoň 1 hlavná aktiv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ý personál (aspoň 1 kmeň.zam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é financovanie (aspoň 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ŠTRUKTÚRA PROGRA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57120" y="1125360"/>
          <a:ext cx="8229600" cy="493272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571400"/>
                <a:gridCol w="3800520"/>
              </a:tblGrid>
              <a:tr h="7909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R I O R I T NÁ O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Ť PODPORY –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2400"/>
                      </a:b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oločné aktivity na podporu ochrany prírodného prostr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ATRENIE –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dné a odpadové hospodárstvo a obnoviteľné zdroje ener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ITA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štalácia zariadení zvyšujúcich energetickú účinnosť s využitím obnoviteľných zdrojov energie  na verejných budovách (školy, nemocnice, obecné úrady atď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ODNOTEN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, sub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1989000"/>
          <a:ext cx="8229600" cy="3864240"/>
        </p:xfrm>
        <a:graphic>
          <a:graphicData uri="http://schemas.openxmlformats.org/drawingml/2006/table">
            <a:tbl>
              <a:tblPr/>
              <a:tblGrid>
                <a:gridCol w="3024360"/>
                <a:gridCol w="2462040"/>
                <a:gridCol w="27432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/ Kritéri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dpovedný or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pracujúci orgá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) FORMÁLNE</a:t>
                      </a:r>
                      <a:br>
                        <a:rPr sz="1800"/>
                      </a:b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itéria podania Žo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álne kritéri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kritériá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ériá oprávne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ALITATÍV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; externí hodnotite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) HODNOTENIE FOR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9600" y="1571760"/>
            <a:ext cx="59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 PODANIA ŽIADOSTI 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aná v termíne elektronicky + papierová verzia prílo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hlásenie VP a Deklarácia o partners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4857840" y="26431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ÁLNE KRIT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vinné prílohy podané v predpísanej forme (soft projekty A1,2,3/investičné projekty A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615760" y="3219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82880" y="3213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 flipH="1">
            <a:off x="755640" y="2781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1979640" y="2781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3780000" y="3573360"/>
            <a:ext cx="93636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4574880" y="4437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450120" y="4437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Dopln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 flipH="1">
            <a:off x="5364000" y="3933720"/>
            <a:ext cx="935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630072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5727240" y="566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7383600" y="5589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"/>
          <p:cNvSpPr/>
          <p:nvPr/>
        </p:nvSpPr>
        <p:spPr>
          <a:xfrm flipH="1">
            <a:off x="6300360" y="494172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7093080" y="49417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36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5867280" y="6344280"/>
              <a:ext cx="316728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179280" y="6286320"/>
              <a:ext cx="2880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-126360" y="1643040"/>
            <a:ext cx="37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4 KRITÉRIÁ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ý person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003640" y="257184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OPRÁVN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rávnenosť žiadateľov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. 1 oprávnený partner z druhej strany hranice, sídlo v oprávnenom území, aktivity a štruktú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 súlad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 Príručkou pre opatr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615760" y="3795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82880" y="37958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H="1">
            <a:off x="755280" y="321300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1908000" y="3213000"/>
            <a:ext cx="115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3995640" y="4149720"/>
            <a:ext cx="93672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151240" y="5445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716796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 flipH="1">
            <a:off x="586728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680400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2627280" y="4508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ukázané splnenie min.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) HODNOTENIE MINI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250920" y="4508640"/>
            <a:ext cx="158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splnené ani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14200" y="1285920"/>
          <a:ext cx="8569440" cy="5132520"/>
        </p:xfrm>
        <a:graphic>
          <a:graphicData uri="http://schemas.openxmlformats.org/drawingml/2006/table">
            <a:tbl>
              <a:tblPr/>
              <a:tblGrid>
                <a:gridCol w="6193080"/>
                <a:gridCol w="1152360"/>
                <a:gridCol w="1224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PROJEKTOVÉHO ZÁM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úlad zamerania projektu s rozvojovými stratégia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levant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Kritériá cezhraničnej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Prínos a inovatívnosť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artnerst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Udržateľ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ZABEZPEČENIA REALIZÁCIE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Uskutočniteľnos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Manažmen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Financi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Plán aktiví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Horizontálne princíp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AHNUTEĽNÝ POČET B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58" name="Text Box 67"/>
          <p:cNvSpPr/>
          <p:nvPr/>
        </p:nvSpPr>
        <p:spPr>
          <a:xfrm>
            <a:off x="6657480" y="1341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x.           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1"/>
          <p:cNvSpPr/>
          <p:nvPr/>
        </p:nvSpPr>
        <p:spPr>
          <a:xfrm>
            <a:off x="1042920" y="404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HODNOTENIE KVALITATÍV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OS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Z PREDCHÁDZAJÚCICH VÝZ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rne opatrenia (najmä 1.3.1 CR a 1.7.1 Ľudia ľuď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stvo orientované na výsledky (optimálny počet partnerov, finančná stabilita, dôvera, ak nie – dôsledkom sú výrazné zmeny v projekte a následná zhoršená implementácia a dosahovanie indikátorov resp. odstúpenie partner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ácia medzi partnermi – hierarchická a verti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ančná kríza (5% vlastné spolufinancovanie, platby formou refund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+3/2 – pravidlo čerpania v rámci programu – nesplnenie vedie k finančným sankciám; ust. v Zmluve            o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 Progres Report/Monitorovacia správa na úrovni projektu – žiada sa dôsledné vypra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kátory (výsledky a výstupy) – precízne plánov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ublicita – logo EÚ a programu, slogan, referencie na web a odkaz; informačná tabuľa/plaketa (nad 500.000 EUR) – pomoc a rady poskytuje komunikačný manažér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EŠTUDUJTE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KUMENTY 5.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zva na predkladanie projekt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žiadateľ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lohy Žiadosti o FP (opatrenia TUR a 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na vypracovanie formuláru Žiadosti o FP (SK/HU verzia) –   IMIS príru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prijímateľa (dostupné na www.husk-cbc.eu,                       časť „Na stiahnutie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ormuláre na hodnotenie jednotlivých kritér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porúčaná štruktúra Štúdie uskutočniteľ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NEZABUD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žiadateľov – zoznam v Príručke                    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nglický jazyk – oficiálny jazyk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osť o FP vyplnená </a:t>
            </a:r>
            <a:r>
              <a:rPr b="0" lang="sk-SK" sz="2400" spc="-1" strike="noStrike">
                <a:solidFill>
                  <a:srgbClr val="cc3300"/>
                </a:solidFill>
                <a:latin typeface="Arial"/>
              </a:rPr>
              <a:t>bilinguálne v HU/SK jazykoch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očet – oprávnenosť, opodstatnenosť, metóda kalk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astné spolufinan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und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á podania ŽoP - nie je možné doplnenie/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5. VÝZV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NA PREDKLADANIE PROJEKTOV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ÝCH 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verejnená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3. apríla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vanie výzvy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5 týždň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inančná čiastka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11.816.023,06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ER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rmíny uzávierky podávania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9. mája 2013 do 14:00 hod.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lektro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15. mája 2013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oš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osobne do 12.00h, poštou do 24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68360" y="1125360"/>
          <a:ext cx="8112240" cy="4681800"/>
        </p:xfrm>
        <a:graphic>
          <a:graphicData uri="http://schemas.openxmlformats.org/drawingml/2006/table">
            <a:tbl>
              <a:tblPr/>
              <a:tblGrid>
                <a:gridCol w="4608360"/>
                <a:gridCol w="3503880"/>
              </a:tblGrid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é stro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pozem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pravné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ý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ávnených výdavkov 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ádzkové a režijné nákl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25% z personálnych nákladov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3., 7.4., 7.5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vky vynaložené mimo oprávnené územ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budov, personálne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bmedzená 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FORMÁLNE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 preklad do druhého jazyka - formulár ŽoFP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y - SK/HU iden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jú povinné prílohy, resp. predložené len kópie bez overenia/podpisu – predpísan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právne, resp. nedostatočne vyplnený rozpočet (správnosť položiek,prepočty v HUF a kalkul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jekt predložený v nesprávnom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2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OBSAHOVÉ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Nesplnená podmienka 5% vlast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e sú splnené min. 2 kritériá spolupráce (zo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tner projektu nie je z oprávneného územia, resp. nemá právnu subjektiv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popísané aktivity a výstupy projek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kladové položky nie sú oprávnenými, resp. nie sú v súlade s trhovými cenami (nepodlože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ázi „jednostranné projek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skúsený projektový manaž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Ďakujem za pozornosť </a:t>
            </a:r>
            <a:r>
              <a:rPr b="0" lang="sk-SK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4000"/>
            </a:br>
            <a:br>
              <a:rPr sz="4000"/>
            </a:b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1"/>
              </a:rPr>
              <a:t>katarina.mihalova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2"/>
              </a:rPr>
              <a:t>@</a:t>
            </a: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3"/>
              </a:rPr>
              <a:t>husk-cbc.eu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TVORENÉ OBLASTI PODP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9280" y="836280"/>
            <a:ext cx="814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orita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1 Spoločné aktivity na podporu ochrany prírodného prostr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1.1 výlučne - Obnoviteľné zdroje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3 Budovanie malej dopravnej infraštruktúry, cyklistických trás a verejná d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1 Budovanie malej cezhraničnej dopravnej infraštruktúry a cyklistických tr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2 Rozvoj verejnej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4 Zlepšenie cezhraničnej dostupnosti cez hraničné rie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1 Zlepšenie cezhraničnej dostupnosti cez hraničné rie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2 Štúdie a pl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TYPY/ TRVANIE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504800"/>
            <a:ext cx="849636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ukončenie najneskôr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do 30.6.2015,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výnimka pre 2.1.1 (OZE)   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trvanie max. 12 m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einvestičné/soft projekty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12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štalácia zariadení, príprava plánov a štúdií uskutočniteľnosti (2.1.1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2.4.2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vestičné projekty (BL5 nad 25.000EUR a/alebo BL6)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24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- stavebné a rekonštrukčné práce, obnoviteľné zdroje energie, dopravná infraštruktúra (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2.1.1, 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É ÚZEMI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správne kraje 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islavs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ians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skobys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ď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upy (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őr-Moson-Sop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árom-Eszterg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gr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od-Abaúj-Zempl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olcs-Szatmár- Ber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mesto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usk map"/>
          <p:cNvPicPr/>
          <p:nvPr/>
        </p:nvPicPr>
        <p:blipFill>
          <a:blip r:embed="rId1"/>
          <a:stretch/>
        </p:blipFill>
        <p:spPr>
          <a:xfrm>
            <a:off x="3492360" y="1413000"/>
            <a:ext cx="5461200" cy="385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52760" y="5445000"/>
            <a:ext cx="565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jekty sa musia realizovať v oprávnenom území a musia mať pozitívny dopad na OÚ (výnimk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mimo O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 právnické os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ídlo alebo pobočka v oprávnenom úze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ÚC, mestá a obce, združenia, štátne orgány a nimi založené organiz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úkromné spoločnosti s verejnou účasť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urópske zoskupenia územ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movládne organizácie a 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iac info - Príručka pre žiadateľov, príloha 1A a 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právnení partneri z oboch strán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vinný minimálne 1 oprávnený partner z druhej strany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rovnané partnerstvo – rovnomerné delenie úloh, zodpovedností a aktiv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ncíp vedúceho partnera (PV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ATEGÓRIE PARTNER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Arial"/>
              </a:rPr>
              <a:t>podľa povinností, úloh a zodpovednost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i partner -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jektoví partneri -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áci partn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zhraniční part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lavný cezhraničný partner – len na 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idružení partneri -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INCÍP VEDÚCEHO PARTN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Žiadosť o FP, PP za všetkých partne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dpisuje Zmluvu o pridelení FP z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istribuuje finančný príspevok z ERDF medzi partnermi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z HU aj 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uje s orgánmi Programu – SMV, RO, CO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AA, NO,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ie zodpovednosť za celkovú koordináciu a realizáciu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projektu aj za aktivity vykonávané jednotlivými partner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súhrnné žiadosti o platbu a monitorovacie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správy za celé partnerstvo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katarinamihalova</cp:lastModifiedBy>
  <dcterms:modified xsi:type="dcterms:W3CDTF">2013-04-16T15:01:43Z</dcterms:modified>
  <cp:revision>135</cp:revision>
  <dc:subject/>
  <dc:title>1. dia</dc:title>
</cp:coreProperties>
</file>