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4731061-8DE3-466D-9B17-564989D4F88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1923D6C-A945-4787-BDE1-54BB30442F7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3903-DAD1-42E8-8D33-3B5DAC662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2356-D361-4DE5-A5BC-D560B5CC6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2AEC-277E-4DE4-A370-9361250E2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68F6-6766-4B08-86A8-4D89B625A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630D-DFAC-41E1-8658-94BF4B54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88D51-EE6C-4B1E-BAA6-26FD6EC2D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721D-01D1-4B24-8D0B-415303DE2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5F58-8537-4353-AE1B-24E443E7D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DA82-B336-4D94-A226-E3BB2E6C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36FC-06DE-42BE-9E84-EDF04AF0B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77090-E27E-4F3B-9CA4-A937653AC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3D06-9E17-4761-AFCC-EBE87FFA1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C272A-D2B6-49D0-89B7-927B1B493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hyperlink" Target="mailto:katarina.mihalova@husk-cbc.eu" TargetMode="External"/><Relationship Id="rId2" Type="http://schemas.openxmlformats.org/officeDocument/2006/relationships/hyperlink" Target="mailto:katarina.mihalova@husk-cbc.eu" TargetMode="External"/><Relationship Id="rId3" Type="http://schemas.openxmlformats.org/officeDocument/2006/relationships/hyperlink" Target="mailto:katarina.mihalova@husk-cbc.eu" TargetMode="External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476360" y="3860640"/>
            <a:ext cx="64008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atarína Mihaľov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HU-SK J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rm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čný seminár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, Banská Bystrica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dňa 18. apríla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61128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spcBef>
                <a:spcPts val="751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1" lang="hu-HU" sz="3600" spc="-1" strike="noStrike">
                <a:solidFill>
                  <a:srgbClr val="ffffff"/>
                </a:solidFill>
                <a:latin typeface="Arial"/>
              </a:rPr>
              <a:t>. VÝZVA NA PREDKLADANIE PROJEKTOV</a:t>
            </a:r>
            <a:r>
              <a:rPr b="1" lang="sk-SK" sz="3600" spc="-1" strike="noStrike">
                <a:solidFill>
                  <a:srgbClr val="ffffff"/>
                </a:solidFill>
                <a:latin typeface="Arial"/>
              </a:rPr>
              <a:t>ÝCH ŽIADOSTÍ</a:t>
            </a:r>
            <a:br>
              <a:rPr sz="12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 SPOLUPRÁ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dpora spoločných projekt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špeciálne pravidlá na realizáciu OP cezhranič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povinnosť splniť 2 zo 4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príprava (proj. nápady, stretnuti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á realizácia (aspoň 1 hlavná aktivi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ý personál (aspoň 1 kmeň.zam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poločné financovanie (aspoň 5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ŠTRUKTÚRA PROGRAM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57120" y="1125360"/>
          <a:ext cx="8229600" cy="4932720"/>
        </p:xfrm>
        <a:graphic>
          <a:graphicData uri="http://schemas.openxmlformats.org/drawingml/2006/table">
            <a:tbl>
              <a:tblPr/>
              <a:tblGrid>
                <a:gridCol w="1428840"/>
                <a:gridCol w="1428840"/>
                <a:gridCol w="1571400"/>
                <a:gridCol w="3800520"/>
              </a:tblGrid>
              <a:tr h="790920"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 R I O R I T NÁ OS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BLASŤ PODPORY –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br>
                        <a:rPr sz="2400"/>
                      </a:b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poločné aktivity na podporu ochrany prírodného prostred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PATRENIE – </a:t>
                      </a:r>
                      <a:r>
                        <a:rPr b="1" lang="hu-HU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.1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   </a:t>
                      </a:r>
                      <a:r>
                        <a:rPr b="1" i="1" lang="hu-HU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odné a odpadové hospodárstvo a obnoviteľné zdroje energ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11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KTIVITA </a:t>
                      </a:r>
                      <a:r>
                        <a:rPr b="1" lang="hu-HU" sz="24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sk-SK" sz="16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nštalácia zariadení zvyšujúcich energetickú účinnosť s využitím obnoviteľných zdrojov energie  na verejných budovách (školy, nemocnice, obecné úrady atď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0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HODNOTENIE </a:t>
            </a:r>
            <a:br>
              <a:rPr sz="3600"/>
            </a:b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ritériá, subjek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395280" y="1989000"/>
          <a:ext cx="8229600" cy="3864240"/>
        </p:xfrm>
        <a:graphic>
          <a:graphicData uri="http://schemas.openxmlformats.org/drawingml/2006/table">
            <a:tbl>
              <a:tblPr/>
              <a:tblGrid>
                <a:gridCol w="3024360"/>
                <a:gridCol w="2462040"/>
                <a:gridCol w="2743200"/>
              </a:tblGrid>
              <a:tr h="1039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/ Kritéri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odpovedný orgá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polupracujúci orgán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74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a) FORMÁLNE</a:t>
                      </a:r>
                      <a:br>
                        <a:rPr sz="1800"/>
                      </a:b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kritéria podania ŽoF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 formálne kritériá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b) </a:t>
                      </a:r>
                      <a:r>
                        <a:rPr b="1" lang="en-GB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NIMÁL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kritériá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buClr>
                          <a:srgbClr val="000000"/>
                        </a:buClr>
                        <a:buFont typeface="Arial"/>
                        <a:buChar char="-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ritériá oprávnenost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) </a:t>
                      </a:r>
                      <a:r>
                        <a:rPr b="1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VALITATÍV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TS; externí hodnotiteli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1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3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a) HODNOTENIE FOR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219600" y="1571760"/>
            <a:ext cx="592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 PODANIA ŽIADOSTI O 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daná v termíne elektronicky + papierová verzia príloh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ehlásenie VP a Deklarácia o partnerst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4857840" y="2643120"/>
            <a:ext cx="42861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FORMÁLNE KRITÉ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ovinné prílohy podané v predpísanej forme (soft projekty A1,2,3/investičné projekty A1-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615760" y="3219480"/>
            <a:ext cx="111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82880" y="3213000"/>
            <a:ext cx="13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8"/>
          <p:cNvSpPr/>
          <p:nvPr/>
        </p:nvSpPr>
        <p:spPr>
          <a:xfrm flipH="1">
            <a:off x="755640" y="2781360"/>
            <a:ext cx="122400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9"/>
          <p:cNvSpPr/>
          <p:nvPr/>
        </p:nvSpPr>
        <p:spPr>
          <a:xfrm>
            <a:off x="1979640" y="2781360"/>
            <a:ext cx="115236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0"/>
          <p:cNvSpPr/>
          <p:nvPr/>
        </p:nvSpPr>
        <p:spPr>
          <a:xfrm>
            <a:off x="3780000" y="3573360"/>
            <a:ext cx="93636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1"/>
          <p:cNvSpPr/>
          <p:nvPr/>
        </p:nvSpPr>
        <p:spPr>
          <a:xfrm>
            <a:off x="4574880" y="4437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2"/>
          <p:cNvSpPr/>
          <p:nvPr/>
        </p:nvSpPr>
        <p:spPr>
          <a:xfrm>
            <a:off x="6450120" y="4437000"/>
            <a:ext cx="128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ffff00"/>
                </a:solidFill>
                <a:latin typeface="Arial"/>
              </a:rPr>
              <a:t>Dopln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3"/>
          <p:cNvSpPr/>
          <p:nvPr/>
        </p:nvSpPr>
        <p:spPr>
          <a:xfrm flipH="1">
            <a:off x="5364000" y="3933720"/>
            <a:ext cx="935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4"/>
          <p:cNvSpPr/>
          <p:nvPr/>
        </p:nvSpPr>
        <p:spPr>
          <a:xfrm>
            <a:off x="6300720" y="3933720"/>
            <a:ext cx="71928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15"/>
          <p:cNvSpPr/>
          <p:nvPr/>
        </p:nvSpPr>
        <p:spPr>
          <a:xfrm>
            <a:off x="5727240" y="5661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16"/>
          <p:cNvSpPr/>
          <p:nvPr/>
        </p:nvSpPr>
        <p:spPr>
          <a:xfrm>
            <a:off x="7383600" y="558972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7"/>
          <p:cNvSpPr/>
          <p:nvPr/>
        </p:nvSpPr>
        <p:spPr>
          <a:xfrm flipH="1">
            <a:off x="6300360" y="4941720"/>
            <a:ext cx="792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8"/>
          <p:cNvSpPr/>
          <p:nvPr/>
        </p:nvSpPr>
        <p:spPr>
          <a:xfrm>
            <a:off x="7093080" y="4941720"/>
            <a:ext cx="93636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0" y="6165720"/>
            <a:ext cx="9144000" cy="692280"/>
            <a:chOff x="0" y="6165720"/>
            <a:chExt cx="9144000" cy="692280"/>
          </a:xfrm>
        </p:grpSpPr>
        <p:sp>
          <p:nvSpPr>
            <p:cNvPr id="136" name=""/>
            <p:cNvSpPr/>
            <p:nvPr/>
          </p:nvSpPr>
          <p:spPr>
            <a:xfrm>
              <a:off x="0" y="6165720"/>
              <a:ext cx="9144000" cy="692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5867280" y="6344280"/>
              <a:ext cx="3167280" cy="4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" descr=""/>
            <p:cNvPicPr/>
            <p:nvPr/>
          </p:nvPicPr>
          <p:blipFill>
            <a:blip r:embed="rId2"/>
            <a:stretch/>
          </p:blipFill>
          <p:spPr>
            <a:xfrm>
              <a:off x="179280" y="6286320"/>
              <a:ext cx="2880000" cy="571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-126360" y="1643040"/>
            <a:ext cx="37868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4 KRITÉRIÁ SPOLUPRÁ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prípra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á realizácia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ý personál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Spoločné financovanie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5003640" y="2571840"/>
            <a:ext cx="414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KRITÉRIA</a:t>
            </a:r>
            <a:r>
              <a:rPr b="1" lang="hu-HU" sz="1800" spc="-1" strike="noStrike" u="sng">
                <a:solidFill>
                  <a:srgbClr val="000000"/>
                </a:solidFill>
                <a:uFillTx/>
                <a:latin typeface="Arial"/>
              </a:rPr>
              <a:t> OPRÁVNE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oprávnenosť žiadateľov,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min. 1 oprávnený partner z druhej strany hranice, sídlo v oprávnenom území, aktivity a štruktúra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v súlade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s Príručkou pre opatr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615760" y="379584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182880" y="379584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8"/>
          <p:cNvSpPr/>
          <p:nvPr/>
        </p:nvSpPr>
        <p:spPr>
          <a:xfrm flipH="1">
            <a:off x="755280" y="321300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9"/>
          <p:cNvSpPr/>
          <p:nvPr/>
        </p:nvSpPr>
        <p:spPr>
          <a:xfrm>
            <a:off x="1908000" y="3213000"/>
            <a:ext cx="115128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0"/>
          <p:cNvSpPr/>
          <p:nvPr/>
        </p:nvSpPr>
        <p:spPr>
          <a:xfrm>
            <a:off x="3995640" y="4149720"/>
            <a:ext cx="936720" cy="0"/>
          </a:xfrm>
          <a:prstGeom prst="line">
            <a:avLst/>
          </a:prstGeom>
          <a:ln w="25560">
            <a:solidFill>
              <a:srgbClr val="008000"/>
            </a:solidFill>
            <a:prstDash val="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1"/>
          <p:cNvSpPr/>
          <p:nvPr/>
        </p:nvSpPr>
        <p:spPr>
          <a:xfrm>
            <a:off x="5151240" y="544500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ff"/>
                </a:solidFill>
                <a:latin typeface="Arial"/>
              </a:rPr>
              <a:t>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2"/>
          <p:cNvSpPr/>
          <p:nvPr/>
        </p:nvSpPr>
        <p:spPr>
          <a:xfrm>
            <a:off x="7167960" y="54450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ff3300"/>
                </a:solidFill>
                <a:latin typeface="Arial"/>
              </a:rPr>
              <a:t>Nevyhov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3"/>
          <p:cNvSpPr/>
          <p:nvPr/>
        </p:nvSpPr>
        <p:spPr>
          <a:xfrm flipH="1">
            <a:off x="586728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14"/>
          <p:cNvSpPr/>
          <p:nvPr/>
        </p:nvSpPr>
        <p:spPr>
          <a:xfrm>
            <a:off x="6804000" y="4653000"/>
            <a:ext cx="93672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5"/>
          <p:cNvSpPr/>
          <p:nvPr/>
        </p:nvSpPr>
        <p:spPr>
          <a:xfrm>
            <a:off x="2627280" y="4508640"/>
            <a:ext cx="15829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Preukázané splnenie min.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7"/>
          <p:cNvSpPr/>
          <p:nvPr/>
        </p:nvSpPr>
        <p:spPr>
          <a:xfrm>
            <a:off x="1116000" y="620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b) HODNOTENIE MINIMÁL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8"/>
          <p:cNvSpPr/>
          <p:nvPr/>
        </p:nvSpPr>
        <p:spPr>
          <a:xfrm>
            <a:off x="250920" y="4508640"/>
            <a:ext cx="1582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Nesplnené ani 2 zo spoločných kritérií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214200" y="1285920"/>
          <a:ext cx="8569440" cy="5132520"/>
        </p:xfrm>
        <a:graphic>
          <a:graphicData uri="http://schemas.openxmlformats.org/drawingml/2006/table">
            <a:tbl>
              <a:tblPr/>
              <a:tblGrid>
                <a:gridCol w="6193080"/>
                <a:gridCol w="1152360"/>
                <a:gridCol w="1224000"/>
              </a:tblGrid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PROJEKTOVÉHO ZÁME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. Súlad zamerania projektu s rozvojovými stratégiami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. Relevant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. Kritériá cezhraničnej spoluprá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Prínos a inovatívnosť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. Partnerstv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. Udržateľnosť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3682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DNOTENIE ZABEZPEČENIA REALIZÁCIE PROJEK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. Uskutočniteľnosť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 Manažmen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. Financie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. Plán aktivít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. Horizontálne princípy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SIAHNUTEĽNÝ POČET BODO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ccecff"/>
                    </a:solidFill>
                  </a:tcPr>
                </a:tc>
              </a:tr>
            </a:tbl>
          </a:graphicData>
        </a:graphic>
      </p:graphicFrame>
      <p:sp>
        <p:nvSpPr>
          <p:cNvPr id="158" name="Text Box 67"/>
          <p:cNvSpPr/>
          <p:nvPr/>
        </p:nvSpPr>
        <p:spPr>
          <a:xfrm>
            <a:off x="6657480" y="1341360"/>
            <a:ext cx="19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x.            M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71"/>
          <p:cNvSpPr/>
          <p:nvPr/>
        </p:nvSpPr>
        <p:spPr>
          <a:xfrm>
            <a:off x="1042920" y="404640"/>
            <a:ext cx="698508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 HODNOTENIE KVALITATÍVNYCH KRITÉRI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K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OSTI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 Z PREDCHÁDZAJÚCICH VÝZIE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pulárne opatrenia (najmä 1.3.1 CR a 1.7.1 Ľudia ľuď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stvo orientované na výsledky (optimálny počet partnerov, finančná stabilita, dôvera, ak nie – dôsledkom sú výrazné zmeny v projekte a následná zhoršená implementácia a dosahovanie indikátorov resp. odstúpenie partnerov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ácia medzi partnermi – hierarchická a vertikál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Finančná kríza (5% vlastné spolufinancovanie, platby formou refund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+3/2 – pravidlo čerpania v rámci programu – nesplnenie vedie k finančným sankciám; ust. v Zmluve            o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artner Progres Report/Monitorovacia správa na úrovni projektu – žiada sa dôsledné vypra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Indikátory (výsledky a výstupy) – precízne plánovani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ublicita – logo EÚ a programu, slogan, referencie na web a odkaz; informačná tabuľa/plaketa (nad 500.000 EUR) – pomoc a rady poskytuje komunikačný manažér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EŠTUDUJTE S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39528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DOKUMENTY 5. výz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Výzva na predkladanie projekt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žiadateľov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lohy Žiadosti o FP (opatrenia TUR a R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na vypracovanie formuláru Žiadosti o FP (SK/HU verzia) –   IMIS príruč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Príručka pre prijímateľa (dostupné na www.husk-cbc.eu,                       časť „Na stiahnutie“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Formuláre na hodnotenie jednotlivých kritéri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Odporúčaná štruktúra Štúdie uskutočniteľ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NEZABUDN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68360" y="141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aktiví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Oprávnenosť žiadateľov – zoznam v Príručke                     pre žiadateľ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Anglický jazyk – oficiálny jazyk Progra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Žiadosť o FP vyplnená </a:t>
            </a:r>
            <a:r>
              <a:rPr b="0" lang="sk-SK" sz="2400" spc="-1" strike="noStrike">
                <a:solidFill>
                  <a:srgbClr val="cc3300"/>
                </a:solidFill>
                <a:latin typeface="Arial"/>
              </a:rPr>
              <a:t>bilinguálne v HU/SK jazykoch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ozpočet – oprávnenosť, opodstatnenosť, metóda kalkulác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Vlastné spolufinancovan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Refund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ritériá podania ŽoP - nie je možné doplnenie/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5. VÝZVA</a:t>
            </a: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NA PREDKLADANIE PROJEKTOV</a:t>
            </a: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ÝCH 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9528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Zverejnená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3. apríla 201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rvanie výzvy: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5 týždň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Finančná čiastka: </a:t>
            </a:r>
            <a:r>
              <a:rPr b="1" lang="sk-SK" sz="3200" spc="-1" strike="noStrike">
                <a:solidFill>
                  <a:srgbClr val="000000"/>
                </a:solidFill>
                <a:latin typeface="Arial"/>
              </a:rPr>
              <a:t>11.816.023,06 </a:t>
            </a:r>
            <a:r>
              <a:rPr b="1" lang="hu-HU" sz="2800" spc="-1" strike="noStrike">
                <a:solidFill>
                  <a:srgbClr val="000000"/>
                </a:solidFill>
                <a:latin typeface="Arial"/>
              </a:rPr>
              <a:t>EUR</a:t>
            </a:r>
            <a:r>
              <a:rPr b="0" lang="hu-HU" sz="2800" spc="-1" strike="noStrike">
                <a:solidFill>
                  <a:srgbClr val="000000"/>
                </a:solidFill>
                <a:latin typeface="Arial"/>
              </a:rPr>
              <a:t> (ERD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termíny uzávierky podávania projektov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9. mája 2013 do 14:00 hod. 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lektro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do 15. mája 2013 (do polnoci)</a:t>
            </a: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 pošt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(osobne do 12.00h, poštou do 24.0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7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9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2" name=""/>
          <p:cNvGraphicFramePr/>
          <p:nvPr/>
        </p:nvGraphicFramePr>
        <p:xfrm>
          <a:off x="468360" y="1125360"/>
          <a:ext cx="8112240" cy="4681800"/>
        </p:xfrm>
        <a:graphic>
          <a:graphicData uri="http://schemas.openxmlformats.org/drawingml/2006/table">
            <a:tbl>
              <a:tblPr/>
              <a:tblGrid>
                <a:gridCol w="4608360"/>
                <a:gridCol w="3503880"/>
              </a:tblGrid>
              <a:tr h="625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sk-SK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čné strop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4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pozemko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pravné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ých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rávnených výdavkov 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vádzkové a režijné náklad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25% z personálnych nákladov </a:t>
                      </a:r>
                      <a:r>
                        <a:rPr b="0" lang="hu-HU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íslušného partnera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7.3., 7.4., 7.5.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davky vynaložené mimo oprávnené územi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k-SK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x. 10% </a:t>
                      </a:r>
                      <a:r>
                        <a:rPr b="0" lang="sk-SK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 celkového rozpočtu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kup budov, personálne náklad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u-HU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eobmedzená s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763640" y="55166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6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7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FORMÁLNE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 preklad do druhého jazyka - formulár ŽoFP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ílohy - SK/HU identick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Chýbajú povinné prílohy, resp. predložené len kópie bez overenia/podpisu – predpísaná for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právne, resp. nedostatočne vyplnený rozpočet (správnosť položiek,prepočty v HUF a kalkuláci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ojekt predložený v nesprávnom opatr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2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3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4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ČASTÉ OBSAHOVÉ CHY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-  Nesplnená podmienka 5% vlastných zdroj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ie sú splnené min. 2 kritériá spolupráce (zo 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artner projektu nie je z oprávneného územia, resp. nemá právnu subjektivi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popísané aktivity a výstupy projektu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ákladové položky nie sú oprávnenými, resp. nie sú v súlade s trhovými cenami (nepodložené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Kvázi „jednostranné projekty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Nedostatočne skúsený projektový manažmen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39640" y="3141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4000" spc="-1" strike="noStrike">
                <a:solidFill>
                  <a:srgbClr val="000000"/>
                </a:solidFill>
                <a:latin typeface="Arial"/>
              </a:rPr>
              <a:t>Ďakujem za pozornosť </a:t>
            </a:r>
            <a:r>
              <a:rPr b="0" lang="sk-SK" sz="40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br>
              <a:rPr sz="4000"/>
            </a:br>
            <a:br>
              <a:rPr sz="4000"/>
            </a:b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1"/>
              </a:rPr>
              <a:t>katarina.mihalova</a:t>
            </a:r>
            <a:r>
              <a:rPr b="0" lang="en-US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2"/>
              </a:rPr>
              <a:t>@</a:t>
            </a:r>
            <a:r>
              <a:rPr b="0" lang="sk-SK" sz="2800" spc="-1" strike="noStrike" u="sng">
                <a:solidFill>
                  <a:srgbClr val="cc3300"/>
                </a:solidFill>
                <a:uFillTx/>
                <a:latin typeface="Wingdings"/>
                <a:ea typeface="Wingdings"/>
                <a:hlinkClick r:id="rId3"/>
              </a:rPr>
              <a:t>husk-cbc.eu</a:t>
            </a:r>
            <a:br>
              <a:rPr sz="2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TVORENÉ OBLASTI PODP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95280" y="9810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39280" y="836280"/>
            <a:ext cx="8147160" cy="47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Priorita 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1 Spoločné aktivity na podporu ochrany prírodného prostredi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1.1 výlučne - Obnoviteľné zdroje energ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3 Budovanie malej dopravnej infraštruktúry, cyklistických trás a verejná dopra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1 Budovanie malej cezhraničnej dopravnej infraštruktúry a cyklistických trá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3.2 Rozvoj verejnej dopra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2.4 Zlepšenie cezhraničnej dostupnosti cez hraničné rie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1 Zlepšenie cezhraničnej dostupnosti cez hraničné rie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2.4.2 Štúdie a plán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TYPY/ TRVANIE PROJEKTO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1504800"/>
            <a:ext cx="8496360" cy="43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ukončenie najneskôr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do 30.6.2015, </a:t>
            </a:r>
            <a:r>
              <a:rPr b="0" lang="sk-SK" sz="2300" spc="-1" strike="noStrike">
                <a:solidFill>
                  <a:srgbClr val="cc3300"/>
                </a:solidFill>
                <a:latin typeface="Arial"/>
              </a:rPr>
              <a:t>výnimka pre 2.1.1 (OZE)    </a:t>
            </a:r>
            <a:r>
              <a:rPr b="1" lang="sk-SK" sz="2300" spc="-1" strike="noStrike">
                <a:solidFill>
                  <a:srgbClr val="cc3300"/>
                </a:solidFill>
                <a:latin typeface="Arial"/>
              </a:rPr>
              <a:t>trvanie max. 12 mes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Neinvestičné/soft projekty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12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štalácia zariadení, príprava plánov a štúdií uskutočniteľnosti (2.1.1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sk-SK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2.4.2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Investičné projekty (BL5 nad 25.000EUR a/alebo BL6) – odporúčanie max. </a:t>
            </a: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24 mes. avšak najneskôr do 30.6.2015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- stavebné a rekonštrukčné práce, obnoviteľné zdroje energie, dopravná infraštruktúra (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2.1.1, 2.3.1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2.3.2</a:t>
            </a:r>
            <a:r>
              <a:rPr b="0" lang="sk-SK" sz="23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É ÚZEMIE</a:t>
            </a:r>
            <a:r>
              <a:rPr b="1" lang="ja-JP" sz="3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218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loven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Samosprávne kraje (5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ratislavs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navsk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itrians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skobystrick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šick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aďars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Župy (7)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őr-Moson-Sopr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omárom-Eszterg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ógrá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v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rsod-Abaúj-Zemplé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zabolcs-Szatmár- Bere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a mesto Budap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husk map"/>
          <p:cNvPicPr/>
          <p:nvPr/>
        </p:nvPicPr>
        <p:blipFill>
          <a:blip r:embed="rId1"/>
          <a:stretch/>
        </p:blipFill>
        <p:spPr>
          <a:xfrm>
            <a:off x="3492360" y="1413000"/>
            <a:ext cx="5461200" cy="3859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3452760" y="5445000"/>
            <a:ext cx="56563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ojekty sa musia realizovať v oprávnenom území a musia mať pozitívny dopad na OÚ (výnimka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10%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mimo OÚ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9" name="" descr=""/>
            <p:cNvPicPr/>
            <p:nvPr/>
          </p:nvPicPr>
          <p:blipFill>
            <a:blip r:embed="rId2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0" name="" descr=""/>
            <p:cNvPicPr/>
            <p:nvPr/>
          </p:nvPicPr>
          <p:blipFill>
            <a:blip r:embed="rId3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OPRÁVNENÍ ŽIADATELI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len právnické osob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ídlo alebo pobočka v oprávnenom území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ÚC, mestá a obce, združenia, štátne orgány a nimi založené organiz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súkromné spoločnosti s verejnou účasť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európske zoskupenia územnej spoluprá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mimovládne organizácie a in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iac info - Príručka pre žiadateľov, príloha 1A a 1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4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ARTNERSTV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oprávnení partneri z oboch strán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ovinný minimálne 1 oprávnený partner z druhej strany štátnej hran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vyrovnané partnerstvo – rovnomerné delenie úloh, zodpovedností a aktiví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princíp vedúceho partnera (PV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0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KATEGÓRIE PARTNEROV</a:t>
            </a:r>
            <a:r>
              <a:rPr b="0" lang="sk-SK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500" spc="-1" strike="noStrike">
                <a:solidFill>
                  <a:srgbClr val="000000"/>
                </a:solidFill>
                <a:latin typeface="Arial"/>
              </a:rPr>
              <a:t>podľa povinností, úloh a zodpovedností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Vedúci partner - V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Projektoví partneri - 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domáci partner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cezhraniční partne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800" spc="-1" strike="noStrike">
                <a:solidFill>
                  <a:srgbClr val="000000"/>
                </a:solidFill>
                <a:latin typeface="Arial"/>
              </a:rPr>
              <a:t>hlavný cezhraničný partner – len na 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600" spc="-1" strike="noStrike">
                <a:solidFill>
                  <a:srgbClr val="000000"/>
                </a:solidFill>
                <a:latin typeface="Arial"/>
              </a:rPr>
              <a:t>Pridružení partneri - PD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d406"/>
            </a:gs>
            <a:gs pos="100000">
              <a:srgbClr val="52620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3600" spc="-1" strike="noStrike">
                <a:solidFill>
                  <a:srgbClr val="000000"/>
                </a:solidFill>
                <a:latin typeface="Arial"/>
              </a:rPr>
              <a:t>PRINCÍP VEDÚCEHO PARTNE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686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Žiadosť o FP, PP za všetkých partner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odpisuje Zmluvu o pridelení FP z ER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distribuuje finančný príspevok z ERDF medzi partnermi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z HU aj 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komunikuje s orgánmi Programu – SMV, RO, CO,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AA, NO,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nesie zodpovednosť za celkovú koordináciu a realizáciu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projektu aj za aktivity vykonávané jednotlivými partner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predkladá súhrnné žiadosti o platbu a monitorovacie </a:t>
            </a:r>
            <a:br>
              <a:rPr sz="2400"/>
            </a:br>
            <a:r>
              <a:rPr b="0" lang="sk-SK" sz="2400" spc="-1" strike="noStrike">
                <a:solidFill>
                  <a:srgbClr val="000000"/>
                </a:solidFill>
                <a:latin typeface="Arial"/>
              </a:rPr>
              <a:t>  správy za celé partnerstvo 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8" name="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katarinamihalova</cp:lastModifiedBy>
  <dcterms:modified xsi:type="dcterms:W3CDTF">2013-04-16T15:01:43Z</dcterms:modified>
  <cp:revision>135</cp:revision>
  <dc:subject/>
  <dc:title>1. dia</dc:title>
</cp:coreProperties>
</file>