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3638A-492C-4987-B39D-66F437E24883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01640" y="4416120"/>
            <a:ext cx="56088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u-H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Dia számának helye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5D500-C846-40F4-BE19-6B4D6DF49979}" type="slidenum">
              <a:rPr b="0" lang="hu-H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96917-B829-4BE6-8F54-01D664E2E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94642-EF01-4413-B06C-807A44454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572A-F0CC-4C6E-A5AC-9ED15F07F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ECAA-517E-493E-80D1-AA1076E31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D80-857C-4E52-8D7D-70DECE907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8ACA3-E17D-4935-B5D5-AB990B4E4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D54CA-5088-41A2-A5F6-43511DD3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7B32-751C-45FE-9E86-29396E66E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5415-4A1A-47B8-8F63-12AD91040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930E-6CF5-41A1-A4F4-83F284F7C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EB68-B58C-4A7E-8125-23FE7AD62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239-9F52-40D0-9F28-F775CBFEA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2D4F6-FBB7-4901-BC02-9EB7A477615A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hyperlink" Target="http://www.husk-cbc.eu/" TargetMode="External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5545080" y="5013000"/>
            <a:ext cx="363528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Infode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ň</a:t>
            </a: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 – Banská Bystr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Arial"/>
              </a:rPr>
              <a:t>18. 04.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071800" y="50004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Arial"/>
              </a:rPr>
              <a:t>Program cezhraničnej spolupráce Maďarsko-Slovensk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Group 14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1" name="Rectangle 15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" name="Picture 16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17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Cím 1"/>
          <p:cNvSpPr/>
          <p:nvPr/>
        </p:nvSpPr>
        <p:spPr>
          <a:xfrm>
            <a:off x="714240" y="24591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IMIS 2007-2013</a:t>
            </a:r>
            <a:br>
              <a:rPr sz="3600"/>
            </a:b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1" lang="pl-PL" sz="3600" spc="-1" strike="noStrike">
                <a:solidFill>
                  <a:srgbClr val="000000"/>
                </a:solidFill>
                <a:latin typeface="Arial"/>
              </a:rPr>
              <a:t>ystém na predkladanie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hu-HU" sz="3600" spc="-1" strike="noStrike">
                <a:solidFill>
                  <a:srgbClr val="000000"/>
                </a:solidFill>
                <a:latin typeface="Arial"/>
              </a:rPr>
              <a:t>žiadost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3" name="Szövegdoboz 6"/>
          <p:cNvSpPr/>
          <p:nvPr/>
        </p:nvSpPr>
        <p:spPr>
          <a:xfrm>
            <a:off x="71280" y="324000"/>
            <a:ext cx="528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zövegdoboz 7"/>
          <p:cNvSpPr/>
          <p:nvPr/>
        </p:nvSpPr>
        <p:spPr>
          <a:xfrm>
            <a:off x="5429160" y="1357200"/>
            <a:ext cx="3571920" cy="37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IE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hlad do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dať nov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sk-SK" sz="1400" spc="-1" strike="noStrike">
                <a:solidFill>
                  <a:srgbClr val="000000"/>
                </a:solidFill>
                <a:latin typeface="Arial"/>
              </a:rPr>
              <a:t>TYPE SE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Vybrať typ partnera (Vedúci partner, Záhraničný partner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ODIF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mena údajov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7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162400" cy="21430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8" descr=""/>
          <p:cNvPicPr/>
          <p:nvPr/>
        </p:nvPicPr>
        <p:blipFill>
          <a:blip r:embed="rId4"/>
          <a:stretch/>
        </p:blipFill>
        <p:spPr>
          <a:xfrm>
            <a:off x="998640" y="2571840"/>
            <a:ext cx="24303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7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18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0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1" name="Téglalap 6"/>
          <p:cNvSpPr/>
          <p:nvPr/>
        </p:nvSpPr>
        <p:spPr>
          <a:xfrm>
            <a:off x="214200" y="976320"/>
            <a:ext cx="8643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zvolení typu partnera sa objaví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ARTNERSHIP (PARTNERSTVO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toré má tri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Identifikácia (Identification) | Predstavitelia (Representatives) | Obchodné údaje (Business dat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zövegdoboz 7"/>
          <p:cNvSpPr/>
          <p:nvPr/>
        </p:nvSpPr>
        <p:spPr>
          <a:xfrm>
            <a:off x="142920" y="142920"/>
            <a:ext cx="7715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Identification - Identifik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zövegdoboz 7"/>
          <p:cNvSpPr/>
          <p:nvPr/>
        </p:nvSpPr>
        <p:spPr>
          <a:xfrm>
            <a:off x="6357960" y="1746360"/>
            <a:ext cx="25718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Typ, názov, adresa, dič, kontak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ARTNER DATA  IN PRO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Právna forma (verejný subjekt,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orgán štátnej správy</a:t>
            </a: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súkromný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k-SK" sz="1200" spc="-1" strike="noStrike">
                <a:solidFill>
                  <a:srgbClr val="000000"/>
                </a:solidFill>
                <a:latin typeface="Arial"/>
              </a:rPr>
              <a:t>BRANCH OFF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Adresa pobočky(čie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"/>
          <p:cNvPicPr/>
          <p:nvPr/>
        </p:nvPicPr>
        <p:blipFill>
          <a:blip r:embed="rId3"/>
          <a:stretch/>
        </p:blipFill>
        <p:spPr>
          <a:xfrm>
            <a:off x="142920" y="1571760"/>
            <a:ext cx="6072120" cy="436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2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Szövegdoboz 5"/>
          <p:cNvSpPr/>
          <p:nvPr/>
        </p:nvSpPr>
        <p:spPr>
          <a:xfrm>
            <a:off x="142920" y="181080"/>
            <a:ext cx="6929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PARTNERSHIP\ Representatives - Predstavitel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zövegdoboz 7"/>
          <p:cNvSpPr/>
          <p:nvPr/>
        </p:nvSpPr>
        <p:spPr>
          <a:xfrm>
            <a:off x="6572160" y="1103400"/>
            <a:ext cx="250056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NTACT PERSON Kontaktná os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EGAL REPRESENTATIVE Právný zástup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eno, pozícia, e-mail, kontak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FOUNDER ORGANISATION Zakladateľská organizác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á sa to vypĺňať v prípade, ak je partner priamo riaden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inou organizáciou, ako napríklad v prípade strednej školy, ktorá je riadená regiónom a po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63151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3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Szövegdoboz 7"/>
          <p:cNvSpPr/>
          <p:nvPr/>
        </p:nvSpPr>
        <p:spPr>
          <a:xfrm>
            <a:off x="71280" y="71280"/>
            <a:ext cx="600084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ARTNERSHIP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Business Data – Obchodné údaj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zövegdoboz 7"/>
          <p:cNvSpPr/>
          <p:nvPr/>
        </p:nvSpPr>
        <p:spPr>
          <a:xfrm>
            <a:off x="6000840" y="1071720"/>
            <a:ext cx="300024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acity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/Kapa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informácie o predchádzajúcich skúsenostiach partnera s riadením projekt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Názov projektu, rozpočet, typ účasti atď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ast closed budgetary year Posledný uzavretý rozpočtový r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ťe obrat, náklady, výsledo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ocations – Mie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u všetky miesta, kde sa váš projekt alebo niektoré jeho časti budú realizova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Bank accou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1400" spc="-1" strike="noStrike">
                <a:solidFill>
                  <a:srgbClr val="000000"/>
                </a:solidFill>
                <a:latin typeface="Arial"/>
              </a:rPr>
              <a:t>čty v bank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veďte tie účty v banke, ktoré sú pre realizáciu projektu relevantn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7" descr=""/>
          <p:cNvPicPr/>
          <p:nvPr/>
        </p:nvPicPr>
        <p:blipFill>
          <a:blip r:embed="rId3"/>
          <a:stretch/>
        </p:blipFill>
        <p:spPr>
          <a:xfrm>
            <a:off x="87480" y="1071720"/>
            <a:ext cx="5770440" cy="39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3" name="Szövegdoboz 6"/>
          <p:cNvSpPr/>
          <p:nvPr/>
        </p:nvSpPr>
        <p:spPr>
          <a:xfrm>
            <a:off x="71280" y="339840"/>
            <a:ext cx="742968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OOPERATION CRITER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Kritériá pre spoluprác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Szövegdoboz 7"/>
          <p:cNvSpPr/>
          <p:nvPr/>
        </p:nvSpPr>
        <p:spPr>
          <a:xfrm>
            <a:off x="5929200" y="1643040"/>
            <a:ext cx="300060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si jedno z kritérií kliknutím na neho, potom si vyberte prvok z rozbaľovacieho men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líčka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alue (Hodnota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 pravej strane, potom uveďte zdôvodnenie alebo vysvetl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ášho výberu v políč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proces opakujte pre každé kritériu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6" descr=""/>
          <p:cNvPicPr/>
          <p:nvPr/>
        </p:nvPicPr>
        <p:blipFill>
          <a:blip r:embed="rId3"/>
          <a:stretch/>
        </p:blipFill>
        <p:spPr>
          <a:xfrm>
            <a:off x="142920" y="1643040"/>
            <a:ext cx="564336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4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0" name="Szövegdoboz 6"/>
          <p:cNvSpPr/>
          <p:nvPr/>
        </p:nvSpPr>
        <p:spPr>
          <a:xfrm>
            <a:off x="71280" y="357120"/>
            <a:ext cx="707256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ROJECT DESCRI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Arial"/>
              </a:rPr>
              <a:t>Popis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Szövegdoboz 7"/>
          <p:cNvSpPr/>
          <p:nvPr/>
        </p:nvSpPr>
        <p:spPr>
          <a:xfrm>
            <a:off x="5643720" y="1357200"/>
            <a:ext cx="321444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ROJECT DESCRIPTIONS (POPIS PROJEKTU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usíte podrobne slovne popísať každ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ému uvedenú na ľavej stran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 vybraní si danej témy sa tento popis vkladá do políčok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scription (Popis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podľa jednotliv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Je povinné uviesť popis všetkých té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5371920" cy="2233800"/>
          </a:xfrm>
          <a:prstGeom prst="rect">
            <a:avLst/>
          </a:prstGeom>
          <a:ln w="0">
            <a:noFill/>
          </a:ln>
        </p:spPr>
      </p:pic>
      <p:pic>
        <p:nvPicPr>
          <p:cNvPr id="153" name="Szövegdoboz 9" descr=""/>
          <p:cNvPicPr/>
          <p:nvPr/>
        </p:nvPicPr>
        <p:blipFill>
          <a:blip r:embed="rId4"/>
          <a:stretch/>
        </p:blipFill>
        <p:spPr>
          <a:xfrm>
            <a:off x="133200" y="3992400"/>
            <a:ext cx="8877600" cy="18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5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8" name="Szövegdoboz 6"/>
          <p:cNvSpPr/>
          <p:nvPr/>
        </p:nvSpPr>
        <p:spPr>
          <a:xfrm>
            <a:off x="71280" y="142920"/>
            <a:ext cx="721548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OBJECTIVES AND ACTIVIT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300" spc="-1" strike="noStrike">
                <a:solidFill>
                  <a:srgbClr val="000000"/>
                </a:solidFill>
                <a:latin typeface="Arial"/>
              </a:rPr>
              <a:t>Ciele a ak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6" descr=""/>
          <p:cNvPicPr/>
          <p:nvPr/>
        </p:nvPicPr>
        <p:blipFill>
          <a:blip r:embed="rId3"/>
          <a:stretch/>
        </p:blipFill>
        <p:spPr>
          <a:xfrm>
            <a:off x="142920" y="1143000"/>
            <a:ext cx="5214960" cy="117144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7" descr=""/>
          <p:cNvPicPr/>
          <p:nvPr/>
        </p:nvPicPr>
        <p:blipFill>
          <a:blip r:embed="rId4"/>
          <a:stretch/>
        </p:blipFill>
        <p:spPr>
          <a:xfrm>
            <a:off x="142920" y="2428920"/>
            <a:ext cx="5241960" cy="3071880"/>
          </a:xfrm>
          <a:prstGeom prst="rect">
            <a:avLst/>
          </a:prstGeom>
          <a:ln w="0">
            <a:noFill/>
          </a:ln>
        </p:spPr>
      </p:pic>
      <p:sp>
        <p:nvSpPr>
          <p:cNvPr id="161" name="Szövegdoboz 9"/>
          <p:cNvSpPr/>
          <p:nvPr/>
        </p:nvSpPr>
        <p:spPr>
          <a:xfrm>
            <a:off x="5500800" y="1071720"/>
            <a:ext cx="32144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lánovaný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ojektových aktivít. Ohladne jednotlivých aktivít je potrebné zadať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odpoved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statní zapojení partne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p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Rizik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íslušné obdob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Odhadované náklady na aktivi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6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6" name="Szövegdoboz 8"/>
          <p:cNvSpPr/>
          <p:nvPr/>
        </p:nvSpPr>
        <p:spPr>
          <a:xfrm>
            <a:off x="142920" y="142920"/>
            <a:ext cx="5286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Szövegdoboz 9"/>
          <p:cNvSpPr/>
          <p:nvPr/>
        </p:nvSpPr>
        <p:spPr>
          <a:xfrm>
            <a:off x="6286680" y="785880"/>
            <a:ext cx="2714400" cy="52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Rozpoč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Horná časť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olná časť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rozpočet na úrovni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ozpočet na úrovni partne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lavo: tabulka partne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pravo: 3 rozpočtové tabul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3 rozpočtové tabuľk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droj spolufinancovania vybra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drobná rozpočtová tabuľka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celkové náklady predpokladané za určité obdobia (pre vybraného partner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6075360" cy="3143160"/>
          </a:xfrm>
          <a:prstGeom prst="rect">
            <a:avLst/>
          </a:prstGeom>
          <a:ln w="0">
            <a:noFill/>
          </a:ln>
        </p:spPr>
      </p:pic>
      <p:sp>
        <p:nvSpPr>
          <p:cNvPr id="169" name="Téglalap 13"/>
          <p:cNvSpPr/>
          <p:nvPr/>
        </p:nvSpPr>
        <p:spPr>
          <a:xfrm>
            <a:off x="214200" y="4187880"/>
            <a:ext cx="60008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partnera vľa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ert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Detailed partner budget table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odrobnú rozpočtovú tabuľku partnera) - Tu môžete zaznamenať plánované výdaje do rozpočtových položi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rozpočtovú položku - napr.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estovné a ubytovacie náklad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a následne kliknite na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71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2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3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4" name="Szövegdoboz 6"/>
          <p:cNvSpPr/>
          <p:nvPr/>
        </p:nvSpPr>
        <p:spPr>
          <a:xfrm>
            <a:off x="142920" y="214200"/>
            <a:ext cx="671508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Travel and…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Cestovné a ubytovac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9" descr=""/>
          <p:cNvPicPr/>
          <p:nvPr/>
        </p:nvPicPr>
        <p:blipFill>
          <a:blip r:embed="rId3"/>
          <a:stretch/>
        </p:blipFill>
        <p:spPr>
          <a:xfrm>
            <a:off x="142920" y="1432080"/>
            <a:ext cx="6000840" cy="29685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0" descr=""/>
          <p:cNvPicPr/>
          <p:nvPr/>
        </p:nvPicPr>
        <p:blipFill>
          <a:blip r:embed="rId4"/>
          <a:stretch/>
        </p:blipFill>
        <p:spPr>
          <a:xfrm>
            <a:off x="1071720" y="2932200"/>
            <a:ext cx="3071520" cy="2068560"/>
          </a:xfrm>
          <a:prstGeom prst="rect">
            <a:avLst/>
          </a:prstGeom>
          <a:ln w="0">
            <a:noFill/>
          </a:ln>
        </p:spPr>
      </p:pic>
      <p:sp>
        <p:nvSpPr>
          <p:cNvPr id="177" name="Téglalap 11"/>
          <p:cNvSpPr/>
          <p:nvPr/>
        </p:nvSpPr>
        <p:spPr>
          <a:xfrm>
            <a:off x="6215040" y="1357200"/>
            <a:ext cx="27147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tvorí sa nové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s podrobnejšími rozpočtovými položkami  (Cestovné, diéty, ubytovac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églalap 12"/>
          <p:cNvSpPr/>
          <p:nvPr/>
        </p:nvSpPr>
        <p:spPr>
          <a:xfrm>
            <a:off x="6286680" y="2357280"/>
            <a:ext cx="2714400" cy="28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Kliknite na podrobnejšiu rozpočtovú položku a opäť stlačte tlačidl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… (Upraviť...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Objaví sa ďalšie okno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OST (NÁKLAD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, kde je nutné uviesť plánovanú sumu výdavkov a doplniť PODROBNÝ popis príslušného výdavku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(Descriptio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Uzavrite okno tlačidlom O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3" name="Szövegdoboz 6"/>
          <p:cNvSpPr/>
          <p:nvPr/>
        </p:nvSpPr>
        <p:spPr>
          <a:xfrm>
            <a:off x="71280" y="208080"/>
            <a:ext cx="6786720" cy="126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BUDGET\Source of co..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Arial"/>
              </a:rPr>
              <a:t>Odhad celkových výdavkov za dané obdob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zövegdoboz 10"/>
          <p:cNvSpPr/>
          <p:nvPr/>
        </p:nvSpPr>
        <p:spPr>
          <a:xfrm>
            <a:off x="6286680" y="1025640"/>
            <a:ext cx="2714400" cy="45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ento odhad je požadovaný z dôvodu plánovania časového harmonogramu plati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 rozpočtu program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dané sumy sú indikatívne, ale v prípade závažnej odchýlky od plánovaného harmonogramu čerpania výdavkov by mohlo  dôjsť k zníženiu výšky príspevku z ERDF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i vyplňovaní tohto odhadu buďte realistickí. Tento program má dvojúrovňový proces  refundácie, pričom môže trvať až 4-5 mesiacov od predloženia zaplatených faktúr kontrolným úradom do vyplatenia príspevk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6" descr=""/>
          <p:cNvPicPr/>
          <p:nvPr/>
        </p:nvPicPr>
        <p:blipFill>
          <a:blip r:embed="rId3"/>
          <a:stretch/>
        </p:blipFill>
        <p:spPr>
          <a:xfrm>
            <a:off x="108000" y="1071720"/>
            <a:ext cx="6107040" cy="360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56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9" name="Szövegdoboz 6"/>
          <p:cNvSpPr/>
          <p:nvPr/>
        </p:nvSpPr>
        <p:spPr>
          <a:xfrm>
            <a:off x="285840" y="357120"/>
            <a:ext cx="8358120" cy="517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800" spc="-1" strike="noStrike">
                <a:solidFill>
                  <a:srgbClr val="000000"/>
                </a:solidFill>
                <a:latin typeface="Arial"/>
              </a:rPr>
              <a:t>Základné informá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užívateľský manuál pre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IMIS 2007-2013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ájdete na našej webovej stránke medzi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dokumenty na stiahnutie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 slovenskom jazyk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systému je anglický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jazyk všetkého materiálu (výzva, príručky, manuáli atď.) je slovenská a maďarská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jazyk podania žiadosti je slovenský a maďarský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žiadosti v tretej výzve sa podávajú cez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IMIS Aplikačný modu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a papieri treba poslať iba tie dokumenty ktoré musia byť podpísaný vedúcím partnerom (napr. Deklarácia vedúceho partnera, Prehlásenie o partnerstve, opatrenia na zabezpečenie princípu udržateľného rozvoja a pod.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žiadosť nemusí byť vytlačená a taktiež kópie príloh alebo podporných dokumentov, ktoré existujú v elektronickej forme sa môžu natiahnuť do tohto IMIS systému cez upload funkci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70000" indent="-2700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ístup k IMIS systému - </a:t>
            </a:r>
            <a:r>
              <a:rPr b="0" lang="sk-SK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husk-cbc.e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87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9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0" name="Szövegdoboz 7"/>
          <p:cNvSpPr/>
          <p:nvPr/>
        </p:nvSpPr>
        <p:spPr>
          <a:xfrm>
            <a:off x="142920" y="285840"/>
            <a:ext cx="5857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INDICATO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zövegdoboz 10"/>
          <p:cNvSpPr/>
          <p:nvPr/>
        </p:nvSpPr>
        <p:spPr>
          <a:xfrm>
            <a:off x="6286680" y="928800"/>
            <a:ext cx="2714400" cy="289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Indikátori sú na meranie efektivitu projek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va typy indikátorov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efinované program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aše indikátory špecifické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Kliknutím na tlačidlo Modify (Upraviť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000000"/>
                </a:solidFill>
                <a:latin typeface="Arial"/>
              </a:rPr>
              <a:t>môžete nastaviť ich východziu hodnotu, môžete nastaviť ich cieľovú hodnotu, a môžete vybrať obdobie, za ktoré budú sledované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6072120" cy="37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3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94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5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6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7" name="Szövegdoboz 6"/>
          <p:cNvSpPr/>
          <p:nvPr/>
        </p:nvSpPr>
        <p:spPr>
          <a:xfrm>
            <a:off x="142920" y="142920"/>
            <a:ext cx="664380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MEANS OF COMMUN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Komunikačné prostriedk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6" descr=""/>
          <p:cNvPicPr/>
          <p:nvPr/>
        </p:nvPicPr>
        <p:blipFill>
          <a:blip r:embed="rId3"/>
          <a:stretch/>
        </p:blipFill>
        <p:spPr>
          <a:xfrm>
            <a:off x="142920" y="1357200"/>
            <a:ext cx="3197160" cy="321480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"/>
          <p:cNvPicPr/>
          <p:nvPr/>
        </p:nvPicPr>
        <p:blipFill>
          <a:blip r:embed="rId4"/>
          <a:stretch/>
        </p:blipFill>
        <p:spPr>
          <a:xfrm>
            <a:off x="3357720" y="3357720"/>
            <a:ext cx="5643360" cy="2533320"/>
          </a:xfrm>
          <a:prstGeom prst="rect">
            <a:avLst/>
          </a:prstGeom>
          <a:ln w="0">
            <a:noFill/>
          </a:ln>
        </p:spPr>
      </p:pic>
      <p:sp>
        <p:nvSpPr>
          <p:cNvPr id="200" name="Téglalap 10"/>
          <p:cNvSpPr/>
          <p:nvPr/>
        </p:nvSpPr>
        <p:spPr>
          <a:xfrm>
            <a:off x="4357800" y="1254240"/>
            <a:ext cx="457200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EANS OF COMMUNICATION TOOLS (Komunikačné prostriedky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áte dve úloh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brať z preddefinovaného zoznamu tie komunikačné prostriedky, ktoré plánujete v priebehu realizácie projektu použiť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opísať akékoľvek iné komunikačné prostriedky, ktoré plánujete použiť v políčku Other tools (Iné nástroj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2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05" name="Szövegdoboz 6"/>
          <p:cNvSpPr/>
          <p:nvPr/>
        </p:nvSpPr>
        <p:spPr>
          <a:xfrm>
            <a:off x="142920" y="214200"/>
            <a:ext cx="61437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PERMITS - Povoleni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6" descr=""/>
          <p:cNvPicPr/>
          <p:nvPr/>
        </p:nvPicPr>
        <p:blipFill>
          <a:blip r:embed="rId3"/>
          <a:stretch/>
        </p:blipFill>
        <p:spPr>
          <a:xfrm>
            <a:off x="214200" y="1714680"/>
            <a:ext cx="5965920" cy="2143080"/>
          </a:xfrm>
          <a:prstGeom prst="rect">
            <a:avLst/>
          </a:prstGeom>
          <a:ln w="0">
            <a:noFill/>
          </a:ln>
        </p:spPr>
      </p:pic>
      <p:sp>
        <p:nvSpPr>
          <p:cNvPr id="207" name="Szövegdoboz 9"/>
          <p:cNvSpPr/>
          <p:nvPr/>
        </p:nvSpPr>
        <p:spPr>
          <a:xfrm>
            <a:off x="6215040" y="1687680"/>
            <a:ext cx="27147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PERMITS (POVOLENIA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ytvorte zoznam povolení, ktoré potrebujete na úspešnú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realizáciu projektu (ak je to relevantné pre váš projekt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2" name="Szövegdoboz 6"/>
          <p:cNvSpPr/>
          <p:nvPr/>
        </p:nvSpPr>
        <p:spPr>
          <a:xfrm>
            <a:off x="214200" y="285840"/>
            <a:ext cx="82868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CHECKLIST- Kontrolný zozna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zövegdoboz 7"/>
          <p:cNvSpPr/>
          <p:nvPr/>
        </p:nvSpPr>
        <p:spPr>
          <a:xfrm>
            <a:off x="4500720" y="1000080"/>
            <a:ext cx="42145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CHECK LIST (KONTROLNÝ ZOZNAM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kontrolný zoznam vo formáte tabuľk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ktorej sú otázky vyplnené automaticky a musíte zadať odpovede typu Yes/No (Áno/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zaškrtnutím políčk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7" descr=""/>
          <p:cNvPicPr/>
          <p:nvPr/>
        </p:nvPicPr>
        <p:blipFill>
          <a:blip r:embed="rId3"/>
          <a:stretch/>
        </p:blipFill>
        <p:spPr>
          <a:xfrm>
            <a:off x="214200" y="1000080"/>
            <a:ext cx="407196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1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9" name="Szövegdoboz 6"/>
          <p:cNvSpPr/>
          <p:nvPr/>
        </p:nvSpPr>
        <p:spPr>
          <a:xfrm>
            <a:off x="142920" y="214200"/>
            <a:ext cx="6143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SHEETS TO FILL IN\ANNEXES –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zövegdoboz 10"/>
          <p:cNvSpPr/>
          <p:nvPr/>
        </p:nvSpPr>
        <p:spPr>
          <a:xfrm>
            <a:off x="6215040" y="857160"/>
            <a:ext cx="278604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 okne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NNEXES (PRÍLOHY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ájdete zoznam tých príloh, ktoré musia byť odovzdané spolu so žiadosťo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Vidíte názov prílohy, a zároveň je možné vidieť, či je dan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Príloha povinná alebo nie, resp. akým spôsobom ju máte poslať (viac info v Príručke pre žiadateľa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6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6008760" cy="43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2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26" name="Szövegdoboz 6"/>
          <p:cNvSpPr/>
          <p:nvPr/>
        </p:nvSpPr>
        <p:spPr>
          <a:xfrm>
            <a:off x="142920" y="428760"/>
            <a:ext cx="5000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300" spc="-1" strike="noStrike">
                <a:solidFill>
                  <a:srgbClr val="000000"/>
                </a:solidFill>
                <a:latin typeface="Arial"/>
              </a:rPr>
              <a:t>ATTACHMENTS – Záložka príloh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zövegdoboz 7"/>
          <p:cNvSpPr/>
          <p:nvPr/>
        </p:nvSpPr>
        <p:spPr>
          <a:xfrm>
            <a:off x="5429160" y="1027080"/>
            <a:ext cx="357192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Upload (Nahra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môžete priložiť potrebné doklady k žiadosti. Funguje ak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nahrávanie príloh do e-mailu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Tlačidlom </a:t>
            </a: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Report (Vygenerovať)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môžete nechať systém vygenerovať 4 dokumen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lication 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ojektová žiadosť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claration on Partnership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Prehlásenie o partnerstv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LP Statement HU or LP Statement SK 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(Prehlásenie Vedúceho partnera) - podľa krajiny pôvodu hlavného partn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Dokumenty systém automaticky uloží a budú zapísané v tabuľke. Vytvorený dokument sa dá stiahnuť zo záložk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Attachments (Prílohy) kedykoľvek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Picture 6" descr=""/>
          <p:cNvPicPr/>
          <p:nvPr/>
        </p:nvPicPr>
        <p:blipFill>
          <a:blip r:embed="rId3"/>
          <a:stretch/>
        </p:blipFill>
        <p:spPr>
          <a:xfrm>
            <a:off x="142920" y="1071720"/>
            <a:ext cx="5143320" cy="43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9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0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3" name="Szövegdoboz 6"/>
          <p:cNvSpPr/>
          <p:nvPr/>
        </p:nvSpPr>
        <p:spPr>
          <a:xfrm>
            <a:off x="1500120" y="357120"/>
            <a:ext cx="614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000000"/>
                </a:solidFill>
                <a:latin typeface="Arial"/>
              </a:rPr>
              <a:t>POSTUP predloženia žiad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églalap 7"/>
          <p:cNvSpPr/>
          <p:nvPr/>
        </p:nvSpPr>
        <p:spPr>
          <a:xfrm>
            <a:off x="214200" y="1052640"/>
            <a:ext cx="8715600" cy="36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Registrácia a prihlásenie sa do systém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loženie požadovaných údaj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Kontorla žiadosti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+ Dopĺňanie údajov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Spustenie finálnej kontroly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výsledok Úspešná kontrol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Nahranie dokumentov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(Upload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K žiadosti môžete priložiť akékoľvek potrebné príloh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Vygenerovanie konečného dokumentu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žiadosti a príloh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Repor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redloženie žiadosti na JTS elektronicky (</a:t>
            </a:r>
            <a:r>
              <a:rPr b="1" lang="sk-SK" sz="1600" spc="-1" strike="noStrike">
                <a:solidFill>
                  <a:srgbClr val="000000"/>
                </a:solidFill>
                <a:latin typeface="Arial"/>
              </a:rPr>
              <a:t>Submit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Kontrola žiadosti (Check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skontrolovať chýbajúce 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* </a:t>
            </a:r>
            <a:r>
              <a:rPr b="0" lang="sk-SK" sz="1600" spc="-1" strike="noStrike" u="sng">
                <a:solidFill>
                  <a:srgbClr val="000000"/>
                </a:solidFill>
                <a:uFillTx/>
                <a:latin typeface="Arial"/>
              </a:rPr>
              <a:t>Vygenerovanie dokumentov (Report)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– môžete kedykoľvek vygenerovať a prezrieť si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jektov</a:t>
            </a:r>
            <a:r>
              <a:rPr b="0" lang="sk-SK" sz="1600" spc="-1" strike="noStrike">
                <a:solidFill>
                  <a:srgbClr val="000000"/>
                </a:solidFill>
                <a:latin typeface="Arial"/>
              </a:rPr>
              <a:t>ú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11280" y="1714680"/>
            <a:ext cx="7772400" cy="286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Arial"/>
              </a:rPr>
              <a:t>Ďakujem za pozornosť!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Group 10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237" name="Rectangle 11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12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9" name="Picture 13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6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1" name="Rectangle 7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" name="Picture 8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9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4" name="Rectangle 10"/>
          <p:cNvSpPr/>
          <p:nvPr/>
        </p:nvSpPr>
        <p:spPr>
          <a:xfrm>
            <a:off x="611280" y="405360"/>
            <a:ext cx="7445160" cy="515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41160" rIns="90000" tIns="228600" bIns="76320" anchor="ctr">
            <a:spAutoFit/>
          </a:bodyPr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Min. technické požiadavky na PC pre IM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Pripojenie k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interne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peračný systém: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Windows XP/Vista/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Ostatné IT nástroj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Microsoft Office /Open Off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Najnovšia verzia 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(Môžete si ju stiahnuť tu: </a:t>
            </a:r>
            <a:r>
              <a:rPr b="0" lang="sk-SK" sz="1800" spc="-1" strike="noStrike" u="sng">
                <a:solidFill>
                  <a:srgbClr val="000000"/>
                </a:solidFill>
                <a:uFillTx/>
                <a:latin typeface="Arial"/>
              </a:rPr>
              <a:t>http://www.java.com/en/download/index.jsp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Adobe Reader/Pdf read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Internetový prehliadač:</a:t>
            </a:r>
            <a:r>
              <a:rPr b="1" lang="sk-SK" sz="1800" spc="-1" strike="noStrike">
                <a:solidFill>
                  <a:srgbClr val="000000"/>
                </a:solidFill>
                <a:latin typeface="Arial"/>
              </a:rPr>
              <a:t> napr. Internet Explorer 6.0 alebo novšia verzia/ Mozilla Firefox 3.0 alebo novšia verzia</a:t>
            </a:r>
            <a:r>
              <a:rPr b="0" lang="sk-SK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66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7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8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9" name="Szövegdoboz 8"/>
          <p:cNvSpPr/>
          <p:nvPr/>
        </p:nvSpPr>
        <p:spPr>
          <a:xfrm>
            <a:off x="214200" y="14292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Prihlásenie sa do systé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8" descr=""/>
          <p:cNvPicPr/>
          <p:nvPr/>
        </p:nvPicPr>
        <p:blipFill>
          <a:blip r:embed="rId3"/>
          <a:stretch/>
        </p:blipFill>
        <p:spPr>
          <a:xfrm>
            <a:off x="214200" y="714240"/>
            <a:ext cx="4608720" cy="1714680"/>
          </a:xfrm>
          <a:prstGeom prst="rect">
            <a:avLst/>
          </a:prstGeom>
          <a:ln w="0">
            <a:noFill/>
          </a:ln>
        </p:spPr>
      </p:pic>
      <p:sp>
        <p:nvSpPr>
          <p:cNvPr id="71" name="Szövegdoboz 10"/>
          <p:cNvSpPr/>
          <p:nvPr/>
        </p:nvSpPr>
        <p:spPr>
          <a:xfrm>
            <a:off x="214200" y="2610000"/>
            <a:ext cx="771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Registrá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"/>
          <p:cNvPicPr/>
          <p:nvPr/>
        </p:nvPicPr>
        <p:blipFill>
          <a:blip r:embed="rId4"/>
          <a:srcRect l="31169" t="41029" r="31278" b="40959"/>
          <a:stretch/>
        </p:blipFill>
        <p:spPr>
          <a:xfrm>
            <a:off x="214200" y="3214800"/>
            <a:ext cx="4572000" cy="1755720"/>
          </a:xfrm>
          <a:prstGeom prst="rect">
            <a:avLst/>
          </a:prstGeom>
          <a:ln w="0">
            <a:noFill/>
          </a:ln>
        </p:spPr>
      </p:pic>
      <p:sp>
        <p:nvSpPr>
          <p:cNvPr id="73" name="Szövegdoboz 7"/>
          <p:cNvSpPr/>
          <p:nvPr/>
        </p:nvSpPr>
        <p:spPr>
          <a:xfrm>
            <a:off x="4929120" y="722160"/>
            <a:ext cx="392904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User name: 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 byť čokoľvek (napr. názov organizáci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Systém po 5-10 min. vám pošle heslo ktoré je platné jednu hodin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Po prvom prihlásení musíťe zmeňiť hes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Nové heslo musí mať minimálne 8 znakov a malo by obsahovať malé, veľké písmená, a číslic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75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6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8" name="Szövegdoboz 7"/>
          <p:cNvSpPr/>
          <p:nvPr/>
        </p:nvSpPr>
        <p:spPr>
          <a:xfrm>
            <a:off x="142920" y="214200"/>
            <a:ext cx="535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Ú</a:t>
            </a:r>
            <a:r>
              <a:rPr b="1" lang="sk-SK" sz="2400" spc="-1" strike="noStrike">
                <a:solidFill>
                  <a:srgbClr val="000000"/>
                </a:solidFill>
                <a:latin typeface="Arial"/>
              </a:rPr>
              <a:t>vodná strán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zövegdoboz 8"/>
          <p:cNvSpPr/>
          <p:nvPr/>
        </p:nvSpPr>
        <p:spPr>
          <a:xfrm>
            <a:off x="5715000" y="247680"/>
            <a:ext cx="3214800" cy="55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reate New Application - Vytvoriť novú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Vždy si skontrolujte v menu v položke View Applications (Náhľad žiadosti), či ste už nezačali žiadosť pripravovať, resp. či už vaša žiadosť nie je medzi vytvorenými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Continue Application - Pokračovať v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ôžete pokračovať v proc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vkladania údajov do vašej žiados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môžete kedykoľvek prerušiť proces vkladania údajov – zaznamenané údaje sú uložené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Amend Application – Upraviť žiados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možné upravovať tie žiadosti, ktoré sú </a:t>
            </a:r>
            <a:r>
              <a:rPr b="0" lang="pl-PL" sz="1600" spc="-1" strike="noStrike">
                <a:solidFill>
                  <a:srgbClr val="000000"/>
                </a:solidFill>
                <a:latin typeface="Arial"/>
              </a:rPr>
              <a:t>zaslané späť od STS na doplnenie alebo úprav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"/>
          <p:cNvPicPr/>
          <p:nvPr/>
        </p:nvPicPr>
        <p:blipFill>
          <a:blip r:embed="rId3"/>
          <a:stretch/>
        </p:blipFill>
        <p:spPr>
          <a:xfrm>
            <a:off x="142920" y="785880"/>
            <a:ext cx="5357880" cy="42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5" name="Szövegdoboz 6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zövegdoboz 7"/>
          <p:cNvSpPr/>
          <p:nvPr/>
        </p:nvSpPr>
        <p:spPr>
          <a:xfrm>
            <a:off x="5429160" y="785880"/>
            <a:ext cx="3571920" cy="38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Hlavičk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edvolenom nastavení je hlavička prázdna, neaktív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plní sa automaticky podla vyplnených údaj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Tlačidlá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DELETE –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vymazanie celej žiadosť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CHECK – kontroluje sa obsah žiad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EXT /SUBMIT – pokračovať v procese podávania žiados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EXIT – opustíte obrazovku (ale všetky zaznamenané údaje sú uložené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"/>
          <p:cNvPicPr/>
          <p:nvPr/>
        </p:nvPicPr>
        <p:blipFill>
          <a:blip r:embed="rId3"/>
          <a:stretch/>
        </p:blipFill>
        <p:spPr>
          <a:xfrm>
            <a:off x="142920" y="857160"/>
            <a:ext cx="5214960" cy="43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3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89" name="Rectangle 4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0" name="Picture 5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6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Szövegdoboz 7"/>
          <p:cNvSpPr/>
          <p:nvPr/>
        </p:nvSpPr>
        <p:spPr>
          <a:xfrm>
            <a:off x="5429160" y="928800"/>
            <a:ext cx="3571920" cy="356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Záložk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OVERVIEW  (Prehlad)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zobrazuje najdôležitejšie ekonomické údaje žiadosti 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zrozumiteľnej štruktúre. Všetky políčka sú neaktívne, zadávanie údajov tu nie je povolené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SHEETS TO FILL IN (Listy na vypĺňani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môžete podrobne popísať svoj plánovaný project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ATTACHMETS (Prílohy) –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môžete vytvoriť a nahrať vaše dokumen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7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5214960" cy="4367160"/>
          </a:xfrm>
          <a:prstGeom prst="rect">
            <a:avLst/>
          </a:prstGeom>
          <a:ln w="0">
            <a:noFill/>
          </a:ln>
        </p:spPr>
      </p:pic>
      <p:sp>
        <p:nvSpPr>
          <p:cNvPr id="94" name="Szövegdoboz 10"/>
          <p:cNvSpPr/>
          <p:nvPr/>
        </p:nvSpPr>
        <p:spPr>
          <a:xfrm>
            <a:off x="142920" y="32400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Vypĺňanie údajov do žiados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96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7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9" name="Szövegdoboz 6"/>
          <p:cNvSpPr/>
          <p:nvPr/>
        </p:nvSpPr>
        <p:spPr>
          <a:xfrm>
            <a:off x="142920" y="28584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zövegdoboz 7"/>
          <p:cNvSpPr/>
          <p:nvPr/>
        </p:nvSpPr>
        <p:spPr>
          <a:xfrm>
            <a:off x="5214960" y="928800"/>
            <a:ext cx="357192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Riadky v tabuľke pokrývajú takzvané </a:t>
            </a: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pod-obrazovky</a:t>
            </a:r>
            <a:r>
              <a:rPr b="0" lang="hu-HU" sz="1600" spc="-1" strike="noStrike">
                <a:solidFill>
                  <a:srgbClr val="000000"/>
                </a:solidFill>
                <a:latin typeface="Arial"/>
              </a:rPr>
              <a:t> s odkazom na rôzne časti projek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VIEW (Náhľad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–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oskytuje možnosť prehliadať údaje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000000"/>
                </a:solidFill>
                <a:latin typeface="Arial"/>
              </a:rPr>
              <a:t>MODIFY  (Upraviť)</a:t>
            </a:r>
            <a:r>
              <a:rPr b="0" lang="hu-H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–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umožňuje editovať alebo upravovať  údaj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6" descr=""/>
          <p:cNvPicPr/>
          <p:nvPr/>
        </p:nvPicPr>
        <p:blipFill>
          <a:blip r:embed="rId3"/>
          <a:stretch/>
        </p:blipFill>
        <p:spPr>
          <a:xfrm>
            <a:off x="142920" y="928800"/>
            <a:ext cx="4786200" cy="43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f6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Group 2"/>
          <p:cNvGrpSpPr/>
          <p:nvPr/>
        </p:nvGrpSpPr>
        <p:grpSpPr>
          <a:xfrm>
            <a:off x="0" y="6021360"/>
            <a:ext cx="9144000" cy="836640"/>
            <a:chOff x="0" y="6021360"/>
            <a:chExt cx="9144000" cy="836640"/>
          </a:xfrm>
        </p:grpSpPr>
        <p:sp>
          <p:nvSpPr>
            <p:cNvPr id="103" name="Rectangle 3"/>
            <p:cNvSpPr/>
            <p:nvPr/>
          </p:nvSpPr>
          <p:spPr>
            <a:xfrm>
              <a:off x="0" y="6021360"/>
              <a:ext cx="9144000" cy="836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4" name="Picture 4" descr="husk_eu_logo_sk_gorbe"/>
            <p:cNvPicPr/>
            <p:nvPr/>
          </p:nvPicPr>
          <p:blipFill>
            <a:blip r:embed="rId1"/>
            <a:stretch/>
          </p:blipFill>
          <p:spPr>
            <a:xfrm>
              <a:off x="5867280" y="6237360"/>
              <a:ext cx="3167280" cy="517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5" descr="husk_logo_sk"/>
            <p:cNvPicPr/>
            <p:nvPr/>
          </p:nvPicPr>
          <p:blipFill>
            <a:blip r:embed="rId2"/>
            <a:stretch/>
          </p:blipFill>
          <p:spPr>
            <a:xfrm>
              <a:off x="179280" y="6167520"/>
              <a:ext cx="2880000" cy="69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6" name="Szövegdoboz 6"/>
          <p:cNvSpPr/>
          <p:nvPr/>
        </p:nvSpPr>
        <p:spPr>
          <a:xfrm>
            <a:off x="142920" y="395280"/>
            <a:ext cx="528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"/>
              </a:rPr>
              <a:t>SHEETS TO FILL IN\MAIN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zövegdoboz 7"/>
          <p:cNvSpPr/>
          <p:nvPr/>
        </p:nvSpPr>
        <p:spPr>
          <a:xfrm>
            <a:off x="5429160" y="1214280"/>
            <a:ext cx="3571920" cy="31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600" spc="-1" strike="noStrike">
                <a:solidFill>
                  <a:srgbClr val="000000"/>
                </a:solidFill>
                <a:latin typeface="Arial"/>
              </a:rPr>
              <a:t>Údaj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TIT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názov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ACRONYM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skráten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ý názov (</a:t>
            </a: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&lt;25 karakt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IORITY, AREA,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tu sa vyberie </a:t>
            </a:r>
            <a:r>
              <a:rPr b="0" i="1" lang="sk-SK" sz="1400" spc="-1" strike="noStrike">
                <a:solidFill>
                  <a:srgbClr val="000000"/>
                </a:solidFill>
                <a:latin typeface="Arial"/>
              </a:rPr>
              <a:t>priorita, oblasť a opatren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(preštudujte si Príručku pre Žiadateľ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ROJECT DU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400" spc="-1" strike="noStrike">
                <a:solidFill>
                  <a:srgbClr val="000000"/>
                </a:solidFill>
                <a:latin typeface="Arial"/>
              </a:rPr>
              <a:t>plánované trvanie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7" descr=""/>
          <p:cNvPicPr/>
          <p:nvPr/>
        </p:nvPicPr>
        <p:blipFill>
          <a:blip r:embed="rId3"/>
          <a:stretch/>
        </p:blipFill>
        <p:spPr>
          <a:xfrm>
            <a:off x="142920" y="1428840"/>
            <a:ext cx="5208480" cy="25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7T07:53:10Z</dcterms:created>
  <dc:creator>BakoAgnes</dc:creator>
  <dc:description/>
  <dc:language>en-US</dc:language>
  <cp:lastModifiedBy>TorokZsolt</cp:lastModifiedBy>
  <dcterms:modified xsi:type="dcterms:W3CDTF">2013-04-17T07:45:42Z</dcterms:modified>
  <cp:revision>120</cp:revision>
  <dc:subject/>
  <dc:title>1. dia</dc:title>
</cp:coreProperties>
</file>